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38.jpeg" ContentType="image/jpeg"/>
  <Override PartName="/ppt/media/image27.png" ContentType="image/png"/>
  <Override PartName="/ppt/media/image33.jpeg" ContentType="image/jpe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3.png" ContentType="image/png"/>
  <Override PartName="/ppt/media/image8.png" ContentType="image/png"/>
  <Override PartName="/ppt/media/image39.jpeg" ContentType="image/jpeg"/>
  <Override PartName="/ppt/media/image41.jpeg" ContentType="image/jpeg"/>
  <Override PartName="/ppt/media/image9.png" ContentType="image/png"/>
  <Override PartName="/ppt/media/image40.jpeg" ContentType="image/jpeg"/>
  <Override PartName="/ppt/media/image18.png" ContentType="image/png"/>
  <Override PartName="/ppt/media/image12.png" ContentType="image/png"/>
  <Override PartName="/ppt/media/image6.wmf" ContentType="image/x-wmf"/>
  <Override PartName="/ppt/media/image11.png" ContentType="image/png"/>
  <Override PartName="/ppt/media/image31.jpeg" ContentType="image/jpeg"/>
  <Override PartName="/ppt/media/image4.jpeg" ContentType="image/jpeg"/>
  <Override PartName="/ppt/media/image10.png" ContentType="image/png"/>
  <Override PartName="/ppt/media/image35.jpeg" ContentType="image/jpeg"/>
  <Override PartName="/ppt/media/image34.jpeg" ContentType="image/jpeg"/>
  <Override PartName="/ppt/media/image7.png" ContentType="image/png"/>
  <Override PartName="/ppt/media/image5.jpeg" ContentType="image/jpeg"/>
  <Override PartName="/ppt/media/image25.png" ContentType="image/png"/>
  <Override PartName="/ppt/media/image42.jpeg" ContentType="image/jpeg"/>
  <Override PartName="/ppt/media/image14.png" ContentType="image/png"/>
  <Override PartName="/ppt/media/image37.jpeg" ContentType="image/jpe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Click to move the slide</a:t>
            </a:r>
            <a:endParaRPr b="1" lang="en-US" sz="4400" spc="-1" strike="noStrike">
              <a:solidFill>
                <a:srgbClr val="f7cc17"/>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B480-CC9D-4477-BBEA-683AC69EB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9283-BB1C-456C-AB96-68DEBD318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picture demonstrates using a Sequencer and Pal Pad switch (from Adaptivation) to create a talking book. This idea is also credited to Adaptivation.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9B8F-54E0-4EE9-B0B7-8F399F991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lides show an example of a talking booking created in PowerPoi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F536-02C2-4842-99F0-966227C5E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picture demonstrates using a Sequencer and Pal Pad switch (from Adaptivation) to create a talking book. This idea is also credited to Adaptivation.co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7B7DD-7D2E-46F8-89D8-902CB746F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28" name="PlaceHolder 2"/>
          <p:cNvSpPr>
            <a:spLocks noGrp="1"/>
          </p:cNvSpPr>
          <p:nvPr>
            <p:ph/>
          </p:nvPr>
        </p:nvSpPr>
        <p:spPr>
          <a:xfrm>
            <a:off x="114300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114300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64098-8529-4217-B2E6-33776C22A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31" name="PlaceHolder 2"/>
          <p:cNvSpPr>
            <a:spLocks noGrp="1"/>
          </p:cNvSpPr>
          <p:nvPr>
            <p:ph/>
          </p:nvPr>
        </p:nvSpPr>
        <p:spPr>
          <a:xfrm>
            <a:off x="1143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51256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1143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512568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90C88-8436-4890-9048-61F713FF3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36" name="PlaceHolder 2"/>
          <p:cNvSpPr>
            <a:spLocks noGrp="1"/>
          </p:cNvSpPr>
          <p:nvPr>
            <p:ph/>
          </p:nvPr>
        </p:nvSpPr>
        <p:spPr>
          <a:xfrm>
            <a:off x="114300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77100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39864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114300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77100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39864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E637B-B933-4A13-9584-EB5708880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E45A9-1C51-4DC5-BEB2-4CAC71518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49" name="PlaceHolder 2"/>
          <p:cNvSpPr>
            <a:spLocks noGrp="1"/>
          </p:cNvSpPr>
          <p:nvPr>
            <p:ph type="subTitle"/>
          </p:nvPr>
        </p:nvSpPr>
        <p:spPr>
          <a:xfrm>
            <a:off x="114300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65DE8-67A6-4C7A-8AD2-24028B13B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51"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A2CB5-E225-4869-A5FA-A8D2A3EE9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53" name="PlaceHolder 2"/>
          <p:cNvSpPr>
            <a:spLocks noGrp="1"/>
          </p:cNvSpPr>
          <p:nvPr>
            <p:ph/>
          </p:nvPr>
        </p:nvSpPr>
        <p:spPr>
          <a:xfrm>
            <a:off x="1143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512568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5386A-A7BD-4AAE-AA4F-8E3271BDE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B49AA-FCD4-4A7B-B4C1-1CE2411E9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14600" y="380520"/>
            <a:ext cx="6400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A210E-80DA-480C-8AA3-995506A37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58" name="PlaceHolder 2"/>
          <p:cNvSpPr>
            <a:spLocks noGrp="1"/>
          </p:cNvSpPr>
          <p:nvPr>
            <p:ph/>
          </p:nvPr>
        </p:nvSpPr>
        <p:spPr>
          <a:xfrm>
            <a:off x="1143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512568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1143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E33BC-54AD-477C-B751-444EC0921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7" name="PlaceHolder 2"/>
          <p:cNvSpPr>
            <a:spLocks noGrp="1"/>
          </p:cNvSpPr>
          <p:nvPr>
            <p:ph type="subTitle"/>
          </p:nvPr>
        </p:nvSpPr>
        <p:spPr>
          <a:xfrm>
            <a:off x="114300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19F1A-1122-4DD0-A4C9-EAB48FA1F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62" name="PlaceHolder 2"/>
          <p:cNvSpPr>
            <a:spLocks noGrp="1"/>
          </p:cNvSpPr>
          <p:nvPr>
            <p:ph/>
          </p:nvPr>
        </p:nvSpPr>
        <p:spPr>
          <a:xfrm>
            <a:off x="1143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51256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512568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A5E70-F146-4BA3-81D9-3689F0120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66" name="PlaceHolder 2"/>
          <p:cNvSpPr>
            <a:spLocks noGrp="1"/>
          </p:cNvSpPr>
          <p:nvPr>
            <p:ph/>
          </p:nvPr>
        </p:nvSpPr>
        <p:spPr>
          <a:xfrm>
            <a:off x="1143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51256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114300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568BA-A0AC-4DA8-8BDB-3A97D427F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70" name="PlaceHolder 2"/>
          <p:cNvSpPr>
            <a:spLocks noGrp="1"/>
          </p:cNvSpPr>
          <p:nvPr>
            <p:ph/>
          </p:nvPr>
        </p:nvSpPr>
        <p:spPr>
          <a:xfrm>
            <a:off x="114300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114300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B8331-313F-4D42-8A62-279B993D9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73" name="PlaceHolder 2"/>
          <p:cNvSpPr>
            <a:spLocks noGrp="1"/>
          </p:cNvSpPr>
          <p:nvPr>
            <p:ph/>
          </p:nvPr>
        </p:nvSpPr>
        <p:spPr>
          <a:xfrm>
            <a:off x="1143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256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43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512568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D0AB7-CCE6-4BBF-A151-910B91C58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78" name="PlaceHolder 2"/>
          <p:cNvSpPr>
            <a:spLocks noGrp="1"/>
          </p:cNvSpPr>
          <p:nvPr>
            <p:ph/>
          </p:nvPr>
        </p:nvSpPr>
        <p:spPr>
          <a:xfrm>
            <a:off x="114300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77100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639864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114300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77100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639864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57B92-B0DD-418C-8558-9020C7A98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9"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96A16-FE2A-405D-8C1C-71C009E5C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11" name="PlaceHolder 2"/>
          <p:cNvSpPr>
            <a:spLocks noGrp="1"/>
          </p:cNvSpPr>
          <p:nvPr>
            <p:ph/>
          </p:nvPr>
        </p:nvSpPr>
        <p:spPr>
          <a:xfrm>
            <a:off x="1143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512568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2B9C2-F9FC-484A-9B0F-18317629E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6392B-1AFA-4903-AEB5-1D8B719B8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600" y="380520"/>
            <a:ext cx="6400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C0EA1-39EE-41EB-9F79-42CF61D82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16" name="PlaceHolder 2"/>
          <p:cNvSpPr>
            <a:spLocks noGrp="1"/>
          </p:cNvSpPr>
          <p:nvPr>
            <p:ph/>
          </p:nvPr>
        </p:nvSpPr>
        <p:spPr>
          <a:xfrm>
            <a:off x="1143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512568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1143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084C0-E550-4D20-ADBE-A0225C0A6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20" name="PlaceHolder 2"/>
          <p:cNvSpPr>
            <a:spLocks noGrp="1"/>
          </p:cNvSpPr>
          <p:nvPr>
            <p:ph/>
          </p:nvPr>
        </p:nvSpPr>
        <p:spPr>
          <a:xfrm>
            <a:off x="1143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51256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512568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D144-F94B-4087-AAF9-E632230AF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24" name="PlaceHolder 2"/>
          <p:cNvSpPr>
            <a:spLocks noGrp="1"/>
          </p:cNvSpPr>
          <p:nvPr>
            <p:ph/>
          </p:nvPr>
        </p:nvSpPr>
        <p:spPr>
          <a:xfrm>
            <a:off x="1143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51256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114300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7CDC-BA6F-44EC-9191-FB159E227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5920"/>
          </a:xfrm>
          <a:prstGeom prst="rect">
            <a:avLst/>
          </a:prstGeom>
          <a:ln w="0">
            <a:noFill/>
          </a:ln>
        </p:spPr>
      </p:pic>
      <p:sp>
        <p:nvSpPr>
          <p:cNvPr id="1"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Click to edit the title text format</a:t>
            </a:r>
            <a:endParaRPr b="1" lang="en-US" sz="4400" spc="-1" strike="noStrike">
              <a:solidFill>
                <a:srgbClr val="f7cc17"/>
              </a:solidFill>
              <a:latin typeface="Arial"/>
            </a:endParaRPr>
          </a:p>
        </p:txBody>
      </p:sp>
      <p:sp>
        <p:nvSpPr>
          <p:cNvPr id="2" name="PlaceHolder 2"/>
          <p:cNvSpPr>
            <a:spLocks noGrp="1"/>
          </p:cNvSpPr>
          <p:nvPr>
            <p:ph type="body"/>
          </p:nvPr>
        </p:nvSpPr>
        <p:spPr>
          <a:xfrm>
            <a:off x="114300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99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99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76CD-28A1-49B4-8042-33A4A77A1B3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65920"/>
          </a:xfrm>
          <a:prstGeom prst="rect">
            <a:avLst/>
          </a:prstGeom>
          <a:ln w="0">
            <a:noFill/>
          </a:ln>
        </p:spPr>
      </p:pic>
      <p:sp>
        <p:nvSpPr>
          <p:cNvPr id="4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Click to edit the title text format</a:t>
            </a:r>
            <a:endParaRPr b="1" lang="en-US" sz="4400" spc="-1" strike="noStrike">
              <a:solidFill>
                <a:srgbClr val="f7cc17"/>
              </a:solidFill>
              <a:latin typeface="Arial"/>
            </a:endParaRPr>
          </a:p>
        </p:txBody>
      </p:sp>
      <p:sp>
        <p:nvSpPr>
          <p:cNvPr id="44" name="PlaceHolder 2"/>
          <p:cNvSpPr>
            <a:spLocks noGrp="1"/>
          </p:cNvSpPr>
          <p:nvPr>
            <p:ph type="dt" idx="4"/>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97144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246C-5B4A-49BA-B345-6A6D041BCB78}" type="slidenum">
              <a:rPr b="0" lang="en-US" sz="1400" spc="-1" strike="noStrike">
                <a:solidFill>
                  <a:srgbClr val="ccecff"/>
                </a:solidFill>
                <a:latin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9900"/>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9900"/>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atto.buffalo.edu/registered/Tutorials/talkingBooks/powerpoint.php"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toryplace.org/" TargetMode="External"/><Relationship Id="rId2" Type="http://schemas.openxmlformats.org/officeDocument/2006/relationships/hyperlink" Target="http://www.mightybook.com/" TargetMode="External"/><Relationship Id="rId3" Type="http://schemas.openxmlformats.org/officeDocument/2006/relationships/hyperlink" Target="http://www.starfall.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http://www.cenmi.org/matr"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2.jpeg"/><Relationship Id="rId3" Type="http://schemas.openxmlformats.org/officeDocument/2006/relationships/image" Target="../media/image42.jpeg"/><Relationship Id="rId4"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Adapted Books</a:t>
            </a:r>
            <a:endParaRPr b="1" lang="en-US" sz="4400" spc="-1" strike="noStrike">
              <a:solidFill>
                <a:srgbClr val="f7cc17"/>
              </a:solidFill>
              <a:latin typeface="Arial"/>
            </a:endParaRPr>
          </a:p>
        </p:txBody>
      </p:sp>
      <p:sp>
        <p:nvSpPr>
          <p:cNvPr id="92" name="PlaceHolder 2"/>
          <p:cNvSpPr>
            <a:spLocks noGrp="1"/>
          </p:cNvSpPr>
          <p:nvPr>
            <p:ph type="subTitle"/>
          </p:nvPr>
        </p:nvSpPr>
        <p:spPr>
          <a:xfrm>
            <a:off x="457200" y="2971800"/>
            <a:ext cx="77724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sa Wern LATS/O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achua County Public School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n Page</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DLR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13" name=""/>
          <p:cNvSpPr/>
          <p:nvPr/>
        </p:nvSpPr>
        <p:spPr>
          <a:xfrm>
            <a:off x="457200" y="228600"/>
            <a:ext cx="7391520" cy="33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Comic Sans MS"/>
              </a:rPr>
              <a:t>Adaptations and Modifications</a:t>
            </a:r>
            <a:endParaRPr b="0" lang="en-US" sz="3600" spc="-1" strike="noStrike">
              <a:solidFill>
                <a:srgbClr val="ffffff"/>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to books</a:t>
            </a:r>
            <a:r>
              <a:rPr b="0" lang="en-US" sz="2800" spc="-1" strike="noStrike">
                <a:solidFill>
                  <a:srgbClr val="ff0000"/>
                </a:solidFill>
                <a:latin typeface="Comic Sans MS"/>
              </a:rPr>
              <a:t> </a:t>
            </a:r>
            <a:endParaRPr b="0" lang="en-US" sz="2800" spc="-1" strike="noStrike">
              <a:solidFill>
                <a:srgbClr val="ffffff"/>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Create your own stories using “talking photo</a:t>
            </a:r>
            <a:br>
              <a:rPr sz="2400"/>
            </a:br>
            <a:r>
              <a:rPr b="0" lang="en-US" sz="2400" spc="-1" strike="noStrike">
                <a:solidFill>
                  <a:srgbClr val="ffffff"/>
                </a:solidFill>
                <a:latin typeface="Comic Sans MS"/>
                <a:ea typeface="Times New Roman"/>
              </a:rPr>
              <a:t> albums” available from a variety of sources.</a:t>
            </a:r>
            <a:endParaRPr b="0" lang="en-US" sz="2400" spc="-1" strike="noStrike">
              <a:solidFill>
                <a:srgbClr val="ffffff"/>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a:t>
            </a:r>
            <a:r>
              <a:rPr b="1" lang="en-US" sz="2400" spc="-1" strike="noStrike">
                <a:solidFill>
                  <a:srgbClr val="ffffff"/>
                </a:solidFill>
                <a:latin typeface="Comic Sans MS"/>
                <a:ea typeface="Times New Roman"/>
              </a:rPr>
              <a:t>Book Worm by AbleNet</a:t>
            </a:r>
            <a:r>
              <a:rPr b="0" lang="en-US" sz="2400" spc="-1" strike="noStrike">
                <a:solidFill>
                  <a:srgbClr val="ffffff"/>
                </a:solidFill>
                <a:latin typeface="Comic Sans MS"/>
                <a:ea typeface="Times New Roman"/>
              </a:rPr>
              <a:t> and the </a:t>
            </a:r>
            <a:r>
              <a:rPr b="1" lang="en-US" sz="2400" spc="-1" strike="noStrike">
                <a:solidFill>
                  <a:srgbClr val="ffffff"/>
                </a:solidFill>
                <a:latin typeface="Comic Sans MS"/>
                <a:ea typeface="Times New Roman"/>
              </a:rPr>
              <a:t>Book</a:t>
            </a:r>
            <a:br>
              <a:rPr sz="2400"/>
            </a:br>
            <a:r>
              <a:rPr b="1" lang="en-US" sz="2400" spc="-1" strike="noStrike">
                <a:solidFill>
                  <a:srgbClr val="ffffff"/>
                </a:solidFill>
                <a:latin typeface="Comic Sans MS"/>
                <a:ea typeface="Times New Roman"/>
              </a:rPr>
              <a:t> Talker by Enabling Devices</a:t>
            </a:r>
            <a:r>
              <a:rPr b="0" lang="en-US" sz="2400" spc="-1" strike="noStrike">
                <a:solidFill>
                  <a:srgbClr val="ffffff"/>
                </a:solidFill>
                <a:latin typeface="Comic Sans MS"/>
                <a:ea typeface="Times New Roman"/>
              </a:rPr>
              <a:t> allows you to create</a:t>
            </a:r>
            <a:br>
              <a:rPr sz="2400"/>
            </a:br>
            <a:r>
              <a:rPr b="0" lang="en-US" sz="2400" spc="-1" strike="noStrike">
                <a:solidFill>
                  <a:srgbClr val="ffffff"/>
                </a:solidFill>
                <a:latin typeface="Comic Sans MS"/>
                <a:ea typeface="Times New Roman"/>
              </a:rPr>
              <a:t> talking books with alternate access options.</a:t>
            </a:r>
            <a:endParaRPr b="0" lang="en-US" sz="2400" spc="-1" strike="noStrike">
              <a:solidFill>
                <a:srgbClr val="ffffff"/>
              </a:solidFill>
              <a:latin typeface="Times New Roman"/>
            </a:endParaRPr>
          </a:p>
        </p:txBody>
      </p:sp>
      <p:sp>
        <p:nvSpPr>
          <p:cNvPr id="114" name=""/>
          <p:cNvSpPr/>
          <p:nvPr/>
        </p:nvSpPr>
        <p:spPr>
          <a:xfrm>
            <a:off x="304920" y="6114960"/>
            <a:ext cx="18396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5" name="" descr=""/>
          <p:cNvPicPr/>
          <p:nvPr/>
        </p:nvPicPr>
        <p:blipFill>
          <a:blip r:embed="rId1"/>
          <a:stretch/>
        </p:blipFill>
        <p:spPr>
          <a:xfrm>
            <a:off x="685800" y="4038480"/>
            <a:ext cx="2895480" cy="1900440"/>
          </a:xfrm>
          <a:prstGeom prst="rect">
            <a:avLst/>
          </a:prstGeom>
          <a:ln w="0">
            <a:noFill/>
          </a:ln>
        </p:spPr>
      </p:pic>
      <p:pic>
        <p:nvPicPr>
          <p:cNvPr id="116" name="" descr=""/>
          <p:cNvPicPr/>
          <p:nvPr/>
        </p:nvPicPr>
        <p:blipFill>
          <a:blip r:embed="rId2"/>
          <a:stretch/>
        </p:blipFill>
        <p:spPr>
          <a:xfrm>
            <a:off x="4114800" y="3581280"/>
            <a:ext cx="4444920" cy="3276720"/>
          </a:xfrm>
          <a:prstGeom prst="rect">
            <a:avLst/>
          </a:prstGeom>
          <a:ln w="0">
            <a:noFill/>
          </a:ln>
        </p:spPr>
      </p:pic>
      <p:sp>
        <p:nvSpPr>
          <p:cNvPr id="117" name=""/>
          <p:cNvSpPr/>
          <p:nvPr/>
        </p:nvSpPr>
        <p:spPr>
          <a:xfrm>
            <a:off x="5169960" y="6019920"/>
            <a:ext cx="2690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Book Talk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hoto Credit:Enabling Devices</a:t>
            </a:r>
            <a:endParaRPr b="0" lang="en-US" sz="1400" spc="-1" strike="noStrike">
              <a:solidFill>
                <a:srgbClr val="ffffff"/>
              </a:solidFill>
              <a:latin typeface="Times New Roman"/>
            </a:endParaRPr>
          </a:p>
        </p:txBody>
      </p:sp>
      <p:sp>
        <p:nvSpPr>
          <p:cNvPr id="118" name=""/>
          <p:cNvSpPr/>
          <p:nvPr/>
        </p:nvSpPr>
        <p:spPr>
          <a:xfrm>
            <a:off x="1226880" y="6095880"/>
            <a:ext cx="1922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BookWorm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hoto Credit:Able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19" name=""/>
          <p:cNvSpPr/>
          <p:nvPr/>
        </p:nvSpPr>
        <p:spPr>
          <a:xfrm>
            <a:off x="457200" y="304920"/>
            <a:ext cx="7696080" cy="31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Comic Sans MS"/>
              </a:rPr>
              <a:t>Adaptations and Modifications  </a:t>
            </a:r>
            <a:endParaRPr b="0" lang="en-US" sz="3600" spc="-1" strike="noStrike">
              <a:solidFill>
                <a:srgbClr val="ffffff"/>
              </a:solidFill>
              <a:latin typeface="Times New Roman"/>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ccess to books </a:t>
            </a:r>
            <a:endParaRPr b="0" lang="en-US" sz="2800" spc="-1" strike="noStrike">
              <a:solidFill>
                <a:srgbClr val="ffffff"/>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Create talking single-switch or mouse-click</a:t>
            </a:r>
            <a:br>
              <a:rPr sz="2400"/>
            </a:br>
            <a:r>
              <a:rPr b="0" lang="en-US" sz="2400" spc="-1" strike="noStrike">
                <a:solidFill>
                  <a:srgbClr val="000000"/>
                </a:solidFill>
                <a:latin typeface="Comic Sans MS"/>
                <a:ea typeface="Times New Roman"/>
              </a:rPr>
              <a:t> access stories using Microsoft PowerPoint.</a:t>
            </a:r>
            <a:endParaRPr b="0" lang="en-US" sz="2400" spc="-1" strike="noStrike">
              <a:solidFill>
                <a:srgbClr val="ffffff"/>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CE Centre tutorial-</a:t>
            </a:r>
            <a:br>
              <a:rPr sz="2400"/>
            </a:br>
            <a:r>
              <a:rPr b="0" lang="en-US" sz="1600" spc="-1" strike="noStrike" u="sng">
                <a:solidFill>
                  <a:srgbClr val="0066ff"/>
                </a:solidFill>
                <a:uFillTx/>
                <a:latin typeface="Verdana"/>
                <a:ea typeface="Times New Roman"/>
                <a:hlinkClick r:id="rId1"/>
              </a:rPr>
              <a:t>http://atto.buffalo.edu/registered/Tutorials/talkingBooks/powerpoint.ph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0" name=""/>
          <p:cNvSpPr/>
          <p:nvPr/>
        </p:nvSpPr>
        <p:spPr>
          <a:xfrm>
            <a:off x="304920" y="6114960"/>
            <a:ext cx="18396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21" name=""/>
          <p:cNvSpPr/>
          <p:nvPr/>
        </p:nvSpPr>
        <p:spPr>
          <a:xfrm>
            <a:off x="304920" y="304920"/>
            <a:ext cx="8001000" cy="458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Comic Sans MS"/>
              </a:rPr>
              <a:t>Adaptations and Modifications</a:t>
            </a:r>
            <a:endParaRPr b="0" lang="en-US" sz="3600" spc="-1" strike="noStrike">
              <a:solidFill>
                <a:srgbClr val="ffffff"/>
              </a:solidFill>
              <a:latin typeface="Times New Roman"/>
            </a:endParaRPr>
          </a:p>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to books</a:t>
            </a:r>
            <a:r>
              <a:rPr b="0" lang="en-US" sz="2800" spc="-1" strike="noStrike">
                <a:solidFill>
                  <a:srgbClr val="ff0000"/>
                </a:solidFill>
                <a:latin typeface="Comic Sans MS"/>
              </a:rPr>
              <a:t> </a:t>
            </a:r>
            <a:endParaRPr b="0" lang="en-US" sz="28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 your own books using</a:t>
            </a:r>
            <a:r>
              <a:rPr b="1" lang="en-US" sz="2400" spc="-1" strike="noStrike">
                <a:solidFill>
                  <a:srgbClr val="ffffff"/>
                </a:solidFill>
                <a:latin typeface="Comic Sans MS"/>
              </a:rPr>
              <a:t> </a:t>
            </a:r>
            <a:r>
              <a:rPr b="0" lang="en-US" sz="2400" spc="-1" strike="noStrike">
                <a:solidFill>
                  <a:srgbClr val="ffffff"/>
                </a:solidFill>
                <a:latin typeface="Comic Sans MS"/>
              </a:rPr>
              <a:t>a multimedia authoring program (Intellipics, Clicker4, My Own Bookshelf, Buildability).</a:t>
            </a: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ok for commercially available multimedia story books for your computer (Living Books from Broderbund, UKanDo Little Books from Don</a:t>
            </a:r>
            <a:r>
              <a:rPr b="1" lang="en-US" sz="2400" spc="-1" strike="noStrike">
                <a:solidFill>
                  <a:srgbClr val="ffffff"/>
                </a:solidFill>
                <a:latin typeface="Comic Sans MS"/>
              </a:rPr>
              <a:t> </a:t>
            </a:r>
            <a:r>
              <a:rPr b="0" lang="en-US" sz="2400" spc="-1" strike="noStrike">
                <a:solidFill>
                  <a:srgbClr val="ffffff"/>
                </a:solidFill>
                <a:latin typeface="Comic Sans MS"/>
              </a:rPr>
              <a:t>Johnston, or Mightybooks).</a:t>
            </a: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Look for free books available to play and view online </a:t>
            </a:r>
            <a:r>
              <a:rPr b="0" lang="en-US" sz="1600" spc="-1" strike="noStrike">
                <a:solidFill>
                  <a:srgbClr val="ffffff"/>
                </a:solidFill>
                <a:latin typeface="Verdana"/>
              </a:rPr>
              <a:t>(</a:t>
            </a:r>
            <a:r>
              <a:rPr b="0" lang="en-US" sz="1600" spc="-1" strike="noStrike" u="sng">
                <a:solidFill>
                  <a:srgbClr val="0066ff"/>
                </a:solidFill>
                <a:uFillTx/>
                <a:latin typeface="Verdana"/>
                <a:hlinkClick r:id="rId1"/>
              </a:rPr>
              <a:t>www.storyplace.org</a:t>
            </a:r>
            <a:r>
              <a:rPr b="0" lang="en-US" sz="1600" spc="-1" strike="noStrike" u="sng">
                <a:solidFill>
                  <a:srgbClr val="ffffff"/>
                </a:solidFill>
                <a:uFillTx/>
                <a:latin typeface="Verdana"/>
              </a:rPr>
              <a:t>, </a:t>
            </a:r>
            <a:r>
              <a:rPr b="0" lang="en-US" sz="1600" spc="-1" strike="noStrike" u="sng">
                <a:solidFill>
                  <a:srgbClr val="0066ff"/>
                </a:solidFill>
                <a:uFillTx/>
                <a:latin typeface="Verdana"/>
                <a:hlinkClick r:id="rId2"/>
              </a:rPr>
              <a:t>www.mightybook.com</a:t>
            </a:r>
            <a:r>
              <a:rPr b="0" lang="en-US" sz="1600" spc="-1" strike="noStrike" u="sng">
                <a:solidFill>
                  <a:srgbClr val="ffffff"/>
                </a:solidFill>
                <a:uFillTx/>
                <a:latin typeface="Verdana"/>
              </a:rPr>
              <a:t>, </a:t>
            </a:r>
            <a:r>
              <a:rPr b="0" lang="en-US" sz="1600" spc="-1" strike="noStrike" u="sng">
                <a:solidFill>
                  <a:srgbClr val="0066ff"/>
                </a:solidFill>
                <a:uFillTx/>
                <a:latin typeface="Verdana"/>
                <a:hlinkClick r:id="rId3"/>
              </a:rPr>
              <a:t>www.starfall.com</a:t>
            </a:r>
            <a:r>
              <a:rPr b="0" lang="en-US" sz="1600" spc="-1" strike="noStrike" u="sng">
                <a:solidFill>
                  <a:srgbClr val="ffffff"/>
                </a:solidFill>
                <a:uFillTx/>
                <a:latin typeface="Verdana"/>
              </a:rPr>
              <a:t>).</a:t>
            </a:r>
            <a:endParaRPr b="0" lang="en-US" sz="1600" spc="-1" strike="noStrike">
              <a:solidFill>
                <a:srgbClr val="ffffff"/>
              </a:solidFill>
              <a:latin typeface="Times New Roman"/>
            </a:endParaRPr>
          </a:p>
        </p:txBody>
      </p:sp>
      <p:sp>
        <p:nvSpPr>
          <p:cNvPr id="122" name=""/>
          <p:cNvSpPr/>
          <p:nvPr/>
        </p:nvSpPr>
        <p:spPr>
          <a:xfrm>
            <a:off x="304920" y="6114960"/>
            <a:ext cx="18396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437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Resources and References</a:t>
            </a:r>
            <a:endParaRPr b="1" lang="en-US" sz="4400" spc="-1" strike="noStrike">
              <a:solidFill>
                <a:srgbClr val="f7cc1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24" name=""/>
          <p:cNvSpPr/>
          <p:nvPr/>
        </p:nvSpPr>
        <p:spPr>
          <a:xfrm>
            <a:off x="457200" y="380880"/>
            <a:ext cx="7543800" cy="563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TR</a:t>
            </a:r>
            <a:r>
              <a:rPr b="0" i="1" lang="en-US" sz="2400" spc="-1" strike="noStrike">
                <a:solidFill>
                  <a:srgbClr val="ffffff"/>
                </a:solidFill>
                <a:latin typeface="Comic Sans MS"/>
              </a:rPr>
              <a:t> (</a:t>
            </a:r>
            <a:r>
              <a:rPr b="0" lang="en-US" sz="2400" spc="-1" strike="noStrike">
                <a:solidFill>
                  <a:srgbClr val="ffffff"/>
                </a:solidFill>
                <a:latin typeface="Comic Sans MS"/>
              </a:rPr>
              <a:t>Michigan’s Assistive Technology Resource)  </a:t>
            </a:r>
            <a:r>
              <a:rPr b="0" lang="en-US" sz="1600" spc="-1" strike="noStrike" u="sng">
                <a:solidFill>
                  <a:srgbClr val="0066ff"/>
                </a:solidFill>
                <a:uFillTx/>
                <a:latin typeface="Verdana"/>
                <a:hlinkClick r:id="rId1"/>
              </a:rPr>
              <a:t>http://www.cenmi.org/matr</a:t>
            </a:r>
            <a:r>
              <a:rPr b="1" lang="en-US" sz="3200" spc="-1" strike="noStrike">
                <a:solidFill>
                  <a:srgbClr val="ffffff"/>
                </a:solidFill>
                <a:latin typeface="Comic Sans MS"/>
              </a:rPr>
              <a:t> </a:t>
            </a:r>
            <a:endParaRPr b="0" lang="en-US" sz="32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t's Play! Projec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ww.cosmos.ot.buffalo.edu/letspla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isher Price special needs</a:t>
            </a:r>
            <a:br>
              <a:rPr sz="2400"/>
            </a:br>
            <a:r>
              <a:rPr b="0" lang="en-US" sz="1600" spc="-1" strike="noStrike">
                <a:solidFill>
                  <a:srgbClr val="ffffff"/>
                </a:solidFill>
                <a:latin typeface="Verdana"/>
              </a:rPr>
              <a:t>http://www.fisherprice.com/US/special_needs/default.asp</a:t>
            </a:r>
            <a:endParaRPr b="0" lang="en-US" sz="1600" spc="-1" strike="noStrike">
              <a:solidFill>
                <a:srgbClr val="ffffff"/>
              </a:solidFill>
              <a:latin typeface="Times New Roman"/>
            </a:endParaRPr>
          </a:p>
          <a:p>
            <a:pPr>
              <a:lnSpc>
                <a:spcPct val="100000"/>
              </a:lnSpc>
              <a:spcBef>
                <a:spcPts val="37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ragonfly Toys</a:t>
            </a:r>
            <a:br>
              <a:rPr sz="2400"/>
            </a:br>
            <a:r>
              <a:rPr b="0" lang="en-US" sz="1600" spc="-1" strike="noStrike">
                <a:solidFill>
                  <a:srgbClr val="ffffff"/>
                </a:solidFill>
                <a:latin typeface="Verdana"/>
              </a:rPr>
              <a:t>http://www.dragonflytoys.c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aptiv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ttp://www.adaptivation.com/homepage.ht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oks Made Easy! By Pati King-Debau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ive Communicating—801-645-773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ww.creative-comm.co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25" name=""/>
          <p:cNvSpPr/>
          <p:nvPr/>
        </p:nvSpPr>
        <p:spPr>
          <a:xfrm>
            <a:off x="228600" y="76320"/>
            <a:ext cx="7848720" cy="594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ston Public Schools Access Technology Center-</a:t>
            </a:r>
            <a:br>
              <a:rPr sz="2400"/>
            </a:br>
            <a:r>
              <a:rPr b="0" lang="en-US" sz="2400" spc="-1" strike="noStrike">
                <a:solidFill>
                  <a:srgbClr val="ffffff"/>
                </a:solidFill>
                <a:latin typeface="Comic Sans MS"/>
              </a:rPr>
              <a:t>Recipe for Adapting Book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ttp://boston.k12.ma.us/teach/technology/emmanuel.asp</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CIP National Center to Improve Practice in Special Education</a:t>
            </a:r>
            <a:br>
              <a:rPr sz="2400"/>
            </a:br>
            <a:r>
              <a:rPr b="0" lang="en-US" sz="1600" spc="-1" strike="noStrike">
                <a:solidFill>
                  <a:srgbClr val="ffffff"/>
                </a:solidFill>
                <a:latin typeface="Verdana"/>
              </a:rPr>
              <a:t>http://www2.edc.org/NCIP</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keshore Learning Materials—800 421-535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ww.lakeshorelearning.com</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inda Burkhart</a:t>
            </a:r>
            <a:br>
              <a:rPr sz="2400"/>
            </a:br>
            <a:r>
              <a:rPr b="0" lang="en-US" sz="1600" spc="-1" strike="noStrike">
                <a:solidFill>
                  <a:srgbClr val="ffffff"/>
                </a:solidFill>
                <a:latin typeface="Verdana"/>
              </a:rPr>
              <a:t>www.Lburkhart.com</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AC Intervention</a:t>
            </a:r>
            <a:br>
              <a:rPr sz="2400"/>
            </a:br>
            <a:r>
              <a:rPr b="0" lang="en-US" sz="1600" spc="-1" strike="noStrike">
                <a:solidFill>
                  <a:srgbClr val="ffffff"/>
                </a:solidFill>
                <a:latin typeface="Verdana"/>
              </a:rPr>
              <a:t>www.aacintervention.com</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oy Zabala, Assistive Technology Consultant</a:t>
            </a:r>
            <a:br>
              <a:rPr sz="2400"/>
            </a:br>
            <a:r>
              <a:rPr b="0" lang="en-US" sz="1600" spc="-1" strike="noStrike">
                <a:solidFill>
                  <a:srgbClr val="ffffff"/>
                </a:solidFill>
                <a:latin typeface="Verdana"/>
              </a:rPr>
              <a:t>http://www.joyzabala.co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	</a:t>
            </a:r>
            <a:endParaRPr b="1" lang="en-US" sz="4400" spc="-1" strike="noStrike">
              <a:solidFill>
                <a:srgbClr val="f7cc17"/>
              </a:solidFill>
              <a:latin typeface="Arial"/>
            </a:endParaRPr>
          </a:p>
        </p:txBody>
      </p:sp>
      <p:sp>
        <p:nvSpPr>
          <p:cNvPr id="127" name="PlaceHolder 2"/>
          <p:cNvSpPr>
            <a:spLocks noGrp="1"/>
          </p:cNvSpPr>
          <p:nvPr>
            <p:ph/>
          </p:nvPr>
        </p:nvSpPr>
        <p:spPr>
          <a:xfrm>
            <a:off x="456840" y="5105520"/>
            <a:ext cx="2971800" cy="11728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indy Nankee  OTR</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ESA #3 WATI Consultant</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608-822-3276</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nankee@cesa3.k12.wi.us</a:t>
            </a:r>
            <a:endParaRPr b="0" lang="en-US" sz="1800" spc="-1" strike="noStrike">
              <a:solidFill>
                <a:srgbClr val="ffffff"/>
              </a:solidFill>
              <a:latin typeface="Tahoma"/>
            </a:endParaRPr>
          </a:p>
        </p:txBody>
      </p:sp>
      <p:pic>
        <p:nvPicPr>
          <p:cNvPr id="128" name="" descr=""/>
          <p:cNvPicPr/>
          <p:nvPr/>
        </p:nvPicPr>
        <p:blipFill>
          <a:blip r:embed="rId1"/>
          <a:stretch/>
        </p:blipFill>
        <p:spPr>
          <a:xfrm>
            <a:off x="6248520" y="4419720"/>
            <a:ext cx="1795320" cy="1833480"/>
          </a:xfrm>
          <a:prstGeom prst="rect">
            <a:avLst/>
          </a:prstGeom>
          <a:ln w="0">
            <a:noFill/>
          </a:ln>
        </p:spPr>
      </p:pic>
      <p:sp>
        <p:nvSpPr>
          <p:cNvPr id="129" name=""/>
          <p:cNvSpPr txBox="1"/>
          <p:nvPr/>
        </p:nvSpPr>
        <p:spPr>
          <a:xfrm>
            <a:off x="762120" y="762120"/>
            <a:ext cx="7696080" cy="3581280"/>
          </a:xfrm>
          <a:prstGeom prst="rect">
            <a:avLst/>
          </a:prstGeom>
        </p:spPr>
        <p:txBody>
          <a:bodyPr wrap="none" lIns="90000" rIns="90000" tIns="46800" bIns="46800" anchor="t" anchorCtr="1">
            <a:prstTxWarp prst="textPlain">
              <a:avLst>
                <a:gd name="adj" fmla="val 506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Creating Adapted Books </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with </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PowerPoint</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 y="1371600"/>
            <a:ext cx="8610480" cy="498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rosoft PowerPoint is a powerful multimedia tool that is generally available on both PC and Ma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erPoint is a tool that can be used to create adapted books and personalized switch based programs.</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9140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Tutorial will take you through creating a clickable book using PowerPoint. You will have a title page and multiple book pages.  On each page you will be adding text, narration, sound, pictures and animation.  It is very important to save each time you add something new. </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09120" y="837720"/>
            <a:ext cx="8077320" cy="52880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utorial may be used on the computer as a PowerPoint slide show or printed as a handout.</a:t>
            </a:r>
            <a:endParaRPr b="0" lang="en-US" sz="32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basic knowledge of PowerPoint and editing skills and working between two programs is a prerequisite.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Help menu to search for advanced information about PowerPoint.</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Today’s Agenda</a:t>
            </a:r>
            <a:endParaRPr b="1" lang="en-US" sz="4400" spc="-1" strike="noStrike">
              <a:solidFill>
                <a:srgbClr val="f7cc17"/>
              </a:solidFill>
              <a:latin typeface="Arial"/>
            </a:endParaRPr>
          </a:p>
        </p:txBody>
      </p:sp>
      <p:sp>
        <p:nvSpPr>
          <p:cNvPr id="94"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Print Tutorial Handout</a:t>
            </a:r>
            <a:endParaRPr b="1" lang="en-US" sz="4400" spc="-1" strike="noStrike">
              <a:solidFill>
                <a:srgbClr val="f7cc17"/>
              </a:solidFill>
              <a:latin typeface="Arial"/>
            </a:endParaRPr>
          </a:p>
        </p:txBody>
      </p:sp>
      <p:sp>
        <p:nvSpPr>
          <p:cNvPr id="134" name="PlaceHolder 2"/>
          <p:cNvSpPr>
            <a:spLocks noGrp="1"/>
          </p:cNvSpPr>
          <p:nvPr>
            <p:ph/>
          </p:nvPr>
        </p:nvSpPr>
        <p:spPr>
          <a:xfrm>
            <a:off x="380880" y="1828440"/>
            <a:ext cx="3810240" cy="43434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t>
            </a:r>
            <a:endParaRPr b="0" lang="en-US" sz="32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ndout</a:t>
            </a:r>
            <a:endParaRPr b="0" lang="en-US" sz="28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e Black &amp; White</a:t>
            </a:r>
            <a:endParaRPr b="0" lang="en-US" sz="28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ose 3 or 6 slides per page</a:t>
            </a:r>
            <a:endParaRPr b="0" lang="en-US" sz="2800" spc="-1" strike="noStrike">
              <a:solidFill>
                <a:srgbClr val="ffffff"/>
              </a:solidFill>
              <a:latin typeface="Tahoma"/>
            </a:endParaRPr>
          </a:p>
        </p:txBody>
      </p:sp>
      <p:grpSp>
        <p:nvGrpSpPr>
          <p:cNvPr id="135" name=""/>
          <p:cNvGrpSpPr/>
          <p:nvPr/>
        </p:nvGrpSpPr>
        <p:grpSpPr>
          <a:xfrm>
            <a:off x="4648320" y="1978200"/>
            <a:ext cx="4266720" cy="4087800"/>
            <a:chOff x="4648320" y="1978200"/>
            <a:chExt cx="4266720" cy="4087800"/>
          </a:xfrm>
        </p:grpSpPr>
        <p:pic>
          <p:nvPicPr>
            <p:cNvPr id="136" name="" descr=""/>
            <p:cNvPicPr/>
            <p:nvPr/>
          </p:nvPicPr>
          <p:blipFill>
            <a:blip r:embed="rId1"/>
            <a:srcRect l="22642" t="10534" r="22642" b="13992"/>
            <a:stretch/>
          </p:blipFill>
          <p:spPr>
            <a:xfrm>
              <a:off x="5143680" y="1978200"/>
              <a:ext cx="3771360" cy="4087800"/>
            </a:xfrm>
            <a:prstGeom prst="rect">
              <a:avLst/>
            </a:prstGeom>
            <a:ln w="0">
              <a:noFill/>
            </a:ln>
          </p:spPr>
        </p:pic>
        <p:sp>
          <p:nvSpPr>
            <p:cNvPr id="137" name=""/>
            <p:cNvSpPr/>
            <p:nvPr/>
          </p:nvSpPr>
          <p:spPr>
            <a:xfrm>
              <a:off x="4648320" y="4357440"/>
              <a:ext cx="3898440" cy="1042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Table of Contents</a:t>
            </a:r>
            <a:endParaRPr b="1" lang="en-US" sz="4400" spc="-1" strike="noStrike">
              <a:solidFill>
                <a:srgbClr val="f7cc17"/>
              </a:solidFill>
              <a:latin typeface="Arial"/>
            </a:endParaRPr>
          </a:p>
        </p:txBody>
      </p:sp>
      <p:sp>
        <p:nvSpPr>
          <p:cNvPr id="139"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view PowerPoint book</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slide 7</a:t>
            </a:r>
            <a:endParaRPr b="0" lang="en-US" sz="2000" spc="-1" strike="noStrike">
              <a:solidFill>
                <a:srgbClr val="ffffff"/>
              </a:solidFill>
              <a:latin typeface="Tahoma"/>
            </a:endParaRPr>
          </a:p>
          <a:p>
            <a:pPr marL="335880" indent="-335880">
              <a:lnSpc>
                <a:spcPct val="90000"/>
              </a:lnSpc>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lan PowerPoint</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slide 8-10</a:t>
            </a:r>
            <a:endParaRPr b="0" lang="en-US" sz="2000" spc="-1" strike="noStrike">
              <a:solidFill>
                <a:srgbClr val="ffffff"/>
              </a:solidFill>
              <a:latin typeface="Tahoma"/>
            </a:endParaRPr>
          </a:p>
          <a:p>
            <a:pPr lvl="1" marL="727920" indent="-28008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mp; Sound files</a:t>
            </a:r>
            <a:endParaRPr b="0" lang="en-US" sz="1800" spc="-1" strike="noStrike">
              <a:solidFill>
                <a:srgbClr val="ffffff"/>
              </a:solidFill>
              <a:latin typeface="Tahoma"/>
            </a:endParaRPr>
          </a:p>
          <a:p>
            <a:pPr marL="335880" indent="-335880">
              <a:lnSpc>
                <a:spcPct val="90000"/>
              </a:lnSpc>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tting Started</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slide 11-12</a:t>
            </a:r>
            <a:endParaRPr b="0" lang="en-US" sz="2000" spc="-1" strike="noStrike">
              <a:solidFill>
                <a:srgbClr val="ffffff"/>
              </a:solidFill>
              <a:latin typeface="Tahoma"/>
            </a:endParaRPr>
          </a:p>
          <a:p>
            <a:pPr marL="335880" indent="-335880">
              <a:lnSpc>
                <a:spcPct val="90000"/>
              </a:lnSpc>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Slide Master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slide 13-20</a:t>
            </a:r>
            <a:endParaRPr b="0" lang="en-US" sz="2000" spc="-1" strike="noStrike">
              <a:solidFill>
                <a:srgbClr val="ffffff"/>
              </a:solidFill>
              <a:latin typeface="Tahoma"/>
            </a:endParaRPr>
          </a:p>
          <a:p>
            <a:pPr marL="335880" indent="-335880">
              <a:lnSpc>
                <a:spcPct val="90000"/>
              </a:lnSpc>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Title Slide</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slide 21-25</a:t>
            </a:r>
            <a:endParaRPr b="0" lang="en-US" sz="2000" spc="-1" strike="noStrike">
              <a:solidFill>
                <a:srgbClr val="ffffff"/>
              </a:solidFill>
              <a:latin typeface="Tahoma"/>
            </a:endParaRPr>
          </a:p>
          <a:p>
            <a:pPr marL="335880" indent="-335880">
              <a:lnSpc>
                <a:spcPct val="90000"/>
              </a:lnSpc>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Pages of Adapted Book</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slide 26</a:t>
            </a:r>
            <a:endParaRPr b="0" lang="en-US" sz="2000" spc="-1" strike="noStrike">
              <a:solidFill>
                <a:srgbClr val="ffffff"/>
              </a:solidFill>
              <a:latin typeface="Tahoma"/>
            </a:endParaRPr>
          </a:p>
          <a:p>
            <a:pPr marL="335880" indent="-335880">
              <a:lnSpc>
                <a:spcPct val="90000"/>
              </a:lnSpc>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Animation and Sound</a:t>
            </a:r>
            <a:r>
              <a:rPr b="0" lang="en-US" sz="28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slide 27-31</a:t>
            </a:r>
            <a:endParaRPr b="0" lang="en-US" sz="2000" spc="-1" strike="noStrike">
              <a:solidFill>
                <a:srgbClr val="ffffff"/>
              </a:solidFill>
              <a:latin typeface="Tahoma"/>
            </a:endParaRPr>
          </a:p>
          <a:p>
            <a:pPr marL="335880" indent="-335880">
              <a:lnSpc>
                <a:spcPct val="90000"/>
              </a:lnSpc>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Slide Transition</a:t>
            </a:r>
            <a:r>
              <a:rPr b="0" lang="en-US" sz="28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slide 33-38</a:t>
            </a:r>
            <a:endParaRPr b="0" lang="en-US" sz="2000" spc="-1" strike="noStrike">
              <a:solidFill>
                <a:srgbClr val="ffffff"/>
              </a:solidFill>
              <a:latin typeface="Tahoma"/>
            </a:endParaRPr>
          </a:p>
          <a:p>
            <a:pPr lvl="1" marL="727920" indent="-28008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ion Buttons</a:t>
            </a:r>
            <a:endParaRPr b="0" lang="en-US" sz="1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tep 1</a:t>
            </a:r>
            <a:br>
              <a:rPr sz="4000"/>
            </a:br>
            <a:r>
              <a:rPr b="1" lang="en-US" sz="4000" spc="-1" strike="noStrike">
                <a:solidFill>
                  <a:srgbClr val="f7cc17"/>
                </a:solidFill>
                <a:latin typeface="Arial"/>
              </a:rPr>
              <a:t>Preview Clickable book</a:t>
            </a:r>
            <a:endParaRPr b="1" lang="en-US" sz="4000" spc="-1" strike="noStrike">
              <a:solidFill>
                <a:srgbClr val="f7cc17"/>
              </a:solidFill>
              <a:latin typeface="Arial"/>
            </a:endParaRPr>
          </a:p>
        </p:txBody>
      </p:sp>
      <p:sp>
        <p:nvSpPr>
          <p:cNvPr id="141"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PowerPoint </a:t>
            </a:r>
            <a:r>
              <a:rPr b="0" lang="en-US" sz="3200" spc="-1" strike="noStrike" u="sng">
                <a:solidFill>
                  <a:srgbClr val="ffffff"/>
                </a:solidFill>
                <a:uFillTx/>
                <a:latin typeface="Tahoma"/>
              </a:rPr>
              <a:t>I Put On My Clothes</a:t>
            </a:r>
            <a:endParaRPr b="0" lang="en-US" sz="32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 to view, choose slide show</a:t>
            </a:r>
            <a:endParaRPr b="0" lang="en-US" sz="28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ok will open</a:t>
            </a:r>
            <a:endParaRPr b="0" lang="en-US" sz="28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hrough the book to get the idea of how it flows and a visual of what you will be creat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14600" y="380520"/>
            <a:ext cx="64008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tep 2</a:t>
            </a:r>
            <a:br>
              <a:rPr sz="4000"/>
            </a:br>
            <a:r>
              <a:rPr b="1" lang="en-US" sz="4000" spc="-1" strike="noStrike">
                <a:solidFill>
                  <a:srgbClr val="f7cc17"/>
                </a:solidFill>
                <a:latin typeface="Arial"/>
              </a:rPr>
              <a:t>Pre-Plan PowerPoint</a:t>
            </a:r>
            <a:endParaRPr b="1" lang="en-US" sz="4000" spc="-1" strike="noStrike">
              <a:solidFill>
                <a:srgbClr val="f7cc17"/>
              </a:solidFill>
              <a:latin typeface="Arial"/>
            </a:endParaRPr>
          </a:p>
        </p:txBody>
      </p:sp>
      <p:sp>
        <p:nvSpPr>
          <p:cNvPr id="143" name="PlaceHolder 2"/>
          <p:cNvSpPr>
            <a:spLocks noGrp="1"/>
          </p:cNvSpPr>
          <p:nvPr>
            <p:ph/>
          </p:nvPr>
        </p:nvSpPr>
        <p:spPr>
          <a:xfrm>
            <a:off x="304920" y="1295280"/>
            <a:ext cx="853416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ainstorm topic</a:t>
            </a:r>
            <a:endParaRPr b="0" lang="en-US" sz="2800" spc="-1" strike="noStrike">
              <a:solidFill>
                <a:srgbClr val="ffffff"/>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apt a book (scan pictures from book)</a:t>
            </a:r>
            <a:endParaRPr b="0" lang="en-US" sz="2400" spc="-1" strike="noStrike">
              <a:solidFill>
                <a:srgbClr val="ffffff"/>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from scratch</a:t>
            </a:r>
            <a:endParaRPr b="0" lang="en-US" sz="2400" spc="-1" strike="noStrike">
              <a:solidFill>
                <a:srgbClr val="ffffff"/>
              </a:solidFill>
              <a:latin typeface="Tahoma"/>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e child be using a switch, touch screen, keyboard or mouse</a:t>
            </a:r>
            <a:endParaRPr b="0" lang="en-US" sz="2800" spc="-1" strike="noStrike">
              <a:solidFill>
                <a:srgbClr val="ffffff"/>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you be inserting text, narration, sound, animation, picture and/or movies clips</a:t>
            </a:r>
            <a:endParaRPr b="0" lang="en-US" sz="2800" spc="-1" strike="noStrike">
              <a:solidFill>
                <a:srgbClr val="ffffff"/>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sound files</a:t>
            </a:r>
            <a:endParaRPr b="0" lang="en-US" sz="2400" spc="-1" strike="noStrike">
              <a:solidFill>
                <a:srgbClr val="ffffff"/>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picture files</a:t>
            </a:r>
            <a:endParaRPr b="0" lang="en-US" sz="2400" spc="-1" strike="noStrike">
              <a:solidFill>
                <a:srgbClr val="ffffff"/>
              </a:solidFill>
              <a:latin typeface="Tahoma"/>
            </a:endParaRPr>
          </a:p>
          <a:p>
            <a:pPr lvl="2" marL="1143000" indent="-228600">
              <a:lnSpc>
                <a:spcPct val="90000"/>
              </a:lnSpc>
              <a:spcBef>
                <a:spcPts val="499"/>
              </a:spcBef>
              <a:buClr>
                <a:srgbClr val="ff99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an book to be adapted</a:t>
            </a:r>
            <a:endParaRPr b="0" lang="en-US" sz="2000" spc="-1" strike="noStrike">
              <a:solidFill>
                <a:srgbClr val="ffffff"/>
              </a:solidFill>
              <a:latin typeface="Tahoma"/>
            </a:endParaRPr>
          </a:p>
          <a:p>
            <a:pPr lvl="2" marL="1143000" indent="-228600">
              <a:lnSpc>
                <a:spcPct val="90000"/>
              </a:lnSpc>
              <a:spcBef>
                <a:spcPts val="499"/>
              </a:spcBef>
              <a:buClr>
                <a:srgbClr val="ff99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gital pictures of important people or objects</a:t>
            </a:r>
            <a:endParaRPr b="0" lang="en-US" sz="2000" spc="-1" strike="noStrike">
              <a:solidFill>
                <a:srgbClr val="ffffff"/>
              </a:solidFill>
              <a:latin typeface="Tahoma"/>
            </a:endParaRPr>
          </a:p>
          <a:p>
            <a:pPr lvl="2" marL="1143000" indent="-228600">
              <a:lnSpc>
                <a:spcPct val="90000"/>
              </a:lnSpc>
              <a:spcBef>
                <a:spcPts val="499"/>
              </a:spcBef>
              <a:buClr>
                <a:srgbClr val="ff99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pictures from internet</a:t>
            </a:r>
            <a:endParaRPr b="0" lang="en-US" sz="20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Create a Picture Library</a:t>
            </a:r>
            <a:endParaRPr b="1" lang="en-US" sz="4400" spc="-1" strike="noStrike">
              <a:solidFill>
                <a:srgbClr val="f7cc17"/>
              </a:solidFill>
              <a:latin typeface="Arial"/>
            </a:endParaRPr>
          </a:p>
        </p:txBody>
      </p:sp>
      <p:sp>
        <p:nvSpPr>
          <p:cNvPr id="145"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an pictures and save to folder</a:t>
            </a:r>
            <a:endParaRPr b="0" lang="en-US" sz="3200" spc="-1" strike="noStrike">
              <a:solidFill>
                <a:srgbClr val="ffffff"/>
              </a:solidFill>
              <a:latin typeface="Tahoma"/>
            </a:endParaRPr>
          </a:p>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ggle Images search, save to folder</a:t>
            </a:r>
            <a:endParaRPr b="0" lang="en-US" sz="3200" spc="-1" strike="noStrike">
              <a:solidFill>
                <a:srgbClr val="ffffff"/>
              </a:solidFill>
              <a:latin typeface="Tahoma"/>
            </a:endParaRPr>
          </a:p>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een shots (shift + PrtScrn) paste on PowerPoint slide</a:t>
            </a:r>
            <a:endParaRPr b="0" lang="en-US" sz="3200" spc="-1" strike="noStrike">
              <a:solidFill>
                <a:srgbClr val="ffffff"/>
              </a:solidFill>
              <a:latin typeface="Tahoma"/>
            </a:endParaRPr>
          </a:p>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p Art</a:t>
            </a:r>
            <a:endParaRPr b="0" lang="en-US" sz="3200" spc="-1" strike="noStrike">
              <a:solidFill>
                <a:srgbClr val="ffffff"/>
              </a:solidFill>
              <a:latin typeface="Tahoma"/>
            </a:endParaRPr>
          </a:p>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camera, photo album or save to folder</a:t>
            </a:r>
            <a:endParaRPr b="0" lang="en-US" sz="32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opyright laws allow scanning of books purchased for the individual using the adapted book)</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Create A Sound Library</a:t>
            </a:r>
            <a:endParaRPr b="1" lang="en-US" sz="4400" spc="-1" strike="noStrike">
              <a:solidFill>
                <a:srgbClr val="f7cc17"/>
              </a:solidFill>
              <a:latin typeface="Arial"/>
            </a:endParaRPr>
          </a:p>
        </p:txBody>
      </p:sp>
      <p:sp>
        <p:nvSpPr>
          <p:cNvPr id="14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p Art sounds</a:t>
            </a:r>
            <a:endParaRPr b="0" lang="en-US" sz="2800" spc="-1" strike="noStrike">
              <a:solidFill>
                <a:srgbClr val="ffffff"/>
              </a:solidFill>
              <a:latin typeface="Tahoma"/>
            </a:endParaRPr>
          </a:p>
          <a:p>
            <a:pPr marL="343080" indent="-343080">
              <a:lnSpc>
                <a:spcPct val="90000"/>
              </a:lnSpc>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 sounds</a:t>
            </a:r>
            <a:endParaRPr b="0" lang="en-US" sz="2800" spc="-1" strike="noStrike">
              <a:solidFill>
                <a:srgbClr val="ffffff"/>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ww.zooish.com</a:t>
            </a:r>
            <a:endParaRPr b="0" lang="en-US" sz="2400" spc="-1" strike="noStrike">
              <a:solidFill>
                <a:srgbClr val="ffffff"/>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ww.naturesongs.com </a:t>
            </a:r>
            <a:endParaRPr b="0" lang="en-US" sz="2400" spc="-1" strike="noStrike">
              <a:solidFill>
                <a:srgbClr val="ffffff"/>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ww.ultimatesoundarchive.com</a:t>
            </a:r>
            <a:endParaRPr b="0" lang="en-US" sz="2400" spc="-1" strike="noStrike">
              <a:solidFill>
                <a:srgbClr val="ffffff"/>
              </a:solidFill>
              <a:latin typeface="Tahoma"/>
            </a:endParaRPr>
          </a:p>
          <a:p>
            <a:pPr marL="343080" indent="-343080">
              <a:lnSpc>
                <a:spcPct val="90000"/>
              </a:lnSpc>
              <a:spcBef>
                <a:spcPts val="4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rd your own sounds with Windows Sound Recorder (</a:t>
            </a:r>
            <a:r>
              <a:rPr b="0" lang="en-US" sz="1800" spc="-1" strike="noStrike">
                <a:solidFill>
                  <a:srgbClr val="ffffff"/>
                </a:solidFill>
                <a:latin typeface="Tahoma"/>
              </a:rPr>
              <a:t>you will need a microphone)</a:t>
            </a:r>
            <a:endParaRPr b="0" lang="en-US" sz="1800" spc="-1" strike="noStrike">
              <a:solidFill>
                <a:srgbClr val="ffffff"/>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rt/programs/accessories/entertainment/</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nd recorder</a:t>
            </a:r>
            <a:endParaRPr b="0" lang="en-US" sz="2400" spc="-1" strike="noStrike">
              <a:solidFill>
                <a:srgbClr val="ffffff"/>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o to file, new and save as, for each sound you record or your sounds will be connec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tep 3</a:t>
            </a:r>
            <a:br>
              <a:rPr sz="4000"/>
            </a:br>
            <a:r>
              <a:rPr b="1" lang="en-US" sz="4000" spc="-1" strike="noStrike">
                <a:solidFill>
                  <a:srgbClr val="f7cc17"/>
                </a:solidFill>
                <a:latin typeface="Arial"/>
              </a:rPr>
              <a:t>Open PowerPoint</a:t>
            </a:r>
            <a:br>
              <a:rPr sz="4000"/>
            </a:br>
            <a:br>
              <a:rPr sz="4000"/>
            </a:br>
            <a:endParaRPr b="1" lang="en-US" sz="4000" spc="-1" strike="noStrike">
              <a:solidFill>
                <a:srgbClr val="f7cc17"/>
              </a:solidFill>
              <a:latin typeface="Arial"/>
            </a:endParaRPr>
          </a:p>
        </p:txBody>
      </p:sp>
      <p:pic>
        <p:nvPicPr>
          <p:cNvPr id="149" name="" descr=""/>
          <p:cNvPicPr/>
          <p:nvPr/>
        </p:nvPicPr>
        <p:blipFill>
          <a:blip r:embed="rId1"/>
          <a:srcRect l="53010" t="37161" r="40736" b="53497"/>
          <a:stretch/>
        </p:blipFill>
        <p:spPr>
          <a:xfrm>
            <a:off x="3733920" y="2887560"/>
            <a:ext cx="2735280" cy="236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tart by Saving </a:t>
            </a:r>
            <a:br>
              <a:rPr sz="4000"/>
            </a:br>
            <a:r>
              <a:rPr b="1" lang="en-US" sz="4000" spc="-1" strike="noStrike">
                <a:solidFill>
                  <a:srgbClr val="f7cc17"/>
                </a:solidFill>
                <a:latin typeface="Arial"/>
              </a:rPr>
              <a:t>Your Blank Presentation</a:t>
            </a:r>
            <a:endParaRPr b="1" lang="en-US" sz="4000" spc="-1" strike="noStrike">
              <a:solidFill>
                <a:srgbClr val="f7cc17"/>
              </a:solidFill>
              <a:latin typeface="Arial"/>
            </a:endParaRPr>
          </a:p>
        </p:txBody>
      </p:sp>
      <p:sp>
        <p:nvSpPr>
          <p:cNvPr id="151" name="PlaceHolder 2"/>
          <p:cNvSpPr>
            <a:spLocks noGrp="1"/>
          </p:cNvSpPr>
          <p:nvPr>
            <p:ph/>
          </p:nvPr>
        </p:nvSpPr>
        <p:spPr>
          <a:xfrm>
            <a:off x="-360" y="1523880"/>
            <a:ext cx="8458200" cy="1828800"/>
          </a:xfrm>
          <a:prstGeom prst="rect">
            <a:avLst/>
          </a:prstGeom>
          <a:noFill/>
          <a:ln w="0">
            <a:noFill/>
          </a:ln>
        </p:spPr>
        <p:txBody>
          <a:bodyPr lIns="90000" rIns="90000" tIns="46800" bIns="46800" anchor="t">
            <a:normAutofit/>
          </a:bodyPr>
          <a:p>
            <a:pPr marL="343080" indent="-34308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le/Save As</a:t>
            </a:r>
            <a:endParaRPr b="0" lang="en-US" sz="2400" spc="-1" strike="noStrike">
              <a:solidFill>
                <a:srgbClr val="ffffff"/>
              </a:solidFill>
              <a:latin typeface="Tahoma"/>
            </a:endParaRPr>
          </a:p>
          <a:p>
            <a:pPr marL="343080" indent="-34308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your PowerPoint book</a:t>
            </a:r>
            <a:endParaRPr b="0" lang="en-US" sz="2400" spc="-1" strike="noStrike">
              <a:solidFill>
                <a:srgbClr val="ffffff"/>
              </a:solidFill>
              <a:latin typeface="Tahoma"/>
            </a:endParaRPr>
          </a:p>
          <a:p>
            <a:pPr marL="343080" indent="-34308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ve</a:t>
            </a:r>
            <a:endParaRPr b="0" lang="en-US" sz="2400" spc="-1" strike="noStrike">
              <a:solidFill>
                <a:srgbClr val="ffffff"/>
              </a:solidFill>
              <a:latin typeface="Tahoma"/>
            </a:endParaRPr>
          </a:p>
          <a:p>
            <a:pPr marL="343080" indent="-34308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ve frequently throughout your creation</a:t>
            </a:r>
            <a:endParaRPr b="0" lang="en-US" sz="2400" spc="-1" strike="noStrike">
              <a:solidFill>
                <a:srgbClr val="ffffff"/>
              </a:solidFill>
              <a:latin typeface="Tahoma"/>
            </a:endParaRPr>
          </a:p>
        </p:txBody>
      </p:sp>
      <p:pic>
        <p:nvPicPr>
          <p:cNvPr id="152" name="" descr=""/>
          <p:cNvPicPr/>
          <p:nvPr/>
        </p:nvPicPr>
        <p:blipFill>
          <a:blip r:embed="rId1"/>
          <a:srcRect l="0" t="0" r="4629" b="14137"/>
          <a:stretch/>
        </p:blipFill>
        <p:spPr>
          <a:xfrm>
            <a:off x="304920" y="3581280"/>
            <a:ext cx="4114800" cy="2832120"/>
          </a:xfrm>
          <a:prstGeom prst="rect">
            <a:avLst/>
          </a:prstGeom>
          <a:ln w="0">
            <a:noFill/>
          </a:ln>
        </p:spPr>
      </p:pic>
      <p:pic>
        <p:nvPicPr>
          <p:cNvPr id="153" name="" descr=""/>
          <p:cNvPicPr/>
          <p:nvPr/>
        </p:nvPicPr>
        <p:blipFill>
          <a:blip r:embed="rId2"/>
          <a:srcRect l="0" t="8020" r="18867" b="13992"/>
          <a:stretch/>
        </p:blipFill>
        <p:spPr>
          <a:xfrm>
            <a:off x="4724280" y="3581280"/>
            <a:ext cx="3962520" cy="285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tep 4</a:t>
            </a:r>
            <a:br>
              <a:rPr sz="4000"/>
            </a:br>
            <a:r>
              <a:rPr b="1" lang="en-US" sz="4000" spc="-1" strike="noStrike">
                <a:solidFill>
                  <a:srgbClr val="f7cc17"/>
                </a:solidFill>
                <a:latin typeface="Arial"/>
              </a:rPr>
              <a:t>Slide Master</a:t>
            </a:r>
            <a:endParaRPr b="1" lang="en-US" sz="4000" spc="-1" strike="noStrike">
              <a:solidFill>
                <a:srgbClr val="f7cc17"/>
              </a:solidFill>
              <a:latin typeface="Arial"/>
            </a:endParaRPr>
          </a:p>
        </p:txBody>
      </p:sp>
      <p:sp>
        <p:nvSpPr>
          <p:cNvPr id="155" name="PlaceHolder 2"/>
          <p:cNvSpPr>
            <a:spLocks noGrp="1"/>
          </p:cNvSpPr>
          <p:nvPr>
            <p:ph/>
          </p:nvPr>
        </p:nvSpPr>
        <p:spPr>
          <a:xfrm>
            <a:off x="1143000" y="1827000"/>
            <a:ext cx="7772400" cy="4268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Slide Master stores information about the template, including     font styles, sizes and positions, background design and color schemes.  This is then applied to all the slides in your slide show.</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14600" y="380880"/>
            <a:ext cx="64008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7cc17"/>
                </a:solidFill>
                <a:latin typeface="Arial"/>
              </a:rPr>
              <a:t>Create a Slide Master</a:t>
            </a:r>
            <a:endParaRPr b="1" lang="en-US" sz="4000" spc="-1" strike="noStrike">
              <a:solidFill>
                <a:srgbClr val="f7cc17"/>
              </a:solidFill>
              <a:latin typeface="Arial"/>
            </a:endParaRPr>
          </a:p>
        </p:txBody>
      </p:sp>
      <p:pic>
        <p:nvPicPr>
          <p:cNvPr id="157" name="" descr=""/>
          <p:cNvPicPr/>
          <p:nvPr/>
        </p:nvPicPr>
        <p:blipFill>
          <a:blip r:embed="rId1"/>
          <a:srcRect l="6877" t="5921" r="59995" b="63774"/>
          <a:stretch/>
        </p:blipFill>
        <p:spPr>
          <a:xfrm>
            <a:off x="3505320" y="1752480"/>
            <a:ext cx="5410080" cy="4308480"/>
          </a:xfrm>
          <a:prstGeom prst="rect">
            <a:avLst/>
          </a:prstGeom>
          <a:ln w="0">
            <a:noFill/>
          </a:ln>
        </p:spPr>
      </p:pic>
      <p:sp>
        <p:nvSpPr>
          <p:cNvPr id="158" name=""/>
          <p:cNvSpPr/>
          <p:nvPr/>
        </p:nvSpPr>
        <p:spPr>
          <a:xfrm>
            <a:off x="439920" y="2046240"/>
            <a:ext cx="26888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iew </a:t>
            </a:r>
            <a:endParaRPr b="0" lang="en-US" sz="3200" spc="-1" strike="noStrike">
              <a:solidFill>
                <a:srgbClr val="ffffff"/>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Master</a:t>
            </a:r>
            <a:endParaRPr b="0" lang="en-US" sz="3200" spc="-1" strike="noStrike">
              <a:solidFill>
                <a:srgbClr val="ffffff"/>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lide Master</a:t>
            </a:r>
            <a:endParaRPr b="0" lang="en-US" sz="3200" spc="-1" strike="noStrike">
              <a:solidFill>
                <a:srgbClr val="ffffff"/>
              </a:solidFill>
              <a:latin typeface="Times New Roman"/>
            </a:endParaRPr>
          </a:p>
        </p:txBody>
      </p:sp>
      <p:sp>
        <p:nvSpPr>
          <p:cNvPr id="159" name=""/>
          <p:cNvSpPr/>
          <p:nvPr/>
        </p:nvSpPr>
        <p:spPr>
          <a:xfrm>
            <a:off x="6553080" y="3962520"/>
            <a:ext cx="2210040" cy="457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Adapting with Pictures</a:t>
            </a:r>
            <a:endParaRPr b="1" lang="en-US" sz="4400" spc="-1" strike="noStrike">
              <a:solidFill>
                <a:srgbClr val="f7cc17"/>
              </a:solidFill>
              <a:latin typeface="Arial"/>
            </a:endParaRPr>
          </a:p>
        </p:txBody>
      </p:sp>
      <p:sp>
        <p:nvSpPr>
          <p:cNvPr id="96"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304560"/>
            <a:ext cx="449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lide Design</a:t>
            </a:r>
            <a:br>
              <a:rPr sz="4000"/>
            </a:br>
            <a:endParaRPr b="1" lang="en-US" sz="4000" spc="-1" strike="noStrike">
              <a:solidFill>
                <a:srgbClr val="f7cc17"/>
              </a:solidFill>
              <a:latin typeface="Arial"/>
            </a:endParaRPr>
          </a:p>
        </p:txBody>
      </p:sp>
      <p:pic>
        <p:nvPicPr>
          <p:cNvPr id="161" name="" descr=""/>
          <p:cNvPicPr/>
          <p:nvPr/>
        </p:nvPicPr>
        <p:blipFill>
          <a:blip r:embed="rId1"/>
          <a:srcRect l="79634" t="9175" r="0" b="20776"/>
          <a:stretch/>
        </p:blipFill>
        <p:spPr>
          <a:xfrm>
            <a:off x="5759280" y="304920"/>
            <a:ext cx="3384720" cy="6400800"/>
          </a:xfrm>
          <a:prstGeom prst="rect">
            <a:avLst/>
          </a:prstGeom>
          <a:ln w="0">
            <a:noFill/>
          </a:ln>
        </p:spPr>
      </p:pic>
      <p:sp>
        <p:nvSpPr>
          <p:cNvPr id="162" name=""/>
          <p:cNvSpPr/>
          <p:nvPr/>
        </p:nvSpPr>
        <p:spPr>
          <a:xfrm>
            <a:off x="402480" y="1076400"/>
            <a:ext cx="515772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ormat</a:t>
            </a:r>
            <a:endParaRPr b="0" lang="en-US" sz="3200" spc="-1" strike="noStrike">
              <a:solidFill>
                <a:srgbClr val="ffffff"/>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lide Design</a:t>
            </a:r>
            <a:endParaRPr b="0" lang="en-US" sz="3200" spc="-1" strike="noStrike">
              <a:solidFill>
                <a:srgbClr val="ffffff"/>
              </a:solidFill>
              <a:latin typeface="Times New Roman"/>
            </a:endParaRPr>
          </a:p>
          <a:p>
            <a:pPr lvl="1" marL="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hoose from availabl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      </a:t>
            </a:r>
            <a:r>
              <a:rPr b="0" lang="en-US" sz="3200" spc="-1" strike="noStrike">
                <a:solidFill>
                  <a:srgbClr val="ffff00"/>
                </a:solidFill>
                <a:latin typeface="Comic Sans MS"/>
              </a:rPr>
              <a:t>design templates</a:t>
            </a:r>
            <a:endParaRPr b="0" lang="en-US" sz="3200" spc="-1" strike="noStrike">
              <a:solidFill>
                <a:srgbClr val="ffffff"/>
              </a:solidFill>
              <a:latin typeface="Times New Roman"/>
            </a:endParaRPr>
          </a:p>
        </p:txBody>
      </p:sp>
      <p:grpSp>
        <p:nvGrpSpPr>
          <p:cNvPr id="163" name=""/>
          <p:cNvGrpSpPr/>
          <p:nvPr/>
        </p:nvGrpSpPr>
        <p:grpSpPr>
          <a:xfrm>
            <a:off x="838080" y="3657600"/>
            <a:ext cx="2756160" cy="3200400"/>
            <a:chOff x="838080" y="3657600"/>
            <a:chExt cx="2756160" cy="3200400"/>
          </a:xfrm>
        </p:grpSpPr>
        <p:pic>
          <p:nvPicPr>
            <p:cNvPr id="164" name="" descr=""/>
            <p:cNvPicPr/>
            <p:nvPr/>
          </p:nvPicPr>
          <p:blipFill>
            <a:blip r:embed="rId2"/>
            <a:srcRect l="17066" t="0" r="64790" b="71388"/>
            <a:stretch/>
          </p:blipFill>
          <p:spPr>
            <a:xfrm>
              <a:off x="895320" y="3657600"/>
              <a:ext cx="2698920" cy="3200400"/>
            </a:xfrm>
            <a:prstGeom prst="rect">
              <a:avLst/>
            </a:prstGeom>
            <a:ln w="0">
              <a:noFill/>
            </a:ln>
          </p:spPr>
        </p:pic>
        <p:sp>
          <p:nvSpPr>
            <p:cNvPr id="165" name=""/>
            <p:cNvSpPr/>
            <p:nvPr/>
          </p:nvSpPr>
          <p:spPr>
            <a:xfrm>
              <a:off x="838080" y="5318640"/>
              <a:ext cx="1937160" cy="3448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Slide Master Template</a:t>
            </a:r>
            <a:endParaRPr b="1" lang="en-US" sz="4400" spc="-1" strike="noStrike">
              <a:solidFill>
                <a:srgbClr val="f7cc17"/>
              </a:solidFill>
              <a:latin typeface="Arial"/>
            </a:endParaRPr>
          </a:p>
        </p:txBody>
      </p:sp>
      <p:pic>
        <p:nvPicPr>
          <p:cNvPr id="167" name="" descr=""/>
          <p:cNvPicPr/>
          <p:nvPr/>
        </p:nvPicPr>
        <p:blipFill>
          <a:blip r:embed="rId1"/>
          <a:srcRect l="0" t="8412" r="20721" b="12315"/>
          <a:stretch/>
        </p:blipFill>
        <p:spPr>
          <a:xfrm>
            <a:off x="2179800" y="1600200"/>
            <a:ext cx="5698800" cy="4495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Format Slide Master Text</a:t>
            </a:r>
            <a:endParaRPr b="1" lang="en-US" sz="4400" spc="-1" strike="noStrike">
              <a:solidFill>
                <a:srgbClr val="f7cc17"/>
              </a:solidFill>
              <a:latin typeface="Arial"/>
            </a:endParaRPr>
          </a:p>
        </p:txBody>
      </p:sp>
      <p:pic>
        <p:nvPicPr>
          <p:cNvPr id="169" name="" descr=""/>
          <p:cNvPicPr/>
          <p:nvPr/>
        </p:nvPicPr>
        <p:blipFill>
          <a:blip r:embed="rId1"/>
          <a:srcRect l="20370" t="21888" r="28705" b="24236"/>
          <a:stretch/>
        </p:blipFill>
        <p:spPr>
          <a:xfrm>
            <a:off x="685800" y="2779560"/>
            <a:ext cx="7010280" cy="4078440"/>
          </a:xfrm>
          <a:prstGeom prst="rect">
            <a:avLst/>
          </a:prstGeom>
          <a:ln w="0">
            <a:noFill/>
          </a:ln>
        </p:spPr>
      </p:pic>
      <p:sp>
        <p:nvSpPr>
          <p:cNvPr id="170" name=""/>
          <p:cNvSpPr/>
          <p:nvPr/>
        </p:nvSpPr>
        <p:spPr>
          <a:xfrm>
            <a:off x="62640" y="1176480"/>
            <a:ext cx="7716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ighlight each line of text</a:t>
            </a:r>
            <a:endParaRPr b="0" lang="en-US" sz="2800" spc="-1" strike="noStrike">
              <a:solidFill>
                <a:srgbClr val="ffffff"/>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rmat</a:t>
            </a:r>
            <a:endParaRPr b="0" lang="en-US" sz="2800" spc="-1" strike="noStrike">
              <a:solidFill>
                <a:srgbClr val="ffffff"/>
              </a:solidFill>
              <a:latin typeface="Times New Roman"/>
            </a:endParaRPr>
          </a:p>
          <a:p>
            <a:pPr lvl="1" marL="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nt/size/style/color/bullets &amp; number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Create Your Own Slide Design</a:t>
            </a:r>
            <a:endParaRPr b="1" lang="en-US" sz="4000" spc="-1" strike="noStrike">
              <a:solidFill>
                <a:srgbClr val="f7cc17"/>
              </a:solidFill>
              <a:latin typeface="Arial"/>
            </a:endParaRPr>
          </a:p>
        </p:txBody>
      </p:sp>
      <p:pic>
        <p:nvPicPr>
          <p:cNvPr id="172" name="" descr=""/>
          <p:cNvPicPr/>
          <p:nvPr/>
        </p:nvPicPr>
        <p:blipFill>
          <a:blip r:embed="rId1"/>
          <a:srcRect l="17092" t="0" r="64816" b="71379"/>
          <a:stretch/>
        </p:blipFill>
        <p:spPr>
          <a:xfrm>
            <a:off x="3805200" y="1600200"/>
            <a:ext cx="4894200" cy="4478400"/>
          </a:xfrm>
          <a:prstGeom prst="rect">
            <a:avLst/>
          </a:prstGeom>
          <a:ln w="0">
            <a:noFill/>
          </a:ln>
        </p:spPr>
      </p:pic>
      <p:sp>
        <p:nvSpPr>
          <p:cNvPr id="173" name=""/>
          <p:cNvSpPr/>
          <p:nvPr/>
        </p:nvSpPr>
        <p:spPr>
          <a:xfrm>
            <a:off x="449640" y="1625760"/>
            <a:ext cx="26568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ormat</a:t>
            </a:r>
            <a:endParaRPr b="0" lang="en-US" sz="3200" spc="-1" strike="noStrike">
              <a:solidFill>
                <a:srgbClr val="ffffff"/>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Backgroun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a:t>
            </a:r>
            <a:r>
              <a:rPr b="0" lang="en-US" sz="2000" spc="-1" strike="noStrike">
                <a:solidFill>
                  <a:srgbClr val="ffff00"/>
                </a:solidFill>
                <a:latin typeface="Comic Sans MS"/>
              </a:rPr>
              <a:t>next slide)</a:t>
            </a:r>
            <a:endParaRPr b="0" lang="en-US" sz="2000" spc="-1" strike="noStrike">
              <a:solidFill>
                <a:srgbClr val="ffffff"/>
              </a:solidFill>
              <a:latin typeface="Times New Roman"/>
            </a:endParaRPr>
          </a:p>
        </p:txBody>
      </p:sp>
      <p:sp>
        <p:nvSpPr>
          <p:cNvPr id="174" name=""/>
          <p:cNvSpPr/>
          <p:nvPr/>
        </p:nvSpPr>
        <p:spPr>
          <a:xfrm>
            <a:off x="3200400" y="4876920"/>
            <a:ext cx="4343400" cy="6094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Create Your Own Slide Design</a:t>
            </a:r>
            <a:endParaRPr b="1" lang="en-US" sz="4000" spc="-1" strike="noStrike">
              <a:solidFill>
                <a:srgbClr val="f7cc17"/>
              </a:solidFill>
              <a:latin typeface="Arial"/>
            </a:endParaRPr>
          </a:p>
        </p:txBody>
      </p:sp>
      <p:pic>
        <p:nvPicPr>
          <p:cNvPr id="176" name="" descr=""/>
          <p:cNvPicPr/>
          <p:nvPr/>
        </p:nvPicPr>
        <p:blipFill>
          <a:blip r:embed="rId1"/>
          <a:srcRect l="25003" t="15155" r="37041" b="20869"/>
          <a:stretch/>
        </p:blipFill>
        <p:spPr>
          <a:xfrm>
            <a:off x="4254480" y="1600200"/>
            <a:ext cx="4889520" cy="5057640"/>
          </a:xfrm>
          <a:prstGeom prst="rect">
            <a:avLst/>
          </a:prstGeom>
          <a:ln w="0">
            <a:noFill/>
          </a:ln>
        </p:spPr>
      </p:pic>
      <p:pic>
        <p:nvPicPr>
          <p:cNvPr id="177" name="" descr=""/>
          <p:cNvPicPr/>
          <p:nvPr/>
        </p:nvPicPr>
        <p:blipFill>
          <a:blip r:embed="rId2"/>
          <a:srcRect l="32327" t="35428" r="45140" b="25919"/>
          <a:stretch/>
        </p:blipFill>
        <p:spPr>
          <a:xfrm>
            <a:off x="533520" y="3429000"/>
            <a:ext cx="2311200" cy="2971800"/>
          </a:xfrm>
          <a:prstGeom prst="rect">
            <a:avLst/>
          </a:prstGeom>
          <a:ln w="0">
            <a:noFill/>
          </a:ln>
        </p:spPr>
      </p:pic>
      <p:sp>
        <p:nvSpPr>
          <p:cNvPr id="178" name=""/>
          <p:cNvSpPr/>
          <p:nvPr/>
        </p:nvSpPr>
        <p:spPr>
          <a:xfrm>
            <a:off x="433080" y="1216080"/>
            <a:ext cx="37450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lick dropdown</a:t>
            </a:r>
            <a:endParaRPr b="0" lang="en-US" sz="2800" spc="-1" strike="noStrike">
              <a:solidFill>
                <a:srgbClr val="ffffff"/>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ill Effects</a:t>
            </a:r>
            <a:endParaRPr b="0" lang="en-US" sz="2800" spc="-1" strike="noStrike">
              <a:solidFill>
                <a:srgbClr val="ffffff"/>
              </a:solidFill>
              <a:latin typeface="Times New Roman"/>
            </a:endParaRPr>
          </a:p>
          <a:p>
            <a:pPr lvl="1" marL="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Gradient/textures</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pattern/picture</a:t>
            </a:r>
            <a:endParaRPr b="0" lang="en-US" sz="2800" spc="-1" strike="noStrike">
              <a:solidFill>
                <a:srgbClr val="ffffff"/>
              </a:solidFill>
              <a:latin typeface="Times New Roman"/>
            </a:endParaRPr>
          </a:p>
        </p:txBody>
      </p:sp>
      <p:sp>
        <p:nvSpPr>
          <p:cNvPr id="179" name=""/>
          <p:cNvSpPr/>
          <p:nvPr/>
        </p:nvSpPr>
        <p:spPr>
          <a:xfrm>
            <a:off x="6384960" y="3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380880" y="5257800"/>
            <a:ext cx="2438640" cy="1600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Finish Slide Master</a:t>
            </a:r>
            <a:endParaRPr b="1" lang="en-US" sz="4400" spc="-1" strike="noStrike">
              <a:solidFill>
                <a:srgbClr val="f7cc17"/>
              </a:solidFill>
              <a:latin typeface="Arial"/>
            </a:endParaRPr>
          </a:p>
        </p:txBody>
      </p:sp>
      <p:pic>
        <p:nvPicPr>
          <p:cNvPr id="182" name="" descr=""/>
          <p:cNvPicPr/>
          <p:nvPr/>
        </p:nvPicPr>
        <p:blipFill>
          <a:blip r:embed="rId1"/>
          <a:srcRect l="26450" t="16469" r="49799" b="76936"/>
          <a:stretch/>
        </p:blipFill>
        <p:spPr>
          <a:xfrm>
            <a:off x="533520" y="5105520"/>
            <a:ext cx="7696080" cy="1407960"/>
          </a:xfrm>
          <a:prstGeom prst="rect">
            <a:avLst/>
          </a:prstGeom>
          <a:ln w="0">
            <a:noFill/>
          </a:ln>
        </p:spPr>
      </p:pic>
      <p:sp>
        <p:nvSpPr>
          <p:cNvPr id="183" name=""/>
          <p:cNvSpPr/>
          <p:nvPr/>
        </p:nvSpPr>
        <p:spPr>
          <a:xfrm>
            <a:off x="685800" y="1295280"/>
            <a:ext cx="7848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lide Master Toolbar</a:t>
            </a:r>
            <a:endParaRPr b="0" lang="en-US" sz="3200" spc="-1" strike="noStrike">
              <a:solidFill>
                <a:srgbClr val="ffffff"/>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lose Master View</a:t>
            </a:r>
            <a:endParaRPr b="0" lang="en-US" sz="3200" spc="-1" strike="noStrike">
              <a:solidFill>
                <a:srgbClr val="ffffff"/>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lide design will be applied to       presentation</a:t>
            </a:r>
            <a:endParaRPr b="0" lang="en-US" sz="3200" spc="-1" strike="noStrike">
              <a:solidFill>
                <a:srgbClr val="ffffff"/>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lide design will be saved under Slide          Design Templa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tep 5</a:t>
            </a:r>
            <a:br>
              <a:rPr sz="4000"/>
            </a:br>
            <a:r>
              <a:rPr b="1" lang="en-US" sz="4000" spc="-1" strike="noStrike">
                <a:solidFill>
                  <a:srgbClr val="f7cc17"/>
                </a:solidFill>
                <a:latin typeface="Arial"/>
              </a:rPr>
              <a:t>Title Slide</a:t>
            </a:r>
            <a:endParaRPr b="1" lang="en-US" sz="4000" spc="-1" strike="noStrike">
              <a:solidFill>
                <a:srgbClr val="f7cc17"/>
              </a:solidFill>
              <a:latin typeface="Arial"/>
            </a:endParaRPr>
          </a:p>
        </p:txBody>
      </p:sp>
      <p:sp>
        <p:nvSpPr>
          <p:cNvPr id="185" name="PlaceHolder 2"/>
          <p:cNvSpPr>
            <a:spLocks noGrp="1"/>
          </p:cNvSpPr>
          <p:nvPr>
            <p:ph/>
          </p:nvPr>
        </p:nvSpPr>
        <p:spPr>
          <a:xfrm>
            <a:off x="1143000" y="2205000"/>
            <a:ext cx="7772400" cy="389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be selecting the Title Slide layout for your first page.  This will include the title, the Author and you may add a picture, narration and/or sou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380880"/>
            <a:ext cx="64008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 </a:t>
            </a:r>
            <a:br>
              <a:rPr sz="4000"/>
            </a:br>
            <a:r>
              <a:rPr b="1" lang="en-US" sz="4000" spc="-1" strike="noStrike">
                <a:solidFill>
                  <a:srgbClr val="f7cc17"/>
                </a:solidFill>
                <a:latin typeface="Arial"/>
              </a:rPr>
              <a:t>Create Title Slide</a:t>
            </a:r>
            <a:endParaRPr b="1" lang="en-US" sz="4000" spc="-1" strike="noStrike">
              <a:solidFill>
                <a:srgbClr val="f7cc17"/>
              </a:solidFill>
              <a:latin typeface="Arial"/>
            </a:endParaRPr>
          </a:p>
        </p:txBody>
      </p:sp>
      <p:sp>
        <p:nvSpPr>
          <p:cNvPr id="187" name="PlaceHolder 2"/>
          <p:cNvSpPr>
            <a:spLocks noGrp="1"/>
          </p:cNvSpPr>
          <p:nvPr>
            <p:ph/>
          </p:nvPr>
        </p:nvSpPr>
        <p:spPr>
          <a:xfrm>
            <a:off x="1142640" y="1599840"/>
            <a:ext cx="6621480" cy="2195640"/>
          </a:xfrm>
          <a:prstGeom prst="rect">
            <a:avLst/>
          </a:prstGeom>
          <a:noFill/>
          <a:ln w="0">
            <a:noFill/>
          </a:ln>
        </p:spPr>
        <p:txBody>
          <a:bodyPr lIns="90000" rIns="90000" tIns="46800" bIns="46800" anchor="t">
            <a:normAutofit/>
          </a:bodyPr>
          <a:p>
            <a:pPr marL="343080" indent="-343080">
              <a:lnSpc>
                <a:spcPct val="8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ert / new slide</a:t>
            </a:r>
            <a:endParaRPr b="0" lang="en-US" sz="3200" spc="-1" strike="noStrike">
              <a:solidFill>
                <a:srgbClr val="ffffff"/>
              </a:solidFill>
              <a:latin typeface="Tahoma"/>
            </a:endParaRPr>
          </a:p>
          <a:p>
            <a:pPr marL="343080" indent="-343080">
              <a:lnSpc>
                <a:spcPct val="8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title slide layout</a:t>
            </a:r>
            <a:endParaRPr b="0" lang="en-US" sz="3200" spc="-1" strike="noStrike">
              <a:solidFill>
                <a:srgbClr val="ffffff"/>
              </a:solidFill>
              <a:latin typeface="Tahoma"/>
            </a:endParaRPr>
          </a:p>
          <a:p>
            <a:pPr marL="343080" indent="-343080">
              <a:lnSpc>
                <a:spcPct val="8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e title  and author in text box</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188" name=""/>
          <p:cNvGrpSpPr/>
          <p:nvPr/>
        </p:nvGrpSpPr>
        <p:grpSpPr>
          <a:xfrm>
            <a:off x="1371600" y="3809880"/>
            <a:ext cx="5867280" cy="2430720"/>
            <a:chOff x="1371600" y="3809880"/>
            <a:chExt cx="5867280" cy="2430720"/>
          </a:xfrm>
        </p:grpSpPr>
        <p:pic>
          <p:nvPicPr>
            <p:cNvPr id="189" name="" descr=""/>
            <p:cNvPicPr/>
            <p:nvPr/>
          </p:nvPicPr>
          <p:blipFill>
            <a:blip r:embed="rId1"/>
            <a:srcRect l="0" t="0" r="0" b="44182"/>
            <a:stretch/>
          </p:blipFill>
          <p:spPr>
            <a:xfrm>
              <a:off x="1371600" y="3809880"/>
              <a:ext cx="5867280" cy="2430720"/>
            </a:xfrm>
            <a:prstGeom prst="rect">
              <a:avLst/>
            </a:prstGeom>
            <a:ln w="0">
              <a:noFill/>
            </a:ln>
          </p:spPr>
        </p:pic>
        <p:sp>
          <p:nvSpPr>
            <p:cNvPr id="190" name=""/>
            <p:cNvSpPr/>
            <p:nvPr/>
          </p:nvSpPr>
          <p:spPr>
            <a:xfrm>
              <a:off x="2095920" y="3881520"/>
              <a:ext cx="869040" cy="430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500080" y="4383360"/>
              <a:ext cx="1593360" cy="10040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7cc17"/>
                </a:solidFill>
                <a:latin typeface="Arial"/>
              </a:rPr>
              <a:t>Add Picture To Title Slide</a:t>
            </a:r>
            <a:endParaRPr b="1" lang="en-US" sz="4000" spc="-1" strike="noStrike">
              <a:solidFill>
                <a:srgbClr val="f7cc17"/>
              </a:solidFill>
              <a:latin typeface="Arial"/>
            </a:endParaRPr>
          </a:p>
        </p:txBody>
      </p:sp>
      <p:sp>
        <p:nvSpPr>
          <p:cNvPr id="19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ert/picture/from file or clip art</a:t>
            </a:r>
            <a:endParaRPr b="0" lang="en-US" sz="32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t picture to slide – crop, siz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194" name=""/>
          <p:cNvGrpSpPr/>
          <p:nvPr/>
        </p:nvGrpSpPr>
        <p:grpSpPr>
          <a:xfrm>
            <a:off x="533520" y="2514600"/>
            <a:ext cx="6858000" cy="2971800"/>
            <a:chOff x="533520" y="2514600"/>
            <a:chExt cx="6858000" cy="2971800"/>
          </a:xfrm>
        </p:grpSpPr>
        <p:pic>
          <p:nvPicPr>
            <p:cNvPr id="195" name="" descr=""/>
            <p:cNvPicPr/>
            <p:nvPr/>
          </p:nvPicPr>
          <p:blipFill>
            <a:blip r:embed="rId1"/>
            <a:srcRect l="12038" t="5842" r="60980" b="76635"/>
            <a:stretch/>
          </p:blipFill>
          <p:spPr>
            <a:xfrm>
              <a:off x="838080" y="2514600"/>
              <a:ext cx="6400800" cy="2971800"/>
            </a:xfrm>
            <a:prstGeom prst="rect">
              <a:avLst/>
            </a:prstGeom>
            <a:ln w="0">
              <a:noFill/>
            </a:ln>
          </p:spPr>
        </p:pic>
        <p:sp>
          <p:nvSpPr>
            <p:cNvPr id="196" name=""/>
            <p:cNvSpPr/>
            <p:nvPr/>
          </p:nvSpPr>
          <p:spPr>
            <a:xfrm>
              <a:off x="533520" y="3429000"/>
              <a:ext cx="6858000" cy="1295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Add Narration To Title Slide</a:t>
            </a:r>
            <a:endParaRPr b="1" lang="en-US" sz="4400" spc="-1" strike="noStrike">
              <a:solidFill>
                <a:srgbClr val="f7cc17"/>
              </a:solidFill>
              <a:latin typeface="Arial"/>
            </a:endParaRPr>
          </a:p>
        </p:txBody>
      </p:sp>
      <p:sp>
        <p:nvSpPr>
          <p:cNvPr id="198" name="PlaceHolder 2"/>
          <p:cNvSpPr>
            <a:spLocks noGrp="1"/>
          </p:cNvSpPr>
          <p:nvPr>
            <p:ph/>
          </p:nvPr>
        </p:nvSpPr>
        <p:spPr>
          <a:xfrm>
            <a:off x="456840" y="1143000"/>
            <a:ext cx="4876920" cy="464832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or external microphone is needed</a:t>
            </a:r>
            <a:endParaRPr b="0" lang="en-US" sz="3200" spc="-1" strike="noStrike">
              <a:solidFill>
                <a:srgbClr val="ffffff"/>
              </a:solidFill>
              <a:latin typeface="Tahoma"/>
            </a:endParaRPr>
          </a:p>
          <a:p>
            <a:pPr marL="343080" indent="-34308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lide show/ record narration/ current slide/ dictate narration/ end show to stop recording </a:t>
            </a:r>
            <a:r>
              <a:rPr b="0" lang="en-US" sz="2000" spc="-1" strike="noStrike">
                <a:solidFill>
                  <a:srgbClr val="ffffff"/>
                </a:solidFill>
                <a:latin typeface="Tahoma"/>
              </a:rPr>
              <a:t>(right click/end show)</a:t>
            </a: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on’t save timing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199" name=""/>
          <p:cNvGrpSpPr/>
          <p:nvPr/>
        </p:nvGrpSpPr>
        <p:grpSpPr>
          <a:xfrm>
            <a:off x="5562720" y="2286000"/>
            <a:ext cx="4952880" cy="3733920"/>
            <a:chOff x="5562720" y="2286000"/>
            <a:chExt cx="4952880" cy="3733920"/>
          </a:xfrm>
        </p:grpSpPr>
        <p:pic>
          <p:nvPicPr>
            <p:cNvPr id="200" name="" descr=""/>
            <p:cNvPicPr/>
            <p:nvPr/>
          </p:nvPicPr>
          <p:blipFill>
            <a:blip r:embed="rId1"/>
            <a:srcRect l="15834" t="0" r="26416" b="39142"/>
            <a:stretch/>
          </p:blipFill>
          <p:spPr>
            <a:xfrm>
              <a:off x="5562720" y="2286000"/>
              <a:ext cx="4952880" cy="3733920"/>
            </a:xfrm>
            <a:prstGeom prst="rect">
              <a:avLst/>
            </a:prstGeom>
            <a:ln w="0">
              <a:noFill/>
            </a:ln>
          </p:spPr>
        </p:pic>
        <p:sp>
          <p:nvSpPr>
            <p:cNvPr id="201" name=""/>
            <p:cNvSpPr/>
            <p:nvPr/>
          </p:nvSpPr>
          <p:spPr>
            <a:xfrm>
              <a:off x="6869520" y="2362320"/>
              <a:ext cx="1788120" cy="10666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98"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I Put On My Clothes</a:t>
            </a:r>
            <a:endParaRPr b="1" lang="en-US" sz="4400" spc="-1" strike="noStrike">
              <a:solidFill>
                <a:srgbClr val="f7cc17"/>
              </a:solidFill>
              <a:latin typeface="Arial"/>
            </a:endParaRPr>
          </a:p>
        </p:txBody>
      </p:sp>
      <p:sp>
        <p:nvSpPr>
          <p:cNvPr id="203" name="PlaceHolder 2"/>
          <p:cNvSpPr>
            <a:spLocks noGrp="1"/>
          </p:cNvSpPr>
          <p:nvPr>
            <p:ph type="subTitle"/>
          </p:nvPr>
        </p:nvSpPr>
        <p:spPr>
          <a:xfrm>
            <a:off x="1371600" y="1143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Cindy Nankee</a:t>
            </a:r>
            <a:endParaRPr b="0" lang="en-US" sz="3200" spc="-1" strike="noStrike">
              <a:solidFill>
                <a:srgbClr val="ffffff"/>
              </a:solidFill>
              <a:latin typeface="Tahoma"/>
            </a:endParaRPr>
          </a:p>
        </p:txBody>
      </p:sp>
      <p:grpSp>
        <p:nvGrpSpPr>
          <p:cNvPr id="204" name=""/>
          <p:cNvGrpSpPr/>
          <p:nvPr/>
        </p:nvGrpSpPr>
        <p:grpSpPr>
          <a:xfrm>
            <a:off x="853200" y="1729080"/>
            <a:ext cx="7858440" cy="4075560"/>
            <a:chOff x="853200" y="1729080"/>
            <a:chExt cx="7858440" cy="4075560"/>
          </a:xfrm>
        </p:grpSpPr>
        <p:grpSp>
          <p:nvGrpSpPr>
            <p:cNvPr id="205" name=""/>
            <p:cNvGrpSpPr/>
            <p:nvPr/>
          </p:nvGrpSpPr>
          <p:grpSpPr>
            <a:xfrm>
              <a:off x="853200" y="1729080"/>
              <a:ext cx="7858440" cy="4075560"/>
              <a:chOff x="853200" y="1729080"/>
              <a:chExt cx="7858440" cy="4075560"/>
            </a:xfrm>
          </p:grpSpPr>
          <p:grpSp>
            <p:nvGrpSpPr>
              <p:cNvPr id="206" name=""/>
              <p:cNvGrpSpPr/>
              <p:nvPr/>
            </p:nvGrpSpPr>
            <p:grpSpPr>
              <a:xfrm>
                <a:off x="4328640" y="2244240"/>
                <a:ext cx="2369520" cy="3558600"/>
                <a:chOff x="4328640" y="2244240"/>
                <a:chExt cx="2369520" cy="3558600"/>
              </a:xfrm>
            </p:grpSpPr>
            <p:sp>
              <p:nvSpPr>
                <p:cNvPr id="207" name=""/>
                <p:cNvSpPr/>
                <p:nvPr/>
              </p:nvSpPr>
              <p:spPr>
                <a:xfrm flipH="1" rot="20420400">
                  <a:off x="5398560" y="3368880"/>
                  <a:ext cx="61560" cy="351000"/>
                </a:xfrm>
                <a:custGeom>
                  <a:avLst/>
                  <a:gdLst/>
                  <a:ahLst/>
                  <a:rect l="l" t="t" r="r" b="b"/>
                  <a:pathLst>
                    <a:path w="357" h="1500">
                      <a:moveTo>
                        <a:pt x="300" y="0"/>
                      </a:moveTo>
                      <a:cubicBezTo>
                        <a:pt x="357" y="287"/>
                        <a:pt x="339" y="129"/>
                        <a:pt x="300" y="600"/>
                      </a:cubicBezTo>
                      <a:cubicBezTo>
                        <a:pt x="246" y="1244"/>
                        <a:pt x="306" y="664"/>
                        <a:pt x="240" y="960"/>
                      </a:cubicBezTo>
                      <a:cubicBezTo>
                        <a:pt x="190" y="1186"/>
                        <a:pt x="171" y="1329"/>
                        <a:pt x="0" y="150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8" name=""/>
                <p:cNvGrpSpPr/>
                <p:nvPr/>
              </p:nvGrpSpPr>
              <p:grpSpPr>
                <a:xfrm>
                  <a:off x="4328640" y="2244240"/>
                  <a:ext cx="2369520" cy="3558600"/>
                  <a:chOff x="4328640" y="2244240"/>
                  <a:chExt cx="2369520" cy="3558600"/>
                </a:xfrm>
              </p:grpSpPr>
              <p:grpSp>
                <p:nvGrpSpPr>
                  <p:cNvPr id="209" name=""/>
                  <p:cNvGrpSpPr/>
                  <p:nvPr/>
                </p:nvGrpSpPr>
                <p:grpSpPr>
                  <a:xfrm>
                    <a:off x="4328640" y="2244240"/>
                    <a:ext cx="2252520" cy="3485880"/>
                    <a:chOff x="4328640" y="2244240"/>
                    <a:chExt cx="2252520" cy="3485880"/>
                  </a:xfrm>
                </p:grpSpPr>
                <p:grpSp>
                  <p:nvGrpSpPr>
                    <p:cNvPr id="210" name=""/>
                    <p:cNvGrpSpPr/>
                    <p:nvPr/>
                  </p:nvGrpSpPr>
                  <p:grpSpPr>
                    <a:xfrm>
                      <a:off x="4328640" y="2244240"/>
                      <a:ext cx="1182600" cy="1213560"/>
                      <a:chOff x="4328640" y="2244240"/>
                      <a:chExt cx="1182600" cy="1213560"/>
                    </a:xfrm>
                  </p:grpSpPr>
                  <p:grpSp>
                    <p:nvGrpSpPr>
                      <p:cNvPr id="211" name=""/>
                      <p:cNvGrpSpPr/>
                      <p:nvPr/>
                    </p:nvGrpSpPr>
                    <p:grpSpPr>
                      <a:xfrm>
                        <a:off x="4490280" y="2337120"/>
                        <a:ext cx="867960" cy="1007280"/>
                        <a:chOff x="4490280" y="2337120"/>
                        <a:chExt cx="867960" cy="1007280"/>
                      </a:xfrm>
                    </p:grpSpPr>
                    <p:sp>
                      <p:nvSpPr>
                        <p:cNvPr id="212" name=""/>
                        <p:cNvSpPr/>
                        <p:nvPr/>
                      </p:nvSpPr>
                      <p:spPr>
                        <a:xfrm rot="20419800">
                          <a:off x="4614840" y="2416320"/>
                          <a:ext cx="618120" cy="84888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3" name=""/>
                        <p:cNvGrpSpPr/>
                        <p:nvPr/>
                      </p:nvGrpSpPr>
                      <p:grpSpPr>
                        <a:xfrm>
                          <a:off x="4735800" y="2678400"/>
                          <a:ext cx="146520" cy="207360"/>
                          <a:chOff x="4735800" y="2678400"/>
                          <a:chExt cx="146520" cy="207360"/>
                        </a:xfrm>
                      </p:grpSpPr>
                      <p:sp>
                        <p:nvSpPr>
                          <p:cNvPr id="214" name=""/>
                          <p:cNvSpPr/>
                          <p:nvPr/>
                        </p:nvSpPr>
                        <p:spPr>
                          <a:xfrm rot="20419800">
                            <a:off x="4764960" y="2687400"/>
                            <a:ext cx="88200" cy="18864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rot="20419800">
                            <a:off x="4780440" y="2779200"/>
                            <a:ext cx="88200" cy="94320"/>
                          </a:xfrm>
                          <a:prstGeom prst="ellipse">
                            <a:avLst/>
                          </a:prstGeom>
                          <a:solidFill>
                            <a:srgbClr val="4a8ac4"/>
                          </a:solidFill>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216" name=""/>
                        <p:cNvGrpSpPr/>
                        <p:nvPr/>
                      </p:nvGrpSpPr>
                      <p:grpSpPr>
                        <a:xfrm>
                          <a:off x="4902120" y="2619000"/>
                          <a:ext cx="146880" cy="207360"/>
                          <a:chOff x="4902120" y="2619000"/>
                          <a:chExt cx="146880" cy="207360"/>
                        </a:xfrm>
                      </p:grpSpPr>
                      <p:sp>
                        <p:nvSpPr>
                          <p:cNvPr id="217" name=""/>
                          <p:cNvSpPr/>
                          <p:nvPr/>
                        </p:nvSpPr>
                        <p:spPr>
                          <a:xfrm rot="20419800">
                            <a:off x="4931280" y="2628000"/>
                            <a:ext cx="88200" cy="18864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rot="20419800">
                            <a:off x="4947120" y="2719800"/>
                            <a:ext cx="88200" cy="94320"/>
                          </a:xfrm>
                          <a:prstGeom prst="ellipse">
                            <a:avLst/>
                          </a:prstGeom>
                          <a:solidFill>
                            <a:srgbClr val="4a8ac4"/>
                          </a:solidFill>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219" name=""/>
                        <p:cNvSpPr/>
                        <p:nvPr/>
                      </p:nvSpPr>
                      <p:spPr>
                        <a:xfrm rot="20419800">
                          <a:off x="4854600" y="2553840"/>
                          <a:ext cx="165600" cy="58680"/>
                        </a:xfrm>
                        <a:custGeom>
                          <a:avLst/>
                          <a:gdLst/>
                          <a:ahLst/>
                          <a:rect l="l" t="t" r="r" b="b"/>
                          <a:pathLst>
                            <a:path w="540" h="180">
                              <a:moveTo>
                                <a:pt x="0" y="180"/>
                              </a:moveTo>
                              <a:cubicBezTo>
                                <a:pt x="10" y="150"/>
                                <a:pt x="10" y="115"/>
                                <a:pt x="30" y="90"/>
                              </a:cubicBezTo>
                              <a:cubicBezTo>
                                <a:pt x="72" y="37"/>
                                <a:pt x="151" y="20"/>
                                <a:pt x="210" y="0"/>
                              </a:cubicBezTo>
                              <a:cubicBezTo>
                                <a:pt x="267" y="11"/>
                                <a:pt x="389" y="29"/>
                                <a:pt x="450" y="60"/>
                              </a:cubicBezTo>
                              <a:cubicBezTo>
                                <a:pt x="482" y="76"/>
                                <a:pt x="540" y="120"/>
                                <a:pt x="540" y="120"/>
                              </a:cubicBezTo>
                            </a:path>
                          </a:pathLst>
                        </a:custGeom>
                        <a:solidFill>
                          <a:srgbClr val="4a8ac4"/>
                        </a:solidFill>
                        <a:ln w="38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 name=""/>
                        <p:cNvSpPr/>
                        <p:nvPr/>
                      </p:nvSpPr>
                      <p:spPr>
                        <a:xfrm flipH="1" rot="20419800">
                          <a:off x="4683240" y="2648520"/>
                          <a:ext cx="165600" cy="58680"/>
                        </a:xfrm>
                        <a:custGeom>
                          <a:avLst/>
                          <a:gdLst/>
                          <a:ahLst/>
                          <a:rect l="l" t="t" r="r" b="b"/>
                          <a:pathLst>
                            <a:path w="540" h="180">
                              <a:moveTo>
                                <a:pt x="0" y="180"/>
                              </a:moveTo>
                              <a:cubicBezTo>
                                <a:pt x="10" y="150"/>
                                <a:pt x="10" y="115"/>
                                <a:pt x="30" y="90"/>
                              </a:cubicBezTo>
                              <a:cubicBezTo>
                                <a:pt x="72" y="37"/>
                                <a:pt x="151" y="20"/>
                                <a:pt x="210" y="0"/>
                              </a:cubicBezTo>
                              <a:cubicBezTo>
                                <a:pt x="267" y="11"/>
                                <a:pt x="389" y="29"/>
                                <a:pt x="450" y="60"/>
                              </a:cubicBezTo>
                              <a:cubicBezTo>
                                <a:pt x="482" y="76"/>
                                <a:pt x="540" y="120"/>
                                <a:pt x="540" y="120"/>
                              </a:cubicBezTo>
                            </a:path>
                          </a:pathLst>
                        </a:custGeom>
                        <a:solidFill>
                          <a:srgbClr val="4a8ac4"/>
                        </a:solidFill>
                        <a:ln w="38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1" name=""/>
                        <p:cNvSpPr/>
                        <p:nvPr/>
                      </p:nvSpPr>
                      <p:spPr>
                        <a:xfrm rot="20419800">
                          <a:off x="4895640" y="2804400"/>
                          <a:ext cx="36720" cy="137520"/>
                        </a:xfrm>
                        <a:custGeom>
                          <a:avLst/>
                          <a:gdLst/>
                          <a:ahLst/>
                          <a:rect l="l" t="t" r="r" b="b"/>
                          <a:pathLst>
                            <a:path w="120" h="420">
                              <a:moveTo>
                                <a:pt x="120" y="0"/>
                              </a:moveTo>
                              <a:cubicBezTo>
                                <a:pt x="110" y="83"/>
                                <a:pt x="106" y="238"/>
                                <a:pt x="60" y="330"/>
                              </a:cubicBezTo>
                              <a:cubicBezTo>
                                <a:pt x="44" y="362"/>
                                <a:pt x="0" y="420"/>
                                <a:pt x="0" y="42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rot="20419800">
                          <a:off x="4908240" y="3043800"/>
                          <a:ext cx="239040" cy="78480"/>
                        </a:xfrm>
                        <a:custGeom>
                          <a:avLst/>
                          <a:gdLst/>
                          <a:ahLst/>
                          <a:rect l="l" t="t" r="r" b="b"/>
                          <a:pathLst>
                            <a:path w="780" h="240">
                              <a:moveTo>
                                <a:pt x="0" y="0"/>
                              </a:moveTo>
                              <a:cubicBezTo>
                                <a:pt x="20" y="30"/>
                                <a:pt x="35" y="65"/>
                                <a:pt x="60" y="90"/>
                              </a:cubicBezTo>
                              <a:cubicBezTo>
                                <a:pt x="158" y="188"/>
                                <a:pt x="320" y="208"/>
                                <a:pt x="450" y="240"/>
                              </a:cubicBezTo>
                              <a:cubicBezTo>
                                <a:pt x="530" y="230"/>
                                <a:pt x="615" y="240"/>
                                <a:pt x="690" y="210"/>
                              </a:cubicBezTo>
                              <a:cubicBezTo>
                                <a:pt x="745" y="188"/>
                                <a:pt x="780" y="51"/>
                                <a:pt x="780" y="0"/>
                              </a:cubicBezTo>
                            </a:path>
                          </a:pathLst>
                        </a:custGeom>
                        <a:solidFill>
                          <a:srgbClr val="4a8ac4"/>
                        </a:solidFill>
                        <a:ln w="381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grpSp>
                  <p:sp>
                    <p:nvSpPr>
                      <p:cNvPr id="223" name=""/>
                      <p:cNvSpPr/>
                      <p:nvPr/>
                    </p:nvSpPr>
                    <p:spPr>
                      <a:xfrm rot="20419800">
                        <a:off x="4464000" y="2369520"/>
                        <a:ext cx="911880" cy="962640"/>
                      </a:xfrm>
                      <a:custGeom>
                        <a:avLst/>
                        <a:gdLst/>
                        <a:ahLst/>
                        <a:rect l="l" t="t" r="r" b="b"/>
                        <a:pathLst>
                          <a:path w="2975" h="2940">
                            <a:moveTo>
                              <a:pt x="1415" y="330"/>
                            </a:moveTo>
                            <a:cubicBezTo>
                              <a:pt x="1445" y="320"/>
                              <a:pt x="1491" y="272"/>
                              <a:pt x="1505" y="300"/>
                            </a:cubicBezTo>
                            <a:cubicBezTo>
                              <a:pt x="1521" y="332"/>
                              <a:pt x="1481" y="390"/>
                              <a:pt x="1445" y="390"/>
                            </a:cubicBezTo>
                            <a:cubicBezTo>
                              <a:pt x="1409" y="390"/>
                              <a:pt x="1405" y="330"/>
                              <a:pt x="1385" y="300"/>
                            </a:cubicBezTo>
                            <a:cubicBezTo>
                              <a:pt x="1355" y="320"/>
                              <a:pt x="1331" y="354"/>
                              <a:pt x="1295" y="360"/>
                            </a:cubicBezTo>
                            <a:cubicBezTo>
                              <a:pt x="1264" y="365"/>
                              <a:pt x="1232" y="314"/>
                              <a:pt x="1205" y="330"/>
                            </a:cubicBezTo>
                            <a:cubicBezTo>
                              <a:pt x="1174" y="349"/>
                              <a:pt x="1129" y="499"/>
                              <a:pt x="1115" y="540"/>
                            </a:cubicBezTo>
                            <a:cubicBezTo>
                              <a:pt x="1105" y="510"/>
                              <a:pt x="1117" y="450"/>
                              <a:pt x="1085" y="450"/>
                            </a:cubicBezTo>
                            <a:cubicBezTo>
                              <a:pt x="990" y="450"/>
                              <a:pt x="815" y="540"/>
                              <a:pt x="815" y="540"/>
                            </a:cubicBezTo>
                            <a:cubicBezTo>
                              <a:pt x="735" y="780"/>
                              <a:pt x="835" y="540"/>
                              <a:pt x="755" y="540"/>
                            </a:cubicBezTo>
                            <a:cubicBezTo>
                              <a:pt x="713" y="540"/>
                              <a:pt x="695" y="600"/>
                              <a:pt x="665" y="630"/>
                            </a:cubicBezTo>
                            <a:cubicBezTo>
                              <a:pt x="655" y="660"/>
                              <a:pt x="646" y="690"/>
                              <a:pt x="635" y="720"/>
                            </a:cubicBezTo>
                            <a:cubicBezTo>
                              <a:pt x="616" y="770"/>
                              <a:pt x="593" y="819"/>
                              <a:pt x="575" y="870"/>
                            </a:cubicBezTo>
                            <a:cubicBezTo>
                              <a:pt x="458" y="1198"/>
                              <a:pt x="544" y="1052"/>
                              <a:pt x="425" y="1230"/>
                            </a:cubicBezTo>
                            <a:cubicBezTo>
                              <a:pt x="405" y="1310"/>
                              <a:pt x="381" y="1389"/>
                              <a:pt x="365" y="1470"/>
                            </a:cubicBezTo>
                            <a:cubicBezTo>
                              <a:pt x="345" y="1570"/>
                              <a:pt x="305" y="1770"/>
                              <a:pt x="305" y="1770"/>
                            </a:cubicBezTo>
                            <a:cubicBezTo>
                              <a:pt x="315" y="1920"/>
                              <a:pt x="323" y="2070"/>
                              <a:pt x="335" y="2220"/>
                            </a:cubicBezTo>
                            <a:cubicBezTo>
                              <a:pt x="343" y="2320"/>
                              <a:pt x="372" y="2420"/>
                              <a:pt x="365" y="2520"/>
                            </a:cubicBezTo>
                            <a:cubicBezTo>
                              <a:pt x="361" y="2574"/>
                              <a:pt x="346" y="2635"/>
                              <a:pt x="305" y="2670"/>
                            </a:cubicBezTo>
                            <a:cubicBezTo>
                              <a:pt x="257" y="2712"/>
                              <a:pt x="125" y="2730"/>
                              <a:pt x="125" y="2730"/>
                            </a:cubicBezTo>
                            <a:cubicBezTo>
                              <a:pt x="95" y="2760"/>
                              <a:pt x="0" y="2796"/>
                              <a:pt x="35" y="2820"/>
                            </a:cubicBezTo>
                            <a:cubicBezTo>
                              <a:pt x="86" y="2854"/>
                              <a:pt x="166" y="2825"/>
                              <a:pt x="215" y="2790"/>
                            </a:cubicBezTo>
                            <a:cubicBezTo>
                              <a:pt x="249" y="2766"/>
                              <a:pt x="235" y="2710"/>
                              <a:pt x="245" y="2670"/>
                            </a:cubicBezTo>
                            <a:cubicBezTo>
                              <a:pt x="235" y="2630"/>
                              <a:pt x="252" y="2568"/>
                              <a:pt x="215" y="2550"/>
                            </a:cubicBezTo>
                            <a:cubicBezTo>
                              <a:pt x="169" y="2527"/>
                              <a:pt x="14" y="2580"/>
                              <a:pt x="65" y="2580"/>
                            </a:cubicBezTo>
                            <a:cubicBezTo>
                              <a:pt x="126" y="2580"/>
                              <a:pt x="185" y="2560"/>
                              <a:pt x="245" y="2550"/>
                            </a:cubicBezTo>
                            <a:cubicBezTo>
                              <a:pt x="363" y="2373"/>
                              <a:pt x="361" y="2274"/>
                              <a:pt x="245" y="2100"/>
                            </a:cubicBezTo>
                            <a:cubicBezTo>
                              <a:pt x="295" y="2090"/>
                              <a:pt x="379" y="2118"/>
                              <a:pt x="395" y="2070"/>
                            </a:cubicBezTo>
                            <a:cubicBezTo>
                              <a:pt x="489" y="1789"/>
                              <a:pt x="415" y="1774"/>
                              <a:pt x="275" y="1680"/>
                            </a:cubicBezTo>
                            <a:cubicBezTo>
                              <a:pt x="305" y="1670"/>
                              <a:pt x="347" y="1676"/>
                              <a:pt x="365" y="1650"/>
                            </a:cubicBezTo>
                            <a:cubicBezTo>
                              <a:pt x="393" y="1611"/>
                              <a:pt x="439" y="1414"/>
                              <a:pt x="455" y="1350"/>
                            </a:cubicBezTo>
                            <a:cubicBezTo>
                              <a:pt x="445" y="1310"/>
                              <a:pt x="460" y="1251"/>
                              <a:pt x="425" y="1230"/>
                            </a:cubicBezTo>
                            <a:cubicBezTo>
                              <a:pt x="390" y="1209"/>
                              <a:pt x="264" y="1260"/>
                              <a:pt x="305" y="1260"/>
                            </a:cubicBezTo>
                            <a:cubicBezTo>
                              <a:pt x="377" y="1260"/>
                              <a:pt x="474" y="1224"/>
                              <a:pt x="545" y="1200"/>
                            </a:cubicBezTo>
                            <a:cubicBezTo>
                              <a:pt x="585" y="1160"/>
                              <a:pt x="645" y="1133"/>
                              <a:pt x="665" y="1080"/>
                            </a:cubicBezTo>
                            <a:cubicBezTo>
                              <a:pt x="708" y="966"/>
                              <a:pt x="695" y="838"/>
                              <a:pt x="725" y="720"/>
                            </a:cubicBezTo>
                            <a:cubicBezTo>
                              <a:pt x="736" y="677"/>
                              <a:pt x="765" y="640"/>
                              <a:pt x="785" y="600"/>
                            </a:cubicBezTo>
                            <a:cubicBezTo>
                              <a:pt x="765" y="570"/>
                              <a:pt x="758" y="523"/>
                              <a:pt x="725" y="510"/>
                            </a:cubicBezTo>
                            <a:cubicBezTo>
                              <a:pt x="696" y="498"/>
                              <a:pt x="603" y="540"/>
                              <a:pt x="635" y="540"/>
                            </a:cubicBezTo>
                            <a:cubicBezTo>
                              <a:pt x="716" y="540"/>
                              <a:pt x="795" y="520"/>
                              <a:pt x="875" y="510"/>
                            </a:cubicBezTo>
                            <a:cubicBezTo>
                              <a:pt x="905" y="500"/>
                              <a:pt x="934" y="487"/>
                              <a:pt x="965" y="480"/>
                            </a:cubicBezTo>
                            <a:cubicBezTo>
                              <a:pt x="1024" y="467"/>
                              <a:pt x="1096" y="485"/>
                              <a:pt x="1145" y="450"/>
                            </a:cubicBezTo>
                            <a:cubicBezTo>
                              <a:pt x="1179" y="426"/>
                              <a:pt x="1149" y="362"/>
                              <a:pt x="1175" y="330"/>
                            </a:cubicBezTo>
                            <a:cubicBezTo>
                              <a:pt x="1195" y="305"/>
                              <a:pt x="1234" y="306"/>
                              <a:pt x="1265" y="300"/>
                            </a:cubicBezTo>
                            <a:cubicBezTo>
                              <a:pt x="1334" y="286"/>
                              <a:pt x="1405" y="280"/>
                              <a:pt x="1475" y="270"/>
                            </a:cubicBezTo>
                            <a:cubicBezTo>
                              <a:pt x="1515" y="290"/>
                              <a:pt x="1550" y="326"/>
                              <a:pt x="1595" y="330"/>
                            </a:cubicBezTo>
                            <a:cubicBezTo>
                              <a:pt x="1675" y="337"/>
                              <a:pt x="1756" y="283"/>
                              <a:pt x="1835" y="300"/>
                            </a:cubicBezTo>
                            <a:cubicBezTo>
                              <a:pt x="1866" y="307"/>
                              <a:pt x="1845" y="365"/>
                              <a:pt x="1865" y="390"/>
                            </a:cubicBezTo>
                            <a:cubicBezTo>
                              <a:pt x="1888" y="418"/>
                              <a:pt x="1925" y="430"/>
                              <a:pt x="1955" y="450"/>
                            </a:cubicBezTo>
                            <a:cubicBezTo>
                              <a:pt x="1887" y="178"/>
                              <a:pt x="1932" y="422"/>
                              <a:pt x="2015" y="450"/>
                            </a:cubicBezTo>
                            <a:cubicBezTo>
                              <a:pt x="2049" y="461"/>
                              <a:pt x="2075" y="410"/>
                              <a:pt x="2105" y="390"/>
                            </a:cubicBezTo>
                            <a:cubicBezTo>
                              <a:pt x="2165" y="420"/>
                              <a:pt x="2231" y="440"/>
                              <a:pt x="2285" y="480"/>
                            </a:cubicBezTo>
                            <a:cubicBezTo>
                              <a:pt x="2348" y="528"/>
                              <a:pt x="2346" y="596"/>
                              <a:pt x="2375" y="660"/>
                            </a:cubicBezTo>
                            <a:cubicBezTo>
                              <a:pt x="2412" y="741"/>
                              <a:pt x="2455" y="820"/>
                              <a:pt x="2495" y="900"/>
                            </a:cubicBezTo>
                            <a:cubicBezTo>
                              <a:pt x="2514" y="938"/>
                              <a:pt x="2559" y="957"/>
                              <a:pt x="2585" y="990"/>
                            </a:cubicBezTo>
                            <a:cubicBezTo>
                              <a:pt x="2629" y="1047"/>
                              <a:pt x="2705" y="1170"/>
                              <a:pt x="2705" y="1170"/>
                            </a:cubicBezTo>
                            <a:cubicBezTo>
                              <a:pt x="2725" y="1270"/>
                              <a:pt x="2765" y="1368"/>
                              <a:pt x="2765" y="1470"/>
                            </a:cubicBezTo>
                            <a:cubicBezTo>
                              <a:pt x="2765" y="1506"/>
                              <a:pt x="2721" y="1528"/>
                              <a:pt x="2705" y="1560"/>
                            </a:cubicBezTo>
                            <a:cubicBezTo>
                              <a:pt x="2691" y="1588"/>
                              <a:pt x="2685" y="1620"/>
                              <a:pt x="2675" y="1650"/>
                            </a:cubicBezTo>
                            <a:cubicBezTo>
                              <a:pt x="2695" y="1720"/>
                              <a:pt x="2698" y="1798"/>
                              <a:pt x="2735" y="1860"/>
                            </a:cubicBezTo>
                            <a:cubicBezTo>
                              <a:pt x="2780" y="1936"/>
                              <a:pt x="2966" y="1987"/>
                              <a:pt x="2765" y="1920"/>
                            </a:cubicBezTo>
                            <a:cubicBezTo>
                              <a:pt x="2735" y="1960"/>
                              <a:pt x="2684" y="1991"/>
                              <a:pt x="2675" y="2040"/>
                            </a:cubicBezTo>
                            <a:cubicBezTo>
                              <a:pt x="2635" y="2261"/>
                              <a:pt x="2800" y="2372"/>
                              <a:pt x="2975" y="2430"/>
                            </a:cubicBezTo>
                            <a:cubicBezTo>
                              <a:pt x="2945" y="2440"/>
                              <a:pt x="2910" y="2440"/>
                              <a:pt x="2885" y="2460"/>
                            </a:cubicBezTo>
                            <a:cubicBezTo>
                              <a:pt x="2820" y="2512"/>
                              <a:pt x="2813" y="2598"/>
                              <a:pt x="2795" y="2670"/>
                            </a:cubicBezTo>
                            <a:cubicBezTo>
                              <a:pt x="2815" y="2730"/>
                              <a:pt x="2855" y="2787"/>
                              <a:pt x="2855" y="2850"/>
                            </a:cubicBezTo>
                            <a:cubicBezTo>
                              <a:pt x="2855" y="2886"/>
                              <a:pt x="2770" y="2785"/>
                              <a:pt x="2795" y="2760"/>
                            </a:cubicBezTo>
                            <a:cubicBezTo>
                              <a:pt x="2820" y="2735"/>
                              <a:pt x="2855" y="2800"/>
                              <a:pt x="2885" y="2820"/>
                            </a:cubicBezTo>
                            <a:cubicBezTo>
                              <a:pt x="2917" y="2626"/>
                              <a:pt x="2935" y="2566"/>
                              <a:pt x="2825" y="2400"/>
                            </a:cubicBezTo>
                            <a:cubicBezTo>
                              <a:pt x="2795" y="2410"/>
                              <a:pt x="2735" y="2398"/>
                              <a:pt x="2735" y="2430"/>
                            </a:cubicBezTo>
                            <a:cubicBezTo>
                              <a:pt x="2735" y="2466"/>
                              <a:pt x="2794" y="2509"/>
                              <a:pt x="2825" y="2490"/>
                            </a:cubicBezTo>
                            <a:cubicBezTo>
                              <a:pt x="2871" y="2462"/>
                              <a:pt x="2865" y="2390"/>
                              <a:pt x="2885" y="2340"/>
                            </a:cubicBezTo>
                            <a:cubicBezTo>
                              <a:pt x="2875" y="2235"/>
                              <a:pt x="2886" y="1957"/>
                              <a:pt x="2765" y="1860"/>
                            </a:cubicBezTo>
                            <a:cubicBezTo>
                              <a:pt x="2740" y="1840"/>
                              <a:pt x="2705" y="1840"/>
                              <a:pt x="2675" y="1830"/>
                            </a:cubicBezTo>
                            <a:cubicBezTo>
                              <a:pt x="2645" y="1860"/>
                              <a:pt x="2606" y="1883"/>
                              <a:pt x="2585" y="1920"/>
                            </a:cubicBezTo>
                            <a:cubicBezTo>
                              <a:pt x="2565" y="1956"/>
                              <a:pt x="2517" y="2024"/>
                              <a:pt x="2555" y="2040"/>
                            </a:cubicBezTo>
                            <a:cubicBezTo>
                              <a:pt x="2629" y="2072"/>
                              <a:pt x="2715" y="2020"/>
                              <a:pt x="2795" y="2010"/>
                            </a:cubicBezTo>
                            <a:cubicBezTo>
                              <a:pt x="2879" y="1757"/>
                              <a:pt x="2739" y="1608"/>
                              <a:pt x="2555" y="1470"/>
                            </a:cubicBezTo>
                            <a:cubicBezTo>
                              <a:pt x="2535" y="1500"/>
                              <a:pt x="2479" y="1528"/>
                              <a:pt x="2495" y="1560"/>
                            </a:cubicBezTo>
                            <a:cubicBezTo>
                              <a:pt x="2509" y="1588"/>
                              <a:pt x="2563" y="1552"/>
                              <a:pt x="2585" y="1530"/>
                            </a:cubicBezTo>
                            <a:cubicBezTo>
                              <a:pt x="2607" y="1508"/>
                              <a:pt x="2605" y="1470"/>
                              <a:pt x="2615" y="1440"/>
                            </a:cubicBezTo>
                            <a:cubicBezTo>
                              <a:pt x="2568" y="1062"/>
                              <a:pt x="2669" y="1230"/>
                              <a:pt x="2465" y="1230"/>
                            </a:cubicBezTo>
                            <a:cubicBezTo>
                              <a:pt x="2433" y="1230"/>
                              <a:pt x="2525" y="1210"/>
                              <a:pt x="2555" y="1200"/>
                            </a:cubicBezTo>
                            <a:cubicBezTo>
                              <a:pt x="2520" y="993"/>
                              <a:pt x="2515" y="657"/>
                              <a:pt x="2255" y="570"/>
                            </a:cubicBezTo>
                            <a:cubicBezTo>
                              <a:pt x="2225" y="560"/>
                              <a:pt x="2195" y="550"/>
                              <a:pt x="2165" y="540"/>
                            </a:cubicBezTo>
                            <a:cubicBezTo>
                              <a:pt x="2175" y="580"/>
                              <a:pt x="2156" y="647"/>
                              <a:pt x="2195" y="660"/>
                            </a:cubicBezTo>
                            <a:cubicBezTo>
                              <a:pt x="2246" y="677"/>
                              <a:pt x="2338" y="653"/>
                              <a:pt x="2345" y="600"/>
                            </a:cubicBezTo>
                            <a:cubicBezTo>
                              <a:pt x="2354" y="528"/>
                              <a:pt x="2265" y="480"/>
                              <a:pt x="2225" y="420"/>
                            </a:cubicBezTo>
                            <a:cubicBezTo>
                              <a:pt x="2156" y="317"/>
                              <a:pt x="2091" y="250"/>
                              <a:pt x="1985" y="180"/>
                            </a:cubicBezTo>
                            <a:cubicBezTo>
                              <a:pt x="1955" y="200"/>
                              <a:pt x="1902" y="205"/>
                              <a:pt x="1895" y="240"/>
                            </a:cubicBezTo>
                            <a:cubicBezTo>
                              <a:pt x="1865" y="392"/>
                              <a:pt x="2016" y="310"/>
                              <a:pt x="2045" y="300"/>
                            </a:cubicBezTo>
                            <a:cubicBezTo>
                              <a:pt x="1985" y="240"/>
                              <a:pt x="1936" y="167"/>
                              <a:pt x="1865" y="120"/>
                            </a:cubicBezTo>
                            <a:cubicBezTo>
                              <a:pt x="1805" y="80"/>
                              <a:pt x="1685" y="0"/>
                              <a:pt x="1685" y="0"/>
                            </a:cubicBezTo>
                            <a:cubicBezTo>
                              <a:pt x="1645" y="10"/>
                              <a:pt x="1597" y="4"/>
                              <a:pt x="1565" y="30"/>
                            </a:cubicBezTo>
                            <a:cubicBezTo>
                              <a:pt x="1472" y="104"/>
                              <a:pt x="1604" y="193"/>
                              <a:pt x="1565" y="270"/>
                            </a:cubicBezTo>
                            <a:cubicBezTo>
                              <a:pt x="1549" y="302"/>
                              <a:pt x="1530" y="205"/>
                              <a:pt x="1505" y="180"/>
                            </a:cubicBezTo>
                            <a:cubicBezTo>
                              <a:pt x="1470" y="145"/>
                              <a:pt x="1425" y="120"/>
                              <a:pt x="1385" y="90"/>
                            </a:cubicBezTo>
                            <a:cubicBezTo>
                              <a:pt x="1345" y="100"/>
                              <a:pt x="1275" y="80"/>
                              <a:pt x="1265" y="120"/>
                            </a:cubicBezTo>
                            <a:cubicBezTo>
                              <a:pt x="1210" y="338"/>
                              <a:pt x="1326" y="330"/>
                              <a:pt x="1445" y="360"/>
                            </a:cubicBezTo>
                            <a:cubicBezTo>
                              <a:pt x="1396" y="323"/>
                              <a:pt x="1311" y="240"/>
                              <a:pt x="1235" y="240"/>
                            </a:cubicBezTo>
                            <a:cubicBezTo>
                              <a:pt x="1174" y="240"/>
                              <a:pt x="1115" y="260"/>
                              <a:pt x="1055" y="270"/>
                            </a:cubicBezTo>
                            <a:cubicBezTo>
                              <a:pt x="1053" y="277"/>
                              <a:pt x="937" y="524"/>
                              <a:pt x="1145" y="420"/>
                            </a:cubicBezTo>
                            <a:cubicBezTo>
                              <a:pt x="1177" y="404"/>
                              <a:pt x="1113" y="353"/>
                              <a:pt x="1085" y="330"/>
                            </a:cubicBezTo>
                            <a:cubicBezTo>
                              <a:pt x="1054" y="305"/>
                              <a:pt x="852" y="271"/>
                              <a:pt x="845" y="270"/>
                            </a:cubicBezTo>
                            <a:cubicBezTo>
                              <a:pt x="776" y="339"/>
                              <a:pt x="644" y="418"/>
                              <a:pt x="815" y="540"/>
                            </a:cubicBezTo>
                            <a:cubicBezTo>
                              <a:pt x="856" y="570"/>
                              <a:pt x="915" y="520"/>
                              <a:pt x="965" y="510"/>
                            </a:cubicBezTo>
                            <a:cubicBezTo>
                              <a:pt x="846" y="421"/>
                              <a:pt x="812" y="351"/>
                              <a:pt x="635" y="450"/>
                            </a:cubicBezTo>
                            <a:cubicBezTo>
                              <a:pt x="596" y="472"/>
                              <a:pt x="595" y="530"/>
                              <a:pt x="575" y="570"/>
                            </a:cubicBezTo>
                            <a:cubicBezTo>
                              <a:pt x="565" y="620"/>
                              <a:pt x="541" y="669"/>
                              <a:pt x="545" y="720"/>
                            </a:cubicBezTo>
                            <a:cubicBezTo>
                              <a:pt x="562" y="930"/>
                              <a:pt x="692" y="988"/>
                              <a:pt x="515" y="870"/>
                            </a:cubicBezTo>
                            <a:cubicBezTo>
                              <a:pt x="455" y="880"/>
                              <a:pt x="388" y="870"/>
                              <a:pt x="335" y="900"/>
                            </a:cubicBezTo>
                            <a:cubicBezTo>
                              <a:pt x="308" y="916"/>
                              <a:pt x="314" y="960"/>
                              <a:pt x="305" y="990"/>
                            </a:cubicBezTo>
                            <a:cubicBezTo>
                              <a:pt x="294" y="1030"/>
                              <a:pt x="285" y="1070"/>
                              <a:pt x="275" y="1110"/>
                            </a:cubicBezTo>
                            <a:cubicBezTo>
                              <a:pt x="285" y="1200"/>
                              <a:pt x="271" y="1296"/>
                              <a:pt x="305" y="1380"/>
                            </a:cubicBezTo>
                            <a:cubicBezTo>
                              <a:pt x="317" y="1409"/>
                              <a:pt x="395" y="1442"/>
                              <a:pt x="395" y="1410"/>
                            </a:cubicBezTo>
                            <a:cubicBezTo>
                              <a:pt x="395" y="1374"/>
                              <a:pt x="335" y="1370"/>
                              <a:pt x="305" y="1350"/>
                            </a:cubicBezTo>
                            <a:cubicBezTo>
                              <a:pt x="235" y="1360"/>
                              <a:pt x="152" y="1338"/>
                              <a:pt x="95" y="1380"/>
                            </a:cubicBezTo>
                            <a:cubicBezTo>
                              <a:pt x="54" y="1411"/>
                              <a:pt x="65" y="1479"/>
                              <a:pt x="65" y="1530"/>
                            </a:cubicBezTo>
                            <a:cubicBezTo>
                              <a:pt x="65" y="1820"/>
                              <a:pt x="85" y="2110"/>
                              <a:pt x="95" y="2400"/>
                            </a:cubicBezTo>
                            <a:cubicBezTo>
                              <a:pt x="185" y="2390"/>
                              <a:pt x="284" y="2410"/>
                              <a:pt x="365" y="2370"/>
                            </a:cubicBezTo>
                            <a:cubicBezTo>
                              <a:pt x="393" y="2356"/>
                              <a:pt x="366" y="2286"/>
                              <a:pt x="335" y="2280"/>
                            </a:cubicBezTo>
                            <a:cubicBezTo>
                              <a:pt x="246" y="2262"/>
                              <a:pt x="155" y="2300"/>
                              <a:pt x="65" y="2310"/>
                            </a:cubicBezTo>
                            <a:cubicBezTo>
                              <a:pt x="75" y="2420"/>
                              <a:pt x="79" y="2531"/>
                              <a:pt x="95" y="2640"/>
                            </a:cubicBezTo>
                            <a:cubicBezTo>
                              <a:pt x="99" y="2671"/>
                              <a:pt x="94" y="2722"/>
                              <a:pt x="125" y="2730"/>
                            </a:cubicBezTo>
                            <a:cubicBezTo>
                              <a:pt x="194" y="2747"/>
                              <a:pt x="265" y="2710"/>
                              <a:pt x="335" y="2700"/>
                            </a:cubicBezTo>
                            <a:cubicBezTo>
                              <a:pt x="345" y="2670"/>
                              <a:pt x="396" y="2617"/>
                              <a:pt x="365" y="2610"/>
                            </a:cubicBezTo>
                            <a:cubicBezTo>
                              <a:pt x="267" y="2588"/>
                              <a:pt x="136" y="2569"/>
                              <a:pt x="65" y="2640"/>
                            </a:cubicBezTo>
                            <a:cubicBezTo>
                              <a:pt x="8" y="2697"/>
                              <a:pt x="65" y="2805"/>
                              <a:pt x="95" y="2880"/>
                            </a:cubicBezTo>
                            <a:cubicBezTo>
                              <a:pt x="108" y="2913"/>
                              <a:pt x="155" y="2920"/>
                              <a:pt x="185" y="2940"/>
                            </a:cubicBezTo>
                            <a:cubicBezTo>
                              <a:pt x="255" y="2920"/>
                              <a:pt x="340" y="2928"/>
                              <a:pt x="395" y="2880"/>
                            </a:cubicBezTo>
                            <a:cubicBezTo>
                              <a:pt x="463" y="2821"/>
                              <a:pt x="395" y="2462"/>
                              <a:pt x="395" y="2460"/>
                            </a:cubicBezTo>
                            <a:cubicBezTo>
                              <a:pt x="335" y="2470"/>
                              <a:pt x="258" y="2447"/>
                              <a:pt x="215" y="2490"/>
                            </a:cubicBezTo>
                            <a:cubicBezTo>
                              <a:pt x="190" y="2515"/>
                              <a:pt x="269" y="2556"/>
                              <a:pt x="305" y="2550"/>
                            </a:cubicBezTo>
                            <a:cubicBezTo>
                              <a:pt x="347" y="2543"/>
                              <a:pt x="365" y="2490"/>
                              <a:pt x="395" y="2460"/>
                            </a:cubicBezTo>
                            <a:cubicBezTo>
                              <a:pt x="405" y="2430"/>
                              <a:pt x="425" y="2402"/>
                              <a:pt x="425" y="2370"/>
                            </a:cubicBezTo>
                            <a:cubicBezTo>
                              <a:pt x="425" y="2289"/>
                              <a:pt x="395" y="2130"/>
                              <a:pt x="395" y="2130"/>
                            </a:cubicBezTo>
                            <a:cubicBezTo>
                              <a:pt x="385" y="2000"/>
                              <a:pt x="381" y="1869"/>
                              <a:pt x="365" y="1740"/>
                            </a:cubicBezTo>
                            <a:cubicBezTo>
                              <a:pt x="361" y="1709"/>
                              <a:pt x="364" y="1662"/>
                              <a:pt x="335" y="1650"/>
                            </a:cubicBezTo>
                            <a:cubicBezTo>
                              <a:pt x="297" y="1635"/>
                              <a:pt x="255" y="1670"/>
                              <a:pt x="215" y="1680"/>
                            </a:cubicBezTo>
                            <a:cubicBezTo>
                              <a:pt x="182" y="1813"/>
                              <a:pt x="161" y="1958"/>
                              <a:pt x="305" y="2040"/>
                            </a:cubicBezTo>
                            <a:cubicBezTo>
                              <a:pt x="341" y="2060"/>
                              <a:pt x="385" y="2060"/>
                              <a:pt x="425" y="2070"/>
                            </a:cubicBezTo>
                            <a:cubicBezTo>
                              <a:pt x="517" y="1931"/>
                              <a:pt x="492" y="2027"/>
                              <a:pt x="425" y="1860"/>
                            </a:cubicBezTo>
                            <a:cubicBezTo>
                              <a:pt x="402" y="1801"/>
                              <a:pt x="365" y="1680"/>
                              <a:pt x="365" y="1680"/>
                            </a:cubicBezTo>
                            <a:cubicBezTo>
                              <a:pt x="355" y="1710"/>
                              <a:pt x="313" y="1748"/>
                              <a:pt x="335" y="1770"/>
                            </a:cubicBezTo>
                            <a:cubicBezTo>
                              <a:pt x="357" y="1792"/>
                              <a:pt x="419" y="1771"/>
                              <a:pt x="425" y="1740"/>
                            </a:cubicBezTo>
                            <a:cubicBezTo>
                              <a:pt x="551" y="1047"/>
                              <a:pt x="241" y="1181"/>
                              <a:pt x="545" y="1080"/>
                            </a:cubicBezTo>
                            <a:cubicBezTo>
                              <a:pt x="609" y="951"/>
                              <a:pt x="605" y="1005"/>
                              <a:pt x="605" y="93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4" name=""/>
                    <p:cNvSpPr/>
                    <p:nvPr/>
                  </p:nvSpPr>
                  <p:spPr>
                    <a:xfrm rot="20419800">
                      <a:off x="4716360" y="3169800"/>
                      <a:ext cx="1508760" cy="2375640"/>
                    </a:xfrm>
                    <a:custGeom>
                      <a:avLst/>
                      <a:gdLst/>
                      <a:ahLst/>
                      <a:rect l="l" t="t" r="r" b="b"/>
                      <a:pathLst>
                        <a:path w="4923" h="7255">
                          <a:moveTo>
                            <a:pt x="2223" y="0"/>
                          </a:moveTo>
                          <a:cubicBezTo>
                            <a:pt x="2229" y="158"/>
                            <a:pt x="2258" y="317"/>
                            <a:pt x="2241" y="474"/>
                          </a:cubicBezTo>
                          <a:cubicBezTo>
                            <a:pt x="2239" y="496"/>
                            <a:pt x="2082" y="592"/>
                            <a:pt x="2073" y="600"/>
                          </a:cubicBezTo>
                          <a:cubicBezTo>
                            <a:pt x="2040" y="627"/>
                            <a:pt x="2018" y="666"/>
                            <a:pt x="1983" y="690"/>
                          </a:cubicBezTo>
                          <a:cubicBezTo>
                            <a:pt x="1832" y="790"/>
                            <a:pt x="1624" y="738"/>
                            <a:pt x="1443" y="750"/>
                          </a:cubicBezTo>
                          <a:cubicBezTo>
                            <a:pt x="1268" y="808"/>
                            <a:pt x="1202" y="812"/>
                            <a:pt x="1113" y="990"/>
                          </a:cubicBezTo>
                          <a:cubicBezTo>
                            <a:pt x="1099" y="1018"/>
                            <a:pt x="1098" y="1052"/>
                            <a:pt x="1083" y="1080"/>
                          </a:cubicBezTo>
                          <a:cubicBezTo>
                            <a:pt x="1048" y="1143"/>
                            <a:pt x="963" y="1260"/>
                            <a:pt x="963" y="1260"/>
                          </a:cubicBezTo>
                          <a:cubicBezTo>
                            <a:pt x="919" y="1479"/>
                            <a:pt x="877" y="1699"/>
                            <a:pt x="843" y="1920"/>
                          </a:cubicBezTo>
                          <a:cubicBezTo>
                            <a:pt x="831" y="1998"/>
                            <a:pt x="802" y="2226"/>
                            <a:pt x="783" y="2310"/>
                          </a:cubicBezTo>
                          <a:cubicBezTo>
                            <a:pt x="736" y="2522"/>
                            <a:pt x="672" y="2734"/>
                            <a:pt x="603" y="2940"/>
                          </a:cubicBezTo>
                          <a:cubicBezTo>
                            <a:pt x="592" y="2974"/>
                            <a:pt x="558" y="2997"/>
                            <a:pt x="543" y="3030"/>
                          </a:cubicBezTo>
                          <a:cubicBezTo>
                            <a:pt x="400" y="3351"/>
                            <a:pt x="559" y="3096"/>
                            <a:pt x="423" y="3300"/>
                          </a:cubicBezTo>
                          <a:cubicBezTo>
                            <a:pt x="406" y="3367"/>
                            <a:pt x="385" y="3488"/>
                            <a:pt x="333" y="3540"/>
                          </a:cubicBezTo>
                          <a:cubicBezTo>
                            <a:pt x="311" y="3562"/>
                            <a:pt x="273" y="3560"/>
                            <a:pt x="243" y="3570"/>
                          </a:cubicBezTo>
                          <a:cubicBezTo>
                            <a:pt x="473" y="3647"/>
                            <a:pt x="222" y="3549"/>
                            <a:pt x="33" y="3630"/>
                          </a:cubicBezTo>
                          <a:cubicBezTo>
                            <a:pt x="0" y="3644"/>
                            <a:pt x="93" y="3670"/>
                            <a:pt x="123" y="3690"/>
                          </a:cubicBezTo>
                          <a:cubicBezTo>
                            <a:pt x="170" y="3832"/>
                            <a:pt x="163" y="3738"/>
                            <a:pt x="93" y="3900"/>
                          </a:cubicBezTo>
                          <a:cubicBezTo>
                            <a:pt x="81" y="3929"/>
                            <a:pt x="37" y="3972"/>
                            <a:pt x="63" y="3990"/>
                          </a:cubicBezTo>
                          <a:cubicBezTo>
                            <a:pt x="97" y="4013"/>
                            <a:pt x="143" y="3969"/>
                            <a:pt x="183" y="3960"/>
                          </a:cubicBezTo>
                          <a:cubicBezTo>
                            <a:pt x="233" y="3949"/>
                            <a:pt x="283" y="3940"/>
                            <a:pt x="333" y="3930"/>
                          </a:cubicBezTo>
                          <a:cubicBezTo>
                            <a:pt x="283" y="4005"/>
                            <a:pt x="246" y="4053"/>
                            <a:pt x="213" y="4140"/>
                          </a:cubicBezTo>
                          <a:cubicBezTo>
                            <a:pt x="199" y="4179"/>
                            <a:pt x="146" y="4242"/>
                            <a:pt x="183" y="4260"/>
                          </a:cubicBezTo>
                          <a:cubicBezTo>
                            <a:pt x="221" y="4279"/>
                            <a:pt x="243" y="4200"/>
                            <a:pt x="273" y="4170"/>
                          </a:cubicBezTo>
                          <a:cubicBezTo>
                            <a:pt x="274" y="4168"/>
                            <a:pt x="332" y="3967"/>
                            <a:pt x="363" y="3990"/>
                          </a:cubicBezTo>
                          <a:cubicBezTo>
                            <a:pt x="414" y="4028"/>
                            <a:pt x="326" y="4228"/>
                            <a:pt x="423" y="4170"/>
                          </a:cubicBezTo>
                          <a:lnTo>
                            <a:pt x="513" y="3930"/>
                          </a:lnTo>
                          <a:lnTo>
                            <a:pt x="1665" y="1626"/>
                          </a:lnTo>
                          <a:lnTo>
                            <a:pt x="1665" y="3786"/>
                          </a:lnTo>
                          <a:lnTo>
                            <a:pt x="945" y="6666"/>
                          </a:lnTo>
                          <a:cubicBezTo>
                            <a:pt x="891" y="6674"/>
                            <a:pt x="838" y="6691"/>
                            <a:pt x="783" y="6690"/>
                          </a:cubicBezTo>
                          <a:cubicBezTo>
                            <a:pt x="732" y="6689"/>
                            <a:pt x="682" y="6648"/>
                            <a:pt x="633" y="6660"/>
                          </a:cubicBezTo>
                          <a:cubicBezTo>
                            <a:pt x="592" y="6670"/>
                            <a:pt x="573" y="6720"/>
                            <a:pt x="543" y="6750"/>
                          </a:cubicBezTo>
                          <a:cubicBezTo>
                            <a:pt x="573" y="7134"/>
                            <a:pt x="458" y="7099"/>
                            <a:pt x="693" y="7200"/>
                          </a:cubicBezTo>
                          <a:cubicBezTo>
                            <a:pt x="722" y="7212"/>
                            <a:pt x="753" y="7220"/>
                            <a:pt x="783" y="7230"/>
                          </a:cubicBezTo>
                          <a:cubicBezTo>
                            <a:pt x="963" y="7220"/>
                            <a:pt x="1151" y="7255"/>
                            <a:pt x="1323" y="7200"/>
                          </a:cubicBezTo>
                          <a:cubicBezTo>
                            <a:pt x="1392" y="7178"/>
                            <a:pt x="1443" y="7020"/>
                            <a:pt x="1443" y="7020"/>
                          </a:cubicBezTo>
                          <a:cubicBezTo>
                            <a:pt x="1477" y="6885"/>
                            <a:pt x="1485" y="6687"/>
                            <a:pt x="1563" y="6570"/>
                          </a:cubicBezTo>
                          <a:cubicBezTo>
                            <a:pt x="1583" y="6540"/>
                            <a:pt x="1607" y="6512"/>
                            <a:pt x="1623" y="6480"/>
                          </a:cubicBezTo>
                          <a:cubicBezTo>
                            <a:pt x="1681" y="6363"/>
                            <a:pt x="1625" y="6405"/>
                            <a:pt x="1683" y="6270"/>
                          </a:cubicBezTo>
                          <a:cubicBezTo>
                            <a:pt x="1697" y="6237"/>
                            <a:pt x="1723" y="6210"/>
                            <a:pt x="1743" y="6180"/>
                          </a:cubicBezTo>
                          <a:cubicBezTo>
                            <a:pt x="1753" y="6120"/>
                            <a:pt x="1758" y="6059"/>
                            <a:pt x="1773" y="6000"/>
                          </a:cubicBezTo>
                          <a:cubicBezTo>
                            <a:pt x="1804" y="5878"/>
                            <a:pt x="1862" y="5762"/>
                            <a:pt x="1893" y="5640"/>
                          </a:cubicBezTo>
                          <a:cubicBezTo>
                            <a:pt x="1903" y="5600"/>
                            <a:pt x="1907" y="5558"/>
                            <a:pt x="1923" y="5520"/>
                          </a:cubicBezTo>
                          <a:cubicBezTo>
                            <a:pt x="1937" y="5487"/>
                            <a:pt x="1968" y="5463"/>
                            <a:pt x="1983" y="5430"/>
                          </a:cubicBezTo>
                          <a:cubicBezTo>
                            <a:pt x="2038" y="5307"/>
                            <a:pt x="2043" y="5160"/>
                            <a:pt x="2103" y="5040"/>
                          </a:cubicBezTo>
                          <a:cubicBezTo>
                            <a:pt x="2119" y="5008"/>
                            <a:pt x="2148" y="4983"/>
                            <a:pt x="2163" y="4950"/>
                          </a:cubicBezTo>
                          <a:cubicBezTo>
                            <a:pt x="2189" y="4891"/>
                            <a:pt x="2243" y="4650"/>
                            <a:pt x="2283" y="4590"/>
                          </a:cubicBezTo>
                          <a:cubicBezTo>
                            <a:pt x="2303" y="4560"/>
                            <a:pt x="2328" y="4533"/>
                            <a:pt x="2343" y="4500"/>
                          </a:cubicBezTo>
                          <a:cubicBezTo>
                            <a:pt x="2369" y="4442"/>
                            <a:pt x="2403" y="4320"/>
                            <a:pt x="2403" y="4320"/>
                          </a:cubicBezTo>
                          <a:cubicBezTo>
                            <a:pt x="2519" y="4494"/>
                            <a:pt x="2518" y="4696"/>
                            <a:pt x="2583" y="4890"/>
                          </a:cubicBezTo>
                          <a:cubicBezTo>
                            <a:pt x="2597" y="4932"/>
                            <a:pt x="2625" y="4969"/>
                            <a:pt x="2643" y="5010"/>
                          </a:cubicBezTo>
                          <a:cubicBezTo>
                            <a:pt x="2694" y="5128"/>
                            <a:pt x="2735" y="5255"/>
                            <a:pt x="2793" y="5370"/>
                          </a:cubicBezTo>
                          <a:cubicBezTo>
                            <a:pt x="2809" y="5402"/>
                            <a:pt x="2837" y="5428"/>
                            <a:pt x="2853" y="5460"/>
                          </a:cubicBezTo>
                          <a:cubicBezTo>
                            <a:pt x="2867" y="5488"/>
                            <a:pt x="2871" y="5521"/>
                            <a:pt x="2883" y="5550"/>
                          </a:cubicBezTo>
                          <a:cubicBezTo>
                            <a:pt x="2929" y="5657"/>
                            <a:pt x="2943" y="5670"/>
                            <a:pt x="3003" y="5760"/>
                          </a:cubicBezTo>
                          <a:cubicBezTo>
                            <a:pt x="3065" y="6010"/>
                            <a:pt x="2989" y="5763"/>
                            <a:pt x="3093" y="5970"/>
                          </a:cubicBezTo>
                          <a:cubicBezTo>
                            <a:pt x="3154" y="6093"/>
                            <a:pt x="3182" y="6239"/>
                            <a:pt x="3243" y="6360"/>
                          </a:cubicBezTo>
                          <a:cubicBezTo>
                            <a:pt x="3279" y="6432"/>
                            <a:pt x="3330" y="6496"/>
                            <a:pt x="3363" y="6570"/>
                          </a:cubicBezTo>
                          <a:cubicBezTo>
                            <a:pt x="3389" y="6628"/>
                            <a:pt x="3403" y="6690"/>
                            <a:pt x="3423" y="6750"/>
                          </a:cubicBezTo>
                          <a:cubicBezTo>
                            <a:pt x="3437" y="6792"/>
                            <a:pt x="3466" y="6828"/>
                            <a:pt x="3483" y="6870"/>
                          </a:cubicBezTo>
                          <a:cubicBezTo>
                            <a:pt x="3506" y="6929"/>
                            <a:pt x="3523" y="6990"/>
                            <a:pt x="3543" y="7050"/>
                          </a:cubicBezTo>
                          <a:cubicBezTo>
                            <a:pt x="3561" y="7103"/>
                            <a:pt x="3724" y="7150"/>
                            <a:pt x="3783" y="7170"/>
                          </a:cubicBezTo>
                          <a:cubicBezTo>
                            <a:pt x="3923" y="7160"/>
                            <a:pt x="4064" y="7161"/>
                            <a:pt x="4203" y="7140"/>
                          </a:cubicBezTo>
                          <a:cubicBezTo>
                            <a:pt x="4266" y="7131"/>
                            <a:pt x="4383" y="7080"/>
                            <a:pt x="4383" y="7080"/>
                          </a:cubicBezTo>
                          <a:cubicBezTo>
                            <a:pt x="4443" y="6900"/>
                            <a:pt x="4461" y="6807"/>
                            <a:pt x="4413" y="6600"/>
                          </a:cubicBezTo>
                          <a:cubicBezTo>
                            <a:pt x="4403" y="6556"/>
                            <a:pt x="4387" y="6509"/>
                            <a:pt x="4353" y="6480"/>
                          </a:cubicBezTo>
                          <a:cubicBezTo>
                            <a:pt x="4321" y="6454"/>
                            <a:pt x="4273" y="6460"/>
                            <a:pt x="4233" y="6450"/>
                          </a:cubicBezTo>
                          <a:cubicBezTo>
                            <a:pt x="4173" y="6460"/>
                            <a:pt x="4111" y="6461"/>
                            <a:pt x="4053" y="6480"/>
                          </a:cubicBezTo>
                          <a:cubicBezTo>
                            <a:pt x="4019" y="6491"/>
                            <a:pt x="3986" y="6568"/>
                            <a:pt x="3963" y="6540"/>
                          </a:cubicBezTo>
                          <a:cubicBezTo>
                            <a:pt x="3910" y="6477"/>
                            <a:pt x="3974" y="6471"/>
                            <a:pt x="3903" y="6300"/>
                          </a:cubicBezTo>
                          <a:lnTo>
                            <a:pt x="3249" y="3786"/>
                          </a:lnTo>
                          <a:lnTo>
                            <a:pt x="3249" y="1482"/>
                          </a:lnTo>
                          <a:cubicBezTo>
                            <a:pt x="3585" y="2298"/>
                            <a:pt x="3950" y="3103"/>
                            <a:pt x="4257" y="3930"/>
                          </a:cubicBezTo>
                          <a:cubicBezTo>
                            <a:pt x="4272" y="3971"/>
                            <a:pt x="4219" y="4009"/>
                            <a:pt x="4203" y="4050"/>
                          </a:cubicBezTo>
                          <a:cubicBezTo>
                            <a:pt x="4166" y="4141"/>
                            <a:pt x="4004" y="4543"/>
                            <a:pt x="4173" y="4290"/>
                          </a:cubicBezTo>
                          <a:cubicBezTo>
                            <a:pt x="4195" y="4201"/>
                            <a:pt x="4213" y="4054"/>
                            <a:pt x="4293" y="3990"/>
                          </a:cubicBezTo>
                          <a:cubicBezTo>
                            <a:pt x="4318" y="3970"/>
                            <a:pt x="4353" y="3970"/>
                            <a:pt x="4383" y="3960"/>
                          </a:cubicBezTo>
                          <a:cubicBezTo>
                            <a:pt x="4403" y="4000"/>
                            <a:pt x="4426" y="4038"/>
                            <a:pt x="4443" y="4080"/>
                          </a:cubicBezTo>
                          <a:cubicBezTo>
                            <a:pt x="4466" y="4139"/>
                            <a:pt x="4518" y="4321"/>
                            <a:pt x="4503" y="4260"/>
                          </a:cubicBezTo>
                          <a:cubicBezTo>
                            <a:pt x="4483" y="4180"/>
                            <a:pt x="4443" y="4020"/>
                            <a:pt x="4443" y="4020"/>
                          </a:cubicBezTo>
                          <a:cubicBezTo>
                            <a:pt x="4483" y="4010"/>
                            <a:pt x="4563" y="4031"/>
                            <a:pt x="4563" y="3990"/>
                          </a:cubicBezTo>
                          <a:cubicBezTo>
                            <a:pt x="4563" y="3949"/>
                            <a:pt x="4406" y="3978"/>
                            <a:pt x="4443" y="3960"/>
                          </a:cubicBezTo>
                          <a:cubicBezTo>
                            <a:pt x="4534" y="3914"/>
                            <a:pt x="4643" y="3920"/>
                            <a:pt x="4743" y="3900"/>
                          </a:cubicBezTo>
                          <a:cubicBezTo>
                            <a:pt x="4832" y="3882"/>
                            <a:pt x="4847" y="3861"/>
                            <a:pt x="4923" y="3810"/>
                          </a:cubicBezTo>
                          <a:cubicBezTo>
                            <a:pt x="4913" y="3780"/>
                            <a:pt x="4923" y="3729"/>
                            <a:pt x="4893" y="3720"/>
                          </a:cubicBezTo>
                          <a:cubicBezTo>
                            <a:pt x="4588" y="3626"/>
                            <a:pt x="4406" y="3775"/>
                            <a:pt x="4623" y="3630"/>
                          </a:cubicBezTo>
                          <a:cubicBezTo>
                            <a:pt x="4643" y="3600"/>
                            <a:pt x="4699" y="3572"/>
                            <a:pt x="4683" y="3540"/>
                          </a:cubicBezTo>
                          <a:cubicBezTo>
                            <a:pt x="4664" y="3503"/>
                            <a:pt x="4616" y="3925"/>
                            <a:pt x="4473" y="3510"/>
                          </a:cubicBezTo>
                          <a:cubicBezTo>
                            <a:pt x="4109" y="2452"/>
                            <a:pt x="4330" y="3135"/>
                            <a:pt x="3825" y="1050"/>
                          </a:cubicBezTo>
                          <a:cubicBezTo>
                            <a:pt x="3818" y="1021"/>
                            <a:pt x="3826" y="987"/>
                            <a:pt x="3813" y="960"/>
                          </a:cubicBezTo>
                          <a:cubicBezTo>
                            <a:pt x="3781" y="895"/>
                            <a:pt x="3716" y="848"/>
                            <a:pt x="3693" y="780"/>
                          </a:cubicBezTo>
                          <a:cubicBezTo>
                            <a:pt x="3683" y="750"/>
                            <a:pt x="3689" y="708"/>
                            <a:pt x="3663" y="690"/>
                          </a:cubicBezTo>
                          <a:cubicBezTo>
                            <a:pt x="3505" y="577"/>
                            <a:pt x="3209" y="595"/>
                            <a:pt x="3033" y="570"/>
                          </a:cubicBezTo>
                          <a:cubicBezTo>
                            <a:pt x="2983" y="540"/>
                            <a:pt x="2927" y="518"/>
                            <a:pt x="2883" y="480"/>
                          </a:cubicBezTo>
                          <a:cubicBezTo>
                            <a:pt x="2746" y="363"/>
                            <a:pt x="2763" y="156"/>
                            <a:pt x="2763" y="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rot="20419800">
                    <a:off x="5057640" y="3407400"/>
                    <a:ext cx="314280" cy="295560"/>
                  </a:xfrm>
                  <a:custGeom>
                    <a:avLst/>
                    <a:gdLst/>
                    <a:ahLst/>
                    <a:rect l="l" t="t" r="r" b="b"/>
                    <a:pathLst>
                      <a:path w="1830" h="1260">
                        <a:moveTo>
                          <a:pt x="0" y="60"/>
                        </a:moveTo>
                        <a:cubicBezTo>
                          <a:pt x="59" y="237"/>
                          <a:pt x="51" y="419"/>
                          <a:pt x="90" y="600"/>
                        </a:cubicBezTo>
                        <a:cubicBezTo>
                          <a:pt x="119" y="734"/>
                          <a:pt x="170" y="890"/>
                          <a:pt x="270" y="990"/>
                        </a:cubicBezTo>
                        <a:cubicBezTo>
                          <a:pt x="295" y="1015"/>
                          <a:pt x="332" y="1027"/>
                          <a:pt x="360" y="1050"/>
                        </a:cubicBezTo>
                        <a:cubicBezTo>
                          <a:pt x="393" y="1077"/>
                          <a:pt x="413" y="1119"/>
                          <a:pt x="450" y="1140"/>
                        </a:cubicBezTo>
                        <a:cubicBezTo>
                          <a:pt x="486" y="1160"/>
                          <a:pt x="531" y="1158"/>
                          <a:pt x="570" y="1170"/>
                        </a:cubicBezTo>
                        <a:cubicBezTo>
                          <a:pt x="869" y="1260"/>
                          <a:pt x="629" y="1213"/>
                          <a:pt x="960" y="1260"/>
                        </a:cubicBezTo>
                        <a:cubicBezTo>
                          <a:pt x="1168" y="1239"/>
                          <a:pt x="1304" y="1251"/>
                          <a:pt x="1470" y="1140"/>
                        </a:cubicBezTo>
                        <a:cubicBezTo>
                          <a:pt x="1518" y="996"/>
                          <a:pt x="1627" y="892"/>
                          <a:pt x="1680" y="750"/>
                        </a:cubicBezTo>
                        <a:cubicBezTo>
                          <a:pt x="1760" y="536"/>
                          <a:pt x="1802" y="316"/>
                          <a:pt x="1830" y="90"/>
                        </a:cubicBezTo>
                        <a:cubicBezTo>
                          <a:pt x="1820" y="60"/>
                          <a:pt x="1800" y="0"/>
                          <a:pt x="1800" y="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flipV="1">
                    <a:off x="5241600" y="4252320"/>
                    <a:ext cx="442800" cy="15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252040" y="4512240"/>
                    <a:ext cx="270720" cy="77040"/>
                  </a:xfrm>
                  <a:prstGeom prst="line">
                    <a:avLst/>
                  </a:prstGeom>
                  <a:ln w="381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28" name=""/>
                  <p:cNvSpPr/>
                  <p:nvPr/>
                </p:nvSpPr>
                <p:spPr>
                  <a:xfrm flipH="1">
                    <a:off x="5525280" y="4347360"/>
                    <a:ext cx="193320" cy="252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rot="20419800">
                    <a:off x="4986720" y="3524040"/>
                    <a:ext cx="60840" cy="351720"/>
                  </a:xfrm>
                  <a:custGeom>
                    <a:avLst/>
                    <a:gdLst/>
                    <a:ahLst/>
                    <a:rect l="l" t="t" r="r" b="b"/>
                    <a:pathLst>
                      <a:path w="357" h="1500">
                        <a:moveTo>
                          <a:pt x="300" y="0"/>
                        </a:moveTo>
                        <a:cubicBezTo>
                          <a:pt x="357" y="287"/>
                          <a:pt x="339" y="129"/>
                          <a:pt x="300" y="600"/>
                        </a:cubicBezTo>
                        <a:cubicBezTo>
                          <a:pt x="246" y="1244"/>
                          <a:pt x="306" y="664"/>
                          <a:pt x="240" y="960"/>
                        </a:cubicBezTo>
                        <a:cubicBezTo>
                          <a:pt x="190" y="1186"/>
                          <a:pt x="171" y="1329"/>
                          <a:pt x="0" y="150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rot="20583600">
                    <a:off x="5024880" y="5299200"/>
                    <a:ext cx="565560" cy="430560"/>
                  </a:xfrm>
                  <a:custGeom>
                    <a:avLst/>
                    <a:gdLst/>
                    <a:ahLst/>
                    <a:rect l="l" t="t" r="r" b="b"/>
                    <a:pathLst>
                      <a:path w="1680" h="1608">
                        <a:moveTo>
                          <a:pt x="1032" y="144"/>
                        </a:moveTo>
                        <a:cubicBezTo>
                          <a:pt x="912" y="264"/>
                          <a:pt x="1008" y="720"/>
                          <a:pt x="888" y="864"/>
                        </a:cubicBezTo>
                        <a:cubicBezTo>
                          <a:pt x="768" y="1008"/>
                          <a:pt x="456" y="936"/>
                          <a:pt x="312" y="1008"/>
                        </a:cubicBezTo>
                        <a:cubicBezTo>
                          <a:pt x="168" y="1080"/>
                          <a:pt x="48" y="1200"/>
                          <a:pt x="24" y="1296"/>
                        </a:cubicBezTo>
                        <a:cubicBezTo>
                          <a:pt x="0" y="1392"/>
                          <a:pt x="0" y="1560"/>
                          <a:pt x="168" y="1584"/>
                        </a:cubicBezTo>
                        <a:cubicBezTo>
                          <a:pt x="336" y="1608"/>
                          <a:pt x="816" y="1440"/>
                          <a:pt x="1032" y="1440"/>
                        </a:cubicBezTo>
                        <a:cubicBezTo>
                          <a:pt x="1248" y="1440"/>
                          <a:pt x="1368" y="1608"/>
                          <a:pt x="1464" y="1584"/>
                        </a:cubicBezTo>
                        <a:cubicBezTo>
                          <a:pt x="1560" y="1560"/>
                          <a:pt x="1608" y="1392"/>
                          <a:pt x="1608" y="1296"/>
                        </a:cubicBezTo>
                        <a:cubicBezTo>
                          <a:pt x="1608" y="1200"/>
                          <a:pt x="1464" y="1200"/>
                          <a:pt x="1464" y="1008"/>
                        </a:cubicBezTo>
                        <a:cubicBezTo>
                          <a:pt x="1464" y="816"/>
                          <a:pt x="1680" y="288"/>
                          <a:pt x="1608" y="144"/>
                        </a:cubicBezTo>
                        <a:cubicBezTo>
                          <a:pt x="1536" y="0"/>
                          <a:pt x="1152" y="24"/>
                          <a:pt x="1032" y="144"/>
                        </a:cubicBezTo>
                        <a:close/>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rot="20583600">
                    <a:off x="5977440" y="4816440"/>
                    <a:ext cx="659880" cy="516600"/>
                  </a:xfrm>
                  <a:custGeom>
                    <a:avLst/>
                    <a:gdLst/>
                    <a:ahLst/>
                    <a:rect l="l" t="t" r="r" b="b"/>
                    <a:pathLst>
                      <a:path w="1680" h="1608">
                        <a:moveTo>
                          <a:pt x="1032" y="144"/>
                        </a:moveTo>
                        <a:cubicBezTo>
                          <a:pt x="912" y="264"/>
                          <a:pt x="1008" y="720"/>
                          <a:pt x="888" y="864"/>
                        </a:cubicBezTo>
                        <a:cubicBezTo>
                          <a:pt x="768" y="1008"/>
                          <a:pt x="456" y="936"/>
                          <a:pt x="312" y="1008"/>
                        </a:cubicBezTo>
                        <a:cubicBezTo>
                          <a:pt x="168" y="1080"/>
                          <a:pt x="48" y="1200"/>
                          <a:pt x="24" y="1296"/>
                        </a:cubicBezTo>
                        <a:cubicBezTo>
                          <a:pt x="0" y="1392"/>
                          <a:pt x="0" y="1560"/>
                          <a:pt x="168" y="1584"/>
                        </a:cubicBezTo>
                        <a:cubicBezTo>
                          <a:pt x="336" y="1608"/>
                          <a:pt x="816" y="1440"/>
                          <a:pt x="1032" y="1440"/>
                        </a:cubicBezTo>
                        <a:cubicBezTo>
                          <a:pt x="1248" y="1440"/>
                          <a:pt x="1368" y="1608"/>
                          <a:pt x="1464" y="1584"/>
                        </a:cubicBezTo>
                        <a:cubicBezTo>
                          <a:pt x="1560" y="1560"/>
                          <a:pt x="1608" y="1392"/>
                          <a:pt x="1608" y="1296"/>
                        </a:cubicBezTo>
                        <a:cubicBezTo>
                          <a:pt x="1608" y="1200"/>
                          <a:pt x="1464" y="1200"/>
                          <a:pt x="1464" y="1008"/>
                        </a:cubicBezTo>
                        <a:cubicBezTo>
                          <a:pt x="1464" y="816"/>
                          <a:pt x="1680" y="288"/>
                          <a:pt x="1608" y="144"/>
                        </a:cubicBezTo>
                        <a:cubicBezTo>
                          <a:pt x="1536" y="0"/>
                          <a:pt x="1152" y="24"/>
                          <a:pt x="1032" y="144"/>
                        </a:cubicBezTo>
                        <a:close/>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2" name=""/>
              <p:cNvGrpSpPr/>
              <p:nvPr/>
            </p:nvGrpSpPr>
            <p:grpSpPr>
              <a:xfrm>
                <a:off x="6229080" y="1729080"/>
                <a:ext cx="2482560" cy="3494520"/>
                <a:chOff x="6229080" y="1729080"/>
                <a:chExt cx="2482560" cy="3494520"/>
              </a:xfrm>
            </p:grpSpPr>
            <p:grpSp>
              <p:nvGrpSpPr>
                <p:cNvPr id="233" name=""/>
                <p:cNvGrpSpPr/>
                <p:nvPr/>
              </p:nvGrpSpPr>
              <p:grpSpPr>
                <a:xfrm>
                  <a:off x="6229080" y="1729080"/>
                  <a:ext cx="2482560" cy="3494520"/>
                  <a:chOff x="6229080" y="1729080"/>
                  <a:chExt cx="2482560" cy="3494520"/>
                </a:xfrm>
              </p:grpSpPr>
              <p:grpSp>
                <p:nvGrpSpPr>
                  <p:cNvPr id="234" name=""/>
                  <p:cNvGrpSpPr/>
                  <p:nvPr/>
                </p:nvGrpSpPr>
                <p:grpSpPr>
                  <a:xfrm>
                    <a:off x="6229080" y="1729080"/>
                    <a:ext cx="2482560" cy="3494520"/>
                    <a:chOff x="6229080" y="1729080"/>
                    <a:chExt cx="2482560" cy="3494520"/>
                  </a:xfrm>
                </p:grpSpPr>
                <p:grpSp>
                  <p:nvGrpSpPr>
                    <p:cNvPr id="235" name=""/>
                    <p:cNvGrpSpPr/>
                    <p:nvPr/>
                  </p:nvGrpSpPr>
                  <p:grpSpPr>
                    <a:xfrm>
                      <a:off x="7483320" y="1729080"/>
                      <a:ext cx="981720" cy="1041480"/>
                      <a:chOff x="7483320" y="1729080"/>
                      <a:chExt cx="981720" cy="1041480"/>
                    </a:xfrm>
                  </p:grpSpPr>
                  <p:grpSp>
                    <p:nvGrpSpPr>
                      <p:cNvPr id="236" name=""/>
                      <p:cNvGrpSpPr/>
                      <p:nvPr/>
                    </p:nvGrpSpPr>
                    <p:grpSpPr>
                      <a:xfrm>
                        <a:off x="7483320" y="1729080"/>
                        <a:ext cx="981720" cy="1041480"/>
                        <a:chOff x="7483320" y="1729080"/>
                        <a:chExt cx="981720" cy="1041480"/>
                      </a:xfrm>
                    </p:grpSpPr>
                    <p:sp>
                      <p:nvSpPr>
                        <p:cNvPr id="237" name=""/>
                        <p:cNvSpPr/>
                        <p:nvPr/>
                      </p:nvSpPr>
                      <p:spPr>
                        <a:xfrm rot="972000">
                          <a:off x="7588080" y="1819440"/>
                          <a:ext cx="772200" cy="86004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8" name=""/>
                        <p:cNvGrpSpPr/>
                        <p:nvPr/>
                      </p:nvGrpSpPr>
                      <p:grpSpPr>
                        <a:xfrm>
                          <a:off x="7815600" y="2019960"/>
                          <a:ext cx="159120" cy="214200"/>
                          <a:chOff x="7815600" y="2019960"/>
                          <a:chExt cx="159120" cy="214200"/>
                        </a:xfrm>
                      </p:grpSpPr>
                      <p:sp>
                        <p:nvSpPr>
                          <p:cNvPr id="239" name=""/>
                          <p:cNvSpPr/>
                          <p:nvPr/>
                        </p:nvSpPr>
                        <p:spPr>
                          <a:xfrm rot="972000">
                            <a:off x="7839720" y="2031480"/>
                            <a:ext cx="110160" cy="19116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rot="972000">
                            <a:off x="7826400" y="2124720"/>
                            <a:ext cx="110160" cy="95400"/>
                          </a:xfrm>
                          <a:prstGeom prst="ellipse">
                            <a:avLst/>
                          </a:prstGeom>
                          <a:solidFill>
                            <a:srgbClr val="4a8ac4"/>
                          </a:solidFill>
                          <a:ln w="38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241" name=""/>
                        <p:cNvGrpSpPr/>
                        <p:nvPr/>
                      </p:nvGrpSpPr>
                      <p:grpSpPr>
                        <a:xfrm>
                          <a:off x="8027280" y="2081520"/>
                          <a:ext cx="159120" cy="214200"/>
                          <a:chOff x="8027280" y="2081520"/>
                          <a:chExt cx="159120" cy="214200"/>
                        </a:xfrm>
                      </p:grpSpPr>
                      <p:sp>
                        <p:nvSpPr>
                          <p:cNvPr id="242" name=""/>
                          <p:cNvSpPr/>
                          <p:nvPr/>
                        </p:nvSpPr>
                        <p:spPr>
                          <a:xfrm rot="972000">
                            <a:off x="8051400" y="2093040"/>
                            <a:ext cx="110160" cy="19116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rot="972000">
                            <a:off x="8038080" y="2186280"/>
                            <a:ext cx="110160" cy="95400"/>
                          </a:xfrm>
                          <a:prstGeom prst="ellipse">
                            <a:avLst/>
                          </a:prstGeom>
                          <a:solidFill>
                            <a:srgbClr val="4a8ac4"/>
                          </a:solidFill>
                          <a:ln w="38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244" name=""/>
                        <p:cNvSpPr/>
                        <p:nvPr/>
                      </p:nvSpPr>
                      <p:spPr>
                        <a:xfrm rot="972000">
                          <a:off x="8057160" y="2022840"/>
                          <a:ext cx="206640" cy="59400"/>
                        </a:xfrm>
                        <a:custGeom>
                          <a:avLst/>
                          <a:gdLst/>
                          <a:ahLst/>
                          <a:rect l="l" t="t" r="r" b="b"/>
                          <a:pathLst>
                            <a:path w="540" h="180">
                              <a:moveTo>
                                <a:pt x="0" y="180"/>
                              </a:moveTo>
                              <a:cubicBezTo>
                                <a:pt x="10" y="150"/>
                                <a:pt x="10" y="115"/>
                                <a:pt x="30" y="90"/>
                              </a:cubicBezTo>
                              <a:cubicBezTo>
                                <a:pt x="72" y="37"/>
                                <a:pt x="151" y="20"/>
                                <a:pt x="210" y="0"/>
                              </a:cubicBezTo>
                              <a:cubicBezTo>
                                <a:pt x="267" y="11"/>
                                <a:pt x="389" y="29"/>
                                <a:pt x="450" y="60"/>
                              </a:cubicBezTo>
                              <a:cubicBezTo>
                                <a:pt x="482" y="76"/>
                                <a:pt x="540" y="120"/>
                                <a:pt x="540" y="120"/>
                              </a:cubicBezTo>
                            </a:path>
                          </a:pathLst>
                        </a:custGeom>
                        <a:solidFill>
                          <a:srgbClr val="4a8ac4"/>
                        </a:solidFill>
                        <a:ln w="381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45" name=""/>
                        <p:cNvSpPr/>
                        <p:nvPr/>
                      </p:nvSpPr>
                      <p:spPr>
                        <a:xfrm flipH="1" rot="971400">
                          <a:off x="7815960" y="1986120"/>
                          <a:ext cx="206640" cy="59760"/>
                        </a:xfrm>
                        <a:custGeom>
                          <a:avLst/>
                          <a:gdLst/>
                          <a:ahLst/>
                          <a:rect l="l" t="t" r="r" b="b"/>
                          <a:pathLst>
                            <a:path w="540" h="180">
                              <a:moveTo>
                                <a:pt x="0" y="180"/>
                              </a:moveTo>
                              <a:cubicBezTo>
                                <a:pt x="10" y="150"/>
                                <a:pt x="10" y="115"/>
                                <a:pt x="30" y="90"/>
                              </a:cubicBezTo>
                              <a:cubicBezTo>
                                <a:pt x="72" y="37"/>
                                <a:pt x="151" y="20"/>
                                <a:pt x="210" y="0"/>
                              </a:cubicBezTo>
                              <a:cubicBezTo>
                                <a:pt x="267" y="11"/>
                                <a:pt x="389" y="29"/>
                                <a:pt x="450" y="60"/>
                              </a:cubicBezTo>
                              <a:cubicBezTo>
                                <a:pt x="482" y="76"/>
                                <a:pt x="540" y="120"/>
                                <a:pt x="540" y="120"/>
                              </a:cubicBezTo>
                            </a:path>
                          </a:pathLst>
                        </a:custGeom>
                        <a:solidFill>
                          <a:srgbClr val="4a8ac4"/>
                        </a:solidFill>
                        <a:ln w="38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6" name=""/>
                        <p:cNvSpPr/>
                        <p:nvPr/>
                      </p:nvSpPr>
                      <p:spPr>
                        <a:xfrm rot="972000">
                          <a:off x="7918920" y="2199600"/>
                          <a:ext cx="45720" cy="139320"/>
                        </a:xfrm>
                        <a:custGeom>
                          <a:avLst/>
                          <a:gdLst/>
                          <a:ahLst/>
                          <a:rect l="l" t="t" r="r" b="b"/>
                          <a:pathLst>
                            <a:path w="120" h="420">
                              <a:moveTo>
                                <a:pt x="120" y="0"/>
                              </a:moveTo>
                              <a:cubicBezTo>
                                <a:pt x="110" y="83"/>
                                <a:pt x="106" y="238"/>
                                <a:pt x="60" y="330"/>
                              </a:cubicBezTo>
                              <a:cubicBezTo>
                                <a:pt x="44" y="362"/>
                                <a:pt x="0" y="420"/>
                                <a:pt x="0" y="42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rot="972000">
                          <a:off x="7769880" y="2471760"/>
                          <a:ext cx="298800" cy="79560"/>
                        </a:xfrm>
                        <a:custGeom>
                          <a:avLst/>
                          <a:gdLst/>
                          <a:ahLst/>
                          <a:rect l="l" t="t" r="r" b="b"/>
                          <a:pathLst>
                            <a:path w="780" h="240">
                              <a:moveTo>
                                <a:pt x="0" y="0"/>
                              </a:moveTo>
                              <a:cubicBezTo>
                                <a:pt x="20" y="30"/>
                                <a:pt x="35" y="65"/>
                                <a:pt x="60" y="90"/>
                              </a:cubicBezTo>
                              <a:cubicBezTo>
                                <a:pt x="158" y="188"/>
                                <a:pt x="320" y="208"/>
                                <a:pt x="450" y="240"/>
                              </a:cubicBezTo>
                              <a:cubicBezTo>
                                <a:pt x="530" y="230"/>
                                <a:pt x="615" y="240"/>
                                <a:pt x="690" y="210"/>
                              </a:cubicBezTo>
                              <a:cubicBezTo>
                                <a:pt x="745" y="188"/>
                                <a:pt x="780" y="51"/>
                                <a:pt x="780" y="0"/>
                              </a:cubicBezTo>
                            </a:path>
                          </a:pathLst>
                        </a:custGeom>
                        <a:solidFill>
                          <a:srgbClr val="4a8ac4"/>
                        </a:solidFill>
                        <a:ln w="38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sp>
                    <p:nvSpPr>
                      <p:cNvPr id="248" name=""/>
                      <p:cNvSpPr/>
                      <p:nvPr/>
                    </p:nvSpPr>
                    <p:spPr>
                      <a:xfrm rot="972000">
                        <a:off x="7685640" y="1826640"/>
                        <a:ext cx="736200" cy="358200"/>
                      </a:xfrm>
                      <a:custGeom>
                        <a:avLst/>
                        <a:gdLst/>
                        <a:ahLst/>
                        <a:rect l="l" t="t" r="r" b="b"/>
                        <a:pathLst>
                          <a:path w="1922" h="1080">
                            <a:moveTo>
                              <a:pt x="962" y="0"/>
                            </a:moveTo>
                            <a:cubicBezTo>
                              <a:pt x="942" y="60"/>
                              <a:pt x="922" y="120"/>
                              <a:pt x="902" y="180"/>
                            </a:cubicBezTo>
                            <a:cubicBezTo>
                              <a:pt x="892" y="210"/>
                              <a:pt x="882" y="240"/>
                              <a:pt x="872" y="270"/>
                            </a:cubicBezTo>
                            <a:cubicBezTo>
                              <a:pt x="862" y="300"/>
                              <a:pt x="812" y="290"/>
                              <a:pt x="782" y="300"/>
                            </a:cubicBezTo>
                            <a:cubicBezTo>
                              <a:pt x="752" y="270"/>
                              <a:pt x="716" y="245"/>
                              <a:pt x="692" y="210"/>
                            </a:cubicBezTo>
                            <a:cubicBezTo>
                              <a:pt x="674" y="184"/>
                              <a:pt x="693" y="112"/>
                              <a:pt x="662" y="120"/>
                            </a:cubicBezTo>
                            <a:cubicBezTo>
                              <a:pt x="647" y="124"/>
                              <a:pt x="530" y="303"/>
                              <a:pt x="512" y="330"/>
                            </a:cubicBezTo>
                            <a:cubicBezTo>
                              <a:pt x="492" y="300"/>
                              <a:pt x="488" y="240"/>
                              <a:pt x="452" y="240"/>
                            </a:cubicBezTo>
                            <a:cubicBezTo>
                              <a:pt x="416" y="240"/>
                              <a:pt x="404" y="296"/>
                              <a:pt x="392" y="330"/>
                            </a:cubicBezTo>
                            <a:cubicBezTo>
                              <a:pt x="364" y="407"/>
                              <a:pt x="332" y="570"/>
                              <a:pt x="332" y="570"/>
                            </a:cubicBezTo>
                            <a:cubicBezTo>
                              <a:pt x="322" y="520"/>
                              <a:pt x="351" y="432"/>
                              <a:pt x="302" y="420"/>
                            </a:cubicBezTo>
                            <a:cubicBezTo>
                              <a:pt x="253" y="408"/>
                              <a:pt x="212" y="490"/>
                              <a:pt x="212" y="540"/>
                            </a:cubicBezTo>
                            <a:cubicBezTo>
                              <a:pt x="212" y="576"/>
                              <a:pt x="272" y="580"/>
                              <a:pt x="302" y="600"/>
                            </a:cubicBezTo>
                            <a:cubicBezTo>
                              <a:pt x="332" y="590"/>
                              <a:pt x="367" y="590"/>
                              <a:pt x="392" y="570"/>
                            </a:cubicBezTo>
                            <a:cubicBezTo>
                              <a:pt x="586" y="415"/>
                              <a:pt x="316" y="525"/>
                              <a:pt x="542" y="450"/>
                            </a:cubicBezTo>
                            <a:cubicBezTo>
                              <a:pt x="679" y="245"/>
                              <a:pt x="539" y="403"/>
                              <a:pt x="632" y="450"/>
                            </a:cubicBezTo>
                            <a:cubicBezTo>
                              <a:pt x="660" y="464"/>
                              <a:pt x="692" y="430"/>
                              <a:pt x="722" y="420"/>
                            </a:cubicBezTo>
                            <a:cubicBezTo>
                              <a:pt x="742" y="390"/>
                              <a:pt x="766" y="362"/>
                              <a:pt x="782" y="330"/>
                            </a:cubicBezTo>
                            <a:cubicBezTo>
                              <a:pt x="796" y="302"/>
                              <a:pt x="780" y="240"/>
                              <a:pt x="812" y="240"/>
                            </a:cubicBezTo>
                            <a:cubicBezTo>
                              <a:pt x="844" y="240"/>
                              <a:pt x="833" y="300"/>
                              <a:pt x="842" y="330"/>
                            </a:cubicBezTo>
                            <a:cubicBezTo>
                              <a:pt x="917" y="594"/>
                              <a:pt x="830" y="324"/>
                              <a:pt x="902" y="540"/>
                            </a:cubicBezTo>
                            <a:cubicBezTo>
                              <a:pt x="942" y="530"/>
                              <a:pt x="990" y="536"/>
                              <a:pt x="1022" y="510"/>
                            </a:cubicBezTo>
                            <a:cubicBezTo>
                              <a:pt x="1047" y="490"/>
                              <a:pt x="1044" y="451"/>
                              <a:pt x="1052" y="420"/>
                            </a:cubicBezTo>
                            <a:cubicBezTo>
                              <a:pt x="1154" y="48"/>
                              <a:pt x="1073" y="297"/>
                              <a:pt x="1142" y="90"/>
                            </a:cubicBezTo>
                            <a:cubicBezTo>
                              <a:pt x="1132" y="210"/>
                              <a:pt x="1138" y="332"/>
                              <a:pt x="1112" y="450"/>
                            </a:cubicBezTo>
                            <a:cubicBezTo>
                              <a:pt x="1105" y="481"/>
                              <a:pt x="1056" y="378"/>
                              <a:pt x="1082" y="360"/>
                            </a:cubicBezTo>
                            <a:cubicBezTo>
                              <a:pt x="1116" y="337"/>
                              <a:pt x="1162" y="380"/>
                              <a:pt x="1202" y="390"/>
                            </a:cubicBezTo>
                            <a:cubicBezTo>
                              <a:pt x="1232" y="380"/>
                              <a:pt x="1270" y="382"/>
                              <a:pt x="1292" y="360"/>
                            </a:cubicBezTo>
                            <a:cubicBezTo>
                              <a:pt x="1314" y="338"/>
                              <a:pt x="1304" y="244"/>
                              <a:pt x="1322" y="270"/>
                            </a:cubicBezTo>
                            <a:cubicBezTo>
                              <a:pt x="1356" y="321"/>
                              <a:pt x="1339" y="391"/>
                              <a:pt x="1352" y="450"/>
                            </a:cubicBezTo>
                            <a:cubicBezTo>
                              <a:pt x="1359" y="481"/>
                              <a:pt x="1372" y="510"/>
                              <a:pt x="1382" y="540"/>
                            </a:cubicBezTo>
                            <a:cubicBezTo>
                              <a:pt x="1412" y="510"/>
                              <a:pt x="1451" y="487"/>
                              <a:pt x="1472" y="450"/>
                            </a:cubicBezTo>
                            <a:cubicBezTo>
                              <a:pt x="1503" y="395"/>
                              <a:pt x="1532" y="270"/>
                              <a:pt x="1532" y="270"/>
                            </a:cubicBezTo>
                            <a:cubicBezTo>
                              <a:pt x="1542" y="370"/>
                              <a:pt x="1521" y="478"/>
                              <a:pt x="1562" y="570"/>
                            </a:cubicBezTo>
                            <a:cubicBezTo>
                              <a:pt x="1575" y="599"/>
                              <a:pt x="1623" y="528"/>
                              <a:pt x="1652" y="540"/>
                            </a:cubicBezTo>
                            <a:cubicBezTo>
                              <a:pt x="1685" y="553"/>
                              <a:pt x="1692" y="600"/>
                              <a:pt x="1712" y="630"/>
                            </a:cubicBezTo>
                            <a:cubicBezTo>
                              <a:pt x="1722" y="710"/>
                              <a:pt x="1690" y="808"/>
                              <a:pt x="1742" y="870"/>
                            </a:cubicBezTo>
                            <a:cubicBezTo>
                              <a:pt x="1798" y="938"/>
                              <a:pt x="1914" y="731"/>
                              <a:pt x="1922" y="720"/>
                            </a:cubicBezTo>
                            <a:cubicBezTo>
                              <a:pt x="1882" y="660"/>
                              <a:pt x="1861" y="582"/>
                              <a:pt x="1802" y="540"/>
                            </a:cubicBezTo>
                            <a:cubicBezTo>
                              <a:pt x="1776" y="522"/>
                              <a:pt x="1742" y="580"/>
                              <a:pt x="1712" y="570"/>
                            </a:cubicBezTo>
                            <a:cubicBezTo>
                              <a:pt x="1672" y="557"/>
                              <a:pt x="1652" y="510"/>
                              <a:pt x="1622" y="480"/>
                            </a:cubicBezTo>
                            <a:cubicBezTo>
                              <a:pt x="1602" y="510"/>
                              <a:pt x="1592" y="590"/>
                              <a:pt x="1562" y="570"/>
                            </a:cubicBezTo>
                            <a:cubicBezTo>
                              <a:pt x="1520" y="542"/>
                              <a:pt x="1543" y="470"/>
                              <a:pt x="1532" y="420"/>
                            </a:cubicBezTo>
                            <a:cubicBezTo>
                              <a:pt x="1523" y="380"/>
                              <a:pt x="1514" y="339"/>
                              <a:pt x="1502" y="300"/>
                            </a:cubicBezTo>
                            <a:cubicBezTo>
                              <a:pt x="1484" y="239"/>
                              <a:pt x="1442" y="120"/>
                              <a:pt x="1442" y="120"/>
                            </a:cubicBezTo>
                            <a:cubicBezTo>
                              <a:pt x="1412" y="130"/>
                              <a:pt x="1374" y="128"/>
                              <a:pt x="1352" y="150"/>
                            </a:cubicBezTo>
                            <a:cubicBezTo>
                              <a:pt x="1338" y="164"/>
                              <a:pt x="1292" y="359"/>
                              <a:pt x="1292" y="360"/>
                            </a:cubicBezTo>
                            <a:cubicBezTo>
                              <a:pt x="1242" y="340"/>
                              <a:pt x="1186" y="331"/>
                              <a:pt x="1142" y="300"/>
                            </a:cubicBezTo>
                            <a:cubicBezTo>
                              <a:pt x="1113" y="279"/>
                              <a:pt x="1107" y="235"/>
                              <a:pt x="1082" y="210"/>
                            </a:cubicBezTo>
                            <a:cubicBezTo>
                              <a:pt x="1047" y="175"/>
                              <a:pt x="1002" y="150"/>
                              <a:pt x="962" y="120"/>
                            </a:cubicBezTo>
                            <a:cubicBezTo>
                              <a:pt x="879" y="153"/>
                              <a:pt x="727" y="205"/>
                              <a:pt x="662" y="270"/>
                            </a:cubicBezTo>
                            <a:cubicBezTo>
                              <a:pt x="549" y="383"/>
                              <a:pt x="644" y="372"/>
                              <a:pt x="572" y="480"/>
                            </a:cubicBezTo>
                            <a:cubicBezTo>
                              <a:pt x="548" y="515"/>
                              <a:pt x="512" y="540"/>
                              <a:pt x="482" y="570"/>
                            </a:cubicBezTo>
                            <a:cubicBezTo>
                              <a:pt x="462" y="540"/>
                              <a:pt x="436" y="513"/>
                              <a:pt x="422" y="480"/>
                            </a:cubicBezTo>
                            <a:cubicBezTo>
                              <a:pt x="357" y="329"/>
                              <a:pt x="453" y="315"/>
                              <a:pt x="272" y="450"/>
                            </a:cubicBezTo>
                            <a:cubicBezTo>
                              <a:pt x="190" y="780"/>
                              <a:pt x="314" y="368"/>
                              <a:pt x="152" y="660"/>
                            </a:cubicBezTo>
                            <a:cubicBezTo>
                              <a:pt x="121" y="715"/>
                              <a:pt x="107" y="779"/>
                              <a:pt x="92" y="840"/>
                            </a:cubicBezTo>
                            <a:cubicBezTo>
                              <a:pt x="72" y="920"/>
                              <a:pt x="32" y="1080"/>
                              <a:pt x="32" y="1080"/>
                            </a:cubicBezTo>
                            <a:cubicBezTo>
                              <a:pt x="0" y="950"/>
                              <a:pt x="2" y="1001"/>
                              <a:pt x="2" y="93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9" name=""/>
                    <p:cNvSpPr/>
                    <p:nvPr/>
                  </p:nvSpPr>
                  <p:spPr>
                    <a:xfrm rot="972000">
                      <a:off x="6527520" y="2600640"/>
                      <a:ext cx="1885680" cy="2407320"/>
                    </a:xfrm>
                    <a:custGeom>
                      <a:avLst/>
                      <a:gdLst/>
                      <a:ahLst/>
                      <a:rect l="l" t="t" r="r" b="b"/>
                      <a:pathLst>
                        <a:path w="4923" h="7255">
                          <a:moveTo>
                            <a:pt x="2223" y="0"/>
                          </a:moveTo>
                          <a:cubicBezTo>
                            <a:pt x="2229" y="158"/>
                            <a:pt x="2258" y="317"/>
                            <a:pt x="2241" y="474"/>
                          </a:cubicBezTo>
                          <a:cubicBezTo>
                            <a:pt x="2239" y="496"/>
                            <a:pt x="2082" y="592"/>
                            <a:pt x="2073" y="600"/>
                          </a:cubicBezTo>
                          <a:cubicBezTo>
                            <a:pt x="2040" y="627"/>
                            <a:pt x="2018" y="666"/>
                            <a:pt x="1983" y="690"/>
                          </a:cubicBezTo>
                          <a:cubicBezTo>
                            <a:pt x="1832" y="790"/>
                            <a:pt x="1624" y="738"/>
                            <a:pt x="1443" y="750"/>
                          </a:cubicBezTo>
                          <a:cubicBezTo>
                            <a:pt x="1268" y="808"/>
                            <a:pt x="1202" y="812"/>
                            <a:pt x="1113" y="990"/>
                          </a:cubicBezTo>
                          <a:cubicBezTo>
                            <a:pt x="1099" y="1018"/>
                            <a:pt x="1098" y="1052"/>
                            <a:pt x="1083" y="1080"/>
                          </a:cubicBezTo>
                          <a:cubicBezTo>
                            <a:pt x="1048" y="1143"/>
                            <a:pt x="963" y="1260"/>
                            <a:pt x="963" y="1260"/>
                          </a:cubicBezTo>
                          <a:cubicBezTo>
                            <a:pt x="919" y="1479"/>
                            <a:pt x="877" y="1699"/>
                            <a:pt x="843" y="1920"/>
                          </a:cubicBezTo>
                          <a:cubicBezTo>
                            <a:pt x="831" y="1998"/>
                            <a:pt x="802" y="2226"/>
                            <a:pt x="783" y="2310"/>
                          </a:cubicBezTo>
                          <a:cubicBezTo>
                            <a:pt x="736" y="2522"/>
                            <a:pt x="672" y="2734"/>
                            <a:pt x="603" y="2940"/>
                          </a:cubicBezTo>
                          <a:cubicBezTo>
                            <a:pt x="592" y="2974"/>
                            <a:pt x="558" y="2997"/>
                            <a:pt x="543" y="3030"/>
                          </a:cubicBezTo>
                          <a:cubicBezTo>
                            <a:pt x="400" y="3351"/>
                            <a:pt x="559" y="3096"/>
                            <a:pt x="423" y="3300"/>
                          </a:cubicBezTo>
                          <a:cubicBezTo>
                            <a:pt x="406" y="3367"/>
                            <a:pt x="385" y="3488"/>
                            <a:pt x="333" y="3540"/>
                          </a:cubicBezTo>
                          <a:cubicBezTo>
                            <a:pt x="311" y="3562"/>
                            <a:pt x="273" y="3560"/>
                            <a:pt x="243" y="3570"/>
                          </a:cubicBezTo>
                          <a:cubicBezTo>
                            <a:pt x="473" y="3647"/>
                            <a:pt x="222" y="3549"/>
                            <a:pt x="33" y="3630"/>
                          </a:cubicBezTo>
                          <a:cubicBezTo>
                            <a:pt x="0" y="3644"/>
                            <a:pt x="93" y="3670"/>
                            <a:pt x="123" y="3690"/>
                          </a:cubicBezTo>
                          <a:cubicBezTo>
                            <a:pt x="170" y="3832"/>
                            <a:pt x="163" y="3738"/>
                            <a:pt x="93" y="3900"/>
                          </a:cubicBezTo>
                          <a:cubicBezTo>
                            <a:pt x="81" y="3929"/>
                            <a:pt x="37" y="3972"/>
                            <a:pt x="63" y="3990"/>
                          </a:cubicBezTo>
                          <a:cubicBezTo>
                            <a:pt x="97" y="4013"/>
                            <a:pt x="143" y="3969"/>
                            <a:pt x="183" y="3960"/>
                          </a:cubicBezTo>
                          <a:cubicBezTo>
                            <a:pt x="233" y="3949"/>
                            <a:pt x="283" y="3940"/>
                            <a:pt x="333" y="3930"/>
                          </a:cubicBezTo>
                          <a:cubicBezTo>
                            <a:pt x="283" y="4005"/>
                            <a:pt x="246" y="4053"/>
                            <a:pt x="213" y="4140"/>
                          </a:cubicBezTo>
                          <a:cubicBezTo>
                            <a:pt x="199" y="4179"/>
                            <a:pt x="146" y="4242"/>
                            <a:pt x="183" y="4260"/>
                          </a:cubicBezTo>
                          <a:cubicBezTo>
                            <a:pt x="221" y="4279"/>
                            <a:pt x="243" y="4200"/>
                            <a:pt x="273" y="4170"/>
                          </a:cubicBezTo>
                          <a:cubicBezTo>
                            <a:pt x="274" y="4168"/>
                            <a:pt x="332" y="3967"/>
                            <a:pt x="363" y="3990"/>
                          </a:cubicBezTo>
                          <a:cubicBezTo>
                            <a:pt x="414" y="4028"/>
                            <a:pt x="326" y="4228"/>
                            <a:pt x="423" y="4170"/>
                          </a:cubicBezTo>
                          <a:lnTo>
                            <a:pt x="513" y="3930"/>
                          </a:lnTo>
                          <a:lnTo>
                            <a:pt x="1665" y="1626"/>
                          </a:lnTo>
                          <a:lnTo>
                            <a:pt x="1665" y="3786"/>
                          </a:lnTo>
                          <a:lnTo>
                            <a:pt x="945" y="6666"/>
                          </a:lnTo>
                          <a:cubicBezTo>
                            <a:pt x="891" y="6674"/>
                            <a:pt x="838" y="6691"/>
                            <a:pt x="783" y="6690"/>
                          </a:cubicBezTo>
                          <a:cubicBezTo>
                            <a:pt x="732" y="6689"/>
                            <a:pt x="682" y="6648"/>
                            <a:pt x="633" y="6660"/>
                          </a:cubicBezTo>
                          <a:cubicBezTo>
                            <a:pt x="592" y="6670"/>
                            <a:pt x="573" y="6720"/>
                            <a:pt x="543" y="6750"/>
                          </a:cubicBezTo>
                          <a:cubicBezTo>
                            <a:pt x="573" y="7134"/>
                            <a:pt x="458" y="7099"/>
                            <a:pt x="693" y="7200"/>
                          </a:cubicBezTo>
                          <a:cubicBezTo>
                            <a:pt x="722" y="7212"/>
                            <a:pt x="753" y="7220"/>
                            <a:pt x="783" y="7230"/>
                          </a:cubicBezTo>
                          <a:cubicBezTo>
                            <a:pt x="963" y="7220"/>
                            <a:pt x="1151" y="7255"/>
                            <a:pt x="1323" y="7200"/>
                          </a:cubicBezTo>
                          <a:cubicBezTo>
                            <a:pt x="1392" y="7178"/>
                            <a:pt x="1443" y="7020"/>
                            <a:pt x="1443" y="7020"/>
                          </a:cubicBezTo>
                          <a:cubicBezTo>
                            <a:pt x="1477" y="6885"/>
                            <a:pt x="1485" y="6687"/>
                            <a:pt x="1563" y="6570"/>
                          </a:cubicBezTo>
                          <a:cubicBezTo>
                            <a:pt x="1583" y="6540"/>
                            <a:pt x="1607" y="6512"/>
                            <a:pt x="1623" y="6480"/>
                          </a:cubicBezTo>
                          <a:cubicBezTo>
                            <a:pt x="1681" y="6363"/>
                            <a:pt x="1625" y="6405"/>
                            <a:pt x="1683" y="6270"/>
                          </a:cubicBezTo>
                          <a:cubicBezTo>
                            <a:pt x="1697" y="6237"/>
                            <a:pt x="1723" y="6210"/>
                            <a:pt x="1743" y="6180"/>
                          </a:cubicBezTo>
                          <a:cubicBezTo>
                            <a:pt x="1753" y="6120"/>
                            <a:pt x="1758" y="6059"/>
                            <a:pt x="1773" y="6000"/>
                          </a:cubicBezTo>
                          <a:cubicBezTo>
                            <a:pt x="1804" y="5878"/>
                            <a:pt x="1862" y="5762"/>
                            <a:pt x="1893" y="5640"/>
                          </a:cubicBezTo>
                          <a:cubicBezTo>
                            <a:pt x="1903" y="5600"/>
                            <a:pt x="1907" y="5558"/>
                            <a:pt x="1923" y="5520"/>
                          </a:cubicBezTo>
                          <a:cubicBezTo>
                            <a:pt x="1937" y="5487"/>
                            <a:pt x="1968" y="5463"/>
                            <a:pt x="1983" y="5430"/>
                          </a:cubicBezTo>
                          <a:cubicBezTo>
                            <a:pt x="2038" y="5307"/>
                            <a:pt x="2043" y="5160"/>
                            <a:pt x="2103" y="5040"/>
                          </a:cubicBezTo>
                          <a:cubicBezTo>
                            <a:pt x="2119" y="5008"/>
                            <a:pt x="2148" y="4983"/>
                            <a:pt x="2163" y="4950"/>
                          </a:cubicBezTo>
                          <a:cubicBezTo>
                            <a:pt x="2189" y="4891"/>
                            <a:pt x="2243" y="4650"/>
                            <a:pt x="2283" y="4590"/>
                          </a:cubicBezTo>
                          <a:cubicBezTo>
                            <a:pt x="2303" y="4560"/>
                            <a:pt x="2328" y="4533"/>
                            <a:pt x="2343" y="4500"/>
                          </a:cubicBezTo>
                          <a:cubicBezTo>
                            <a:pt x="2369" y="4442"/>
                            <a:pt x="2403" y="4320"/>
                            <a:pt x="2403" y="4320"/>
                          </a:cubicBezTo>
                          <a:cubicBezTo>
                            <a:pt x="2519" y="4494"/>
                            <a:pt x="2518" y="4696"/>
                            <a:pt x="2583" y="4890"/>
                          </a:cubicBezTo>
                          <a:cubicBezTo>
                            <a:pt x="2597" y="4932"/>
                            <a:pt x="2625" y="4969"/>
                            <a:pt x="2643" y="5010"/>
                          </a:cubicBezTo>
                          <a:cubicBezTo>
                            <a:pt x="2694" y="5128"/>
                            <a:pt x="2735" y="5255"/>
                            <a:pt x="2793" y="5370"/>
                          </a:cubicBezTo>
                          <a:cubicBezTo>
                            <a:pt x="2809" y="5402"/>
                            <a:pt x="2837" y="5428"/>
                            <a:pt x="2853" y="5460"/>
                          </a:cubicBezTo>
                          <a:cubicBezTo>
                            <a:pt x="2867" y="5488"/>
                            <a:pt x="2871" y="5521"/>
                            <a:pt x="2883" y="5550"/>
                          </a:cubicBezTo>
                          <a:cubicBezTo>
                            <a:pt x="2929" y="5657"/>
                            <a:pt x="2943" y="5670"/>
                            <a:pt x="3003" y="5760"/>
                          </a:cubicBezTo>
                          <a:cubicBezTo>
                            <a:pt x="3065" y="6010"/>
                            <a:pt x="2989" y="5763"/>
                            <a:pt x="3093" y="5970"/>
                          </a:cubicBezTo>
                          <a:cubicBezTo>
                            <a:pt x="3154" y="6093"/>
                            <a:pt x="3182" y="6239"/>
                            <a:pt x="3243" y="6360"/>
                          </a:cubicBezTo>
                          <a:cubicBezTo>
                            <a:pt x="3279" y="6432"/>
                            <a:pt x="3330" y="6496"/>
                            <a:pt x="3363" y="6570"/>
                          </a:cubicBezTo>
                          <a:cubicBezTo>
                            <a:pt x="3389" y="6628"/>
                            <a:pt x="3403" y="6690"/>
                            <a:pt x="3423" y="6750"/>
                          </a:cubicBezTo>
                          <a:cubicBezTo>
                            <a:pt x="3437" y="6792"/>
                            <a:pt x="3466" y="6828"/>
                            <a:pt x="3483" y="6870"/>
                          </a:cubicBezTo>
                          <a:cubicBezTo>
                            <a:pt x="3506" y="6929"/>
                            <a:pt x="3523" y="6990"/>
                            <a:pt x="3543" y="7050"/>
                          </a:cubicBezTo>
                          <a:cubicBezTo>
                            <a:pt x="3561" y="7103"/>
                            <a:pt x="3724" y="7150"/>
                            <a:pt x="3783" y="7170"/>
                          </a:cubicBezTo>
                          <a:cubicBezTo>
                            <a:pt x="3923" y="7160"/>
                            <a:pt x="4064" y="7161"/>
                            <a:pt x="4203" y="7140"/>
                          </a:cubicBezTo>
                          <a:cubicBezTo>
                            <a:pt x="4266" y="7131"/>
                            <a:pt x="4383" y="7080"/>
                            <a:pt x="4383" y="7080"/>
                          </a:cubicBezTo>
                          <a:cubicBezTo>
                            <a:pt x="4443" y="6900"/>
                            <a:pt x="4461" y="6807"/>
                            <a:pt x="4413" y="6600"/>
                          </a:cubicBezTo>
                          <a:cubicBezTo>
                            <a:pt x="4403" y="6556"/>
                            <a:pt x="4387" y="6509"/>
                            <a:pt x="4353" y="6480"/>
                          </a:cubicBezTo>
                          <a:cubicBezTo>
                            <a:pt x="4321" y="6454"/>
                            <a:pt x="4273" y="6460"/>
                            <a:pt x="4233" y="6450"/>
                          </a:cubicBezTo>
                          <a:cubicBezTo>
                            <a:pt x="4173" y="6460"/>
                            <a:pt x="4111" y="6461"/>
                            <a:pt x="4053" y="6480"/>
                          </a:cubicBezTo>
                          <a:cubicBezTo>
                            <a:pt x="4019" y="6491"/>
                            <a:pt x="3986" y="6568"/>
                            <a:pt x="3963" y="6540"/>
                          </a:cubicBezTo>
                          <a:cubicBezTo>
                            <a:pt x="3910" y="6477"/>
                            <a:pt x="3974" y="6471"/>
                            <a:pt x="3903" y="6300"/>
                          </a:cubicBezTo>
                          <a:lnTo>
                            <a:pt x="3249" y="3786"/>
                          </a:lnTo>
                          <a:lnTo>
                            <a:pt x="3249" y="1482"/>
                          </a:lnTo>
                          <a:cubicBezTo>
                            <a:pt x="3585" y="2298"/>
                            <a:pt x="3950" y="3103"/>
                            <a:pt x="4257" y="3930"/>
                          </a:cubicBezTo>
                          <a:cubicBezTo>
                            <a:pt x="4272" y="3971"/>
                            <a:pt x="4219" y="4009"/>
                            <a:pt x="4203" y="4050"/>
                          </a:cubicBezTo>
                          <a:cubicBezTo>
                            <a:pt x="4166" y="4141"/>
                            <a:pt x="4004" y="4543"/>
                            <a:pt x="4173" y="4290"/>
                          </a:cubicBezTo>
                          <a:cubicBezTo>
                            <a:pt x="4195" y="4201"/>
                            <a:pt x="4213" y="4054"/>
                            <a:pt x="4293" y="3990"/>
                          </a:cubicBezTo>
                          <a:cubicBezTo>
                            <a:pt x="4318" y="3970"/>
                            <a:pt x="4353" y="3970"/>
                            <a:pt x="4383" y="3960"/>
                          </a:cubicBezTo>
                          <a:cubicBezTo>
                            <a:pt x="4403" y="4000"/>
                            <a:pt x="4426" y="4038"/>
                            <a:pt x="4443" y="4080"/>
                          </a:cubicBezTo>
                          <a:cubicBezTo>
                            <a:pt x="4466" y="4139"/>
                            <a:pt x="4518" y="4321"/>
                            <a:pt x="4503" y="4260"/>
                          </a:cubicBezTo>
                          <a:cubicBezTo>
                            <a:pt x="4483" y="4180"/>
                            <a:pt x="4443" y="4020"/>
                            <a:pt x="4443" y="4020"/>
                          </a:cubicBezTo>
                          <a:cubicBezTo>
                            <a:pt x="4483" y="4010"/>
                            <a:pt x="4563" y="4031"/>
                            <a:pt x="4563" y="3990"/>
                          </a:cubicBezTo>
                          <a:cubicBezTo>
                            <a:pt x="4563" y="3949"/>
                            <a:pt x="4406" y="3978"/>
                            <a:pt x="4443" y="3960"/>
                          </a:cubicBezTo>
                          <a:cubicBezTo>
                            <a:pt x="4534" y="3914"/>
                            <a:pt x="4643" y="3920"/>
                            <a:pt x="4743" y="3900"/>
                          </a:cubicBezTo>
                          <a:cubicBezTo>
                            <a:pt x="4832" y="3882"/>
                            <a:pt x="4847" y="3861"/>
                            <a:pt x="4923" y="3810"/>
                          </a:cubicBezTo>
                          <a:cubicBezTo>
                            <a:pt x="4913" y="3780"/>
                            <a:pt x="4923" y="3729"/>
                            <a:pt x="4893" y="3720"/>
                          </a:cubicBezTo>
                          <a:cubicBezTo>
                            <a:pt x="4588" y="3626"/>
                            <a:pt x="4406" y="3775"/>
                            <a:pt x="4623" y="3630"/>
                          </a:cubicBezTo>
                          <a:cubicBezTo>
                            <a:pt x="4643" y="3600"/>
                            <a:pt x="4699" y="3572"/>
                            <a:pt x="4683" y="3540"/>
                          </a:cubicBezTo>
                          <a:cubicBezTo>
                            <a:pt x="4664" y="3503"/>
                            <a:pt x="4616" y="3925"/>
                            <a:pt x="4473" y="3510"/>
                          </a:cubicBezTo>
                          <a:cubicBezTo>
                            <a:pt x="4109" y="2452"/>
                            <a:pt x="4330" y="3135"/>
                            <a:pt x="3825" y="1050"/>
                          </a:cubicBezTo>
                          <a:cubicBezTo>
                            <a:pt x="3818" y="1021"/>
                            <a:pt x="3826" y="987"/>
                            <a:pt x="3813" y="960"/>
                          </a:cubicBezTo>
                          <a:cubicBezTo>
                            <a:pt x="3781" y="895"/>
                            <a:pt x="3716" y="848"/>
                            <a:pt x="3693" y="780"/>
                          </a:cubicBezTo>
                          <a:cubicBezTo>
                            <a:pt x="3683" y="750"/>
                            <a:pt x="3689" y="708"/>
                            <a:pt x="3663" y="690"/>
                          </a:cubicBezTo>
                          <a:cubicBezTo>
                            <a:pt x="3505" y="577"/>
                            <a:pt x="3209" y="595"/>
                            <a:pt x="3033" y="570"/>
                          </a:cubicBezTo>
                          <a:cubicBezTo>
                            <a:pt x="2983" y="540"/>
                            <a:pt x="2927" y="518"/>
                            <a:pt x="2883" y="480"/>
                          </a:cubicBezTo>
                          <a:cubicBezTo>
                            <a:pt x="2746" y="363"/>
                            <a:pt x="2763" y="156"/>
                            <a:pt x="2763" y="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7098840" y="2775240"/>
                    <a:ext cx="1120680" cy="1299960"/>
                    <a:chOff x="7098840" y="2775240"/>
                    <a:chExt cx="1120680" cy="1299960"/>
                  </a:xfrm>
                </p:grpSpPr>
                <p:sp>
                  <p:nvSpPr>
                    <p:cNvPr id="251" name=""/>
                    <p:cNvSpPr/>
                    <p:nvPr/>
                  </p:nvSpPr>
                  <p:spPr>
                    <a:xfrm rot="972000">
                      <a:off x="7567920" y="2832120"/>
                      <a:ext cx="430200" cy="151200"/>
                    </a:xfrm>
                    <a:custGeom>
                      <a:avLst/>
                      <a:gdLst/>
                      <a:ahLst/>
                      <a:rect l="l" t="t" r="r" b="b"/>
                      <a:pathLst>
                        <a:path w="2070" h="660">
                          <a:moveTo>
                            <a:pt x="0" y="180"/>
                          </a:moveTo>
                          <a:cubicBezTo>
                            <a:pt x="72" y="395"/>
                            <a:pt x="259" y="458"/>
                            <a:pt x="450" y="540"/>
                          </a:cubicBezTo>
                          <a:cubicBezTo>
                            <a:pt x="634" y="619"/>
                            <a:pt x="652" y="629"/>
                            <a:pt x="870" y="660"/>
                          </a:cubicBezTo>
                          <a:cubicBezTo>
                            <a:pt x="1010" y="650"/>
                            <a:pt x="1151" y="645"/>
                            <a:pt x="1290" y="630"/>
                          </a:cubicBezTo>
                          <a:cubicBezTo>
                            <a:pt x="1395" y="618"/>
                            <a:pt x="1518" y="569"/>
                            <a:pt x="1620" y="540"/>
                          </a:cubicBezTo>
                          <a:cubicBezTo>
                            <a:pt x="1650" y="531"/>
                            <a:pt x="1682" y="525"/>
                            <a:pt x="1710" y="510"/>
                          </a:cubicBezTo>
                          <a:cubicBezTo>
                            <a:pt x="1773" y="475"/>
                            <a:pt x="1890" y="390"/>
                            <a:pt x="1890" y="390"/>
                          </a:cubicBezTo>
                          <a:cubicBezTo>
                            <a:pt x="1920" y="340"/>
                            <a:pt x="1954" y="292"/>
                            <a:pt x="1980" y="240"/>
                          </a:cubicBezTo>
                          <a:cubicBezTo>
                            <a:pt x="2020" y="160"/>
                            <a:pt x="2005" y="65"/>
                            <a:pt x="2070" y="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V="1">
                      <a:off x="7407360" y="4040280"/>
                      <a:ext cx="352800" cy="3492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 name=""/>
                    <p:cNvSpPr/>
                    <p:nvPr/>
                  </p:nvSpPr>
                  <p:spPr>
                    <a:xfrm flipH="1" flipV="1">
                      <a:off x="7098840" y="3848040"/>
                      <a:ext cx="250560" cy="21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7173720" y="3698280"/>
                      <a:ext cx="603720" cy="17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V="1">
                      <a:off x="7981560" y="3209400"/>
                      <a:ext cx="237960" cy="68400"/>
                    </a:xfrm>
                    <a:prstGeom prst="line">
                      <a:avLst/>
                    </a:prstGeom>
                    <a:ln w="381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6" name=""/>
                    <p:cNvSpPr/>
                    <p:nvPr/>
                  </p:nvSpPr>
                  <p:spPr>
                    <a:xfrm flipH="1" flipV="1">
                      <a:off x="7117920" y="2923920"/>
                      <a:ext cx="192960" cy="19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7" name=""/>
                <p:cNvSpPr/>
                <p:nvPr/>
              </p:nvSpPr>
              <p:spPr>
                <a:xfrm rot="972000">
                  <a:off x="6368040" y="4380840"/>
                  <a:ext cx="565560" cy="430560"/>
                </a:xfrm>
                <a:custGeom>
                  <a:avLst/>
                  <a:gdLst/>
                  <a:ahLst/>
                  <a:rect l="l" t="t" r="r" b="b"/>
                  <a:pathLst>
                    <a:path w="1680" h="1608">
                      <a:moveTo>
                        <a:pt x="1032" y="144"/>
                      </a:moveTo>
                      <a:cubicBezTo>
                        <a:pt x="912" y="264"/>
                        <a:pt x="1008" y="720"/>
                        <a:pt x="888" y="864"/>
                      </a:cubicBezTo>
                      <a:cubicBezTo>
                        <a:pt x="768" y="1008"/>
                        <a:pt x="456" y="936"/>
                        <a:pt x="312" y="1008"/>
                      </a:cubicBezTo>
                      <a:cubicBezTo>
                        <a:pt x="168" y="1080"/>
                        <a:pt x="48" y="1200"/>
                        <a:pt x="24" y="1296"/>
                      </a:cubicBezTo>
                      <a:cubicBezTo>
                        <a:pt x="0" y="1392"/>
                        <a:pt x="0" y="1560"/>
                        <a:pt x="168" y="1584"/>
                      </a:cubicBezTo>
                      <a:cubicBezTo>
                        <a:pt x="336" y="1608"/>
                        <a:pt x="816" y="1440"/>
                        <a:pt x="1032" y="1440"/>
                      </a:cubicBezTo>
                      <a:cubicBezTo>
                        <a:pt x="1248" y="1440"/>
                        <a:pt x="1368" y="1608"/>
                        <a:pt x="1464" y="1584"/>
                      </a:cubicBezTo>
                      <a:cubicBezTo>
                        <a:pt x="1560" y="1560"/>
                        <a:pt x="1608" y="1392"/>
                        <a:pt x="1608" y="1296"/>
                      </a:cubicBezTo>
                      <a:cubicBezTo>
                        <a:pt x="1608" y="1200"/>
                        <a:pt x="1464" y="1200"/>
                        <a:pt x="1464" y="1008"/>
                      </a:cubicBezTo>
                      <a:cubicBezTo>
                        <a:pt x="1464" y="816"/>
                        <a:pt x="1680" y="288"/>
                        <a:pt x="1608" y="144"/>
                      </a:cubicBezTo>
                      <a:cubicBezTo>
                        <a:pt x="1536" y="0"/>
                        <a:pt x="1152" y="24"/>
                        <a:pt x="1032" y="144"/>
                      </a:cubicBezTo>
                      <a:close/>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rot="971400">
                  <a:off x="7466400" y="4611600"/>
                  <a:ext cx="565560" cy="516600"/>
                </a:xfrm>
                <a:custGeom>
                  <a:avLst/>
                  <a:gdLst/>
                  <a:ahLst/>
                  <a:rect l="l" t="t" r="r" b="b"/>
                  <a:pathLst>
                    <a:path w="1680" h="1608">
                      <a:moveTo>
                        <a:pt x="1032" y="144"/>
                      </a:moveTo>
                      <a:cubicBezTo>
                        <a:pt x="912" y="264"/>
                        <a:pt x="1008" y="720"/>
                        <a:pt x="888" y="864"/>
                      </a:cubicBezTo>
                      <a:cubicBezTo>
                        <a:pt x="768" y="1008"/>
                        <a:pt x="456" y="936"/>
                        <a:pt x="312" y="1008"/>
                      </a:cubicBezTo>
                      <a:cubicBezTo>
                        <a:pt x="168" y="1080"/>
                        <a:pt x="48" y="1200"/>
                        <a:pt x="24" y="1296"/>
                      </a:cubicBezTo>
                      <a:cubicBezTo>
                        <a:pt x="0" y="1392"/>
                        <a:pt x="0" y="1560"/>
                        <a:pt x="168" y="1584"/>
                      </a:cubicBezTo>
                      <a:cubicBezTo>
                        <a:pt x="336" y="1608"/>
                        <a:pt x="816" y="1440"/>
                        <a:pt x="1032" y="1440"/>
                      </a:cubicBezTo>
                      <a:cubicBezTo>
                        <a:pt x="1248" y="1440"/>
                        <a:pt x="1368" y="1608"/>
                        <a:pt x="1464" y="1584"/>
                      </a:cubicBezTo>
                      <a:cubicBezTo>
                        <a:pt x="1560" y="1560"/>
                        <a:pt x="1608" y="1392"/>
                        <a:pt x="1608" y="1296"/>
                      </a:cubicBezTo>
                      <a:cubicBezTo>
                        <a:pt x="1608" y="1200"/>
                        <a:pt x="1464" y="1200"/>
                        <a:pt x="1464" y="1008"/>
                      </a:cubicBezTo>
                      <a:cubicBezTo>
                        <a:pt x="1464" y="816"/>
                        <a:pt x="1680" y="288"/>
                        <a:pt x="1608" y="144"/>
                      </a:cubicBezTo>
                      <a:cubicBezTo>
                        <a:pt x="1536" y="0"/>
                        <a:pt x="1152" y="24"/>
                        <a:pt x="1032" y="144"/>
                      </a:cubicBezTo>
                      <a:close/>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9" name=""/>
              <p:cNvGrpSpPr/>
              <p:nvPr/>
            </p:nvGrpSpPr>
            <p:grpSpPr>
              <a:xfrm>
                <a:off x="2522160" y="2418120"/>
                <a:ext cx="2127240" cy="3386520"/>
                <a:chOff x="2522160" y="2418120"/>
                <a:chExt cx="2127240" cy="3386520"/>
              </a:xfrm>
            </p:grpSpPr>
            <p:grpSp>
              <p:nvGrpSpPr>
                <p:cNvPr id="260" name=""/>
                <p:cNvGrpSpPr/>
                <p:nvPr/>
              </p:nvGrpSpPr>
              <p:grpSpPr>
                <a:xfrm>
                  <a:off x="2522160" y="2418120"/>
                  <a:ext cx="2127240" cy="3386520"/>
                  <a:chOff x="2522160" y="2418120"/>
                  <a:chExt cx="2127240" cy="3386520"/>
                </a:xfrm>
              </p:grpSpPr>
              <p:grpSp>
                <p:nvGrpSpPr>
                  <p:cNvPr id="261" name=""/>
                  <p:cNvGrpSpPr/>
                  <p:nvPr/>
                </p:nvGrpSpPr>
                <p:grpSpPr>
                  <a:xfrm>
                    <a:off x="2522160" y="2418120"/>
                    <a:ext cx="2127240" cy="3386520"/>
                    <a:chOff x="2522160" y="2418120"/>
                    <a:chExt cx="2127240" cy="3386520"/>
                  </a:xfrm>
                </p:grpSpPr>
                <p:grpSp>
                  <p:nvGrpSpPr>
                    <p:cNvPr id="262" name=""/>
                    <p:cNvGrpSpPr/>
                    <p:nvPr/>
                  </p:nvGrpSpPr>
                  <p:grpSpPr>
                    <a:xfrm>
                      <a:off x="3377160" y="2418120"/>
                      <a:ext cx="857880" cy="938880"/>
                      <a:chOff x="3377160" y="2418120"/>
                      <a:chExt cx="857880" cy="938880"/>
                    </a:xfrm>
                  </p:grpSpPr>
                  <p:grpSp>
                    <p:nvGrpSpPr>
                      <p:cNvPr id="263" name=""/>
                      <p:cNvGrpSpPr/>
                      <p:nvPr/>
                    </p:nvGrpSpPr>
                    <p:grpSpPr>
                      <a:xfrm>
                        <a:off x="3377160" y="2421000"/>
                        <a:ext cx="857880" cy="936000"/>
                        <a:chOff x="3377160" y="2421000"/>
                        <a:chExt cx="857880" cy="936000"/>
                      </a:xfrm>
                    </p:grpSpPr>
                    <p:sp>
                      <p:nvSpPr>
                        <p:cNvPr id="264" name=""/>
                        <p:cNvSpPr/>
                        <p:nvPr/>
                      </p:nvSpPr>
                      <p:spPr>
                        <a:xfrm rot="360600">
                          <a:off x="3420000" y="2458800"/>
                          <a:ext cx="772200" cy="86004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 name=""/>
                        <p:cNvGrpSpPr/>
                        <p:nvPr/>
                      </p:nvGrpSpPr>
                      <p:grpSpPr>
                        <a:xfrm>
                          <a:off x="3641760" y="2681640"/>
                          <a:ext cx="129600" cy="201600"/>
                          <a:chOff x="3641760" y="2681640"/>
                          <a:chExt cx="129600" cy="201600"/>
                        </a:xfrm>
                      </p:grpSpPr>
                      <p:sp>
                        <p:nvSpPr>
                          <p:cNvPr id="266" name=""/>
                          <p:cNvSpPr/>
                          <p:nvPr/>
                        </p:nvSpPr>
                        <p:spPr>
                          <a:xfrm rot="360600">
                            <a:off x="3651480" y="2686680"/>
                            <a:ext cx="110160" cy="19116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rot="360600">
                            <a:off x="3646440" y="2781720"/>
                            <a:ext cx="110160" cy="95400"/>
                          </a:xfrm>
                          <a:prstGeom prst="ellipse">
                            <a:avLst/>
                          </a:prstGeom>
                          <a:solidFill>
                            <a:srgbClr val="4a8ac4"/>
                          </a:solidFill>
                          <a:ln w="38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268" name=""/>
                        <p:cNvGrpSpPr/>
                        <p:nvPr/>
                      </p:nvGrpSpPr>
                      <p:grpSpPr>
                        <a:xfrm>
                          <a:off x="3861000" y="2704680"/>
                          <a:ext cx="129600" cy="201600"/>
                          <a:chOff x="3861000" y="2704680"/>
                          <a:chExt cx="129600" cy="201600"/>
                        </a:xfrm>
                      </p:grpSpPr>
                      <p:sp>
                        <p:nvSpPr>
                          <p:cNvPr id="269" name=""/>
                          <p:cNvSpPr/>
                          <p:nvPr/>
                        </p:nvSpPr>
                        <p:spPr>
                          <a:xfrm rot="360600">
                            <a:off x="3870720" y="2709720"/>
                            <a:ext cx="110160" cy="19116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rot="360600">
                            <a:off x="3866040" y="2804760"/>
                            <a:ext cx="110160" cy="95400"/>
                          </a:xfrm>
                          <a:prstGeom prst="ellipse">
                            <a:avLst/>
                          </a:prstGeom>
                          <a:solidFill>
                            <a:srgbClr val="4a8ac4"/>
                          </a:solidFill>
                          <a:ln w="38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271" name=""/>
                        <p:cNvSpPr/>
                        <p:nvPr/>
                      </p:nvSpPr>
                      <p:spPr>
                        <a:xfrm rot="360600">
                          <a:off x="3851280" y="2632320"/>
                          <a:ext cx="206640" cy="59400"/>
                        </a:xfrm>
                        <a:custGeom>
                          <a:avLst/>
                          <a:gdLst/>
                          <a:ahLst/>
                          <a:rect l="l" t="t" r="r" b="b"/>
                          <a:pathLst>
                            <a:path w="540" h="180">
                              <a:moveTo>
                                <a:pt x="0" y="180"/>
                              </a:moveTo>
                              <a:cubicBezTo>
                                <a:pt x="10" y="150"/>
                                <a:pt x="10" y="115"/>
                                <a:pt x="30" y="90"/>
                              </a:cubicBezTo>
                              <a:cubicBezTo>
                                <a:pt x="72" y="37"/>
                                <a:pt x="151" y="20"/>
                                <a:pt x="210" y="0"/>
                              </a:cubicBezTo>
                              <a:cubicBezTo>
                                <a:pt x="267" y="11"/>
                                <a:pt x="389" y="29"/>
                                <a:pt x="450" y="60"/>
                              </a:cubicBezTo>
                              <a:cubicBezTo>
                                <a:pt x="482" y="76"/>
                                <a:pt x="540" y="120"/>
                                <a:pt x="540" y="120"/>
                              </a:cubicBezTo>
                            </a:path>
                          </a:pathLst>
                        </a:custGeom>
                        <a:solidFill>
                          <a:srgbClr val="4a8ac4"/>
                        </a:solidFill>
                        <a:ln w="381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72" name=""/>
                        <p:cNvSpPr/>
                        <p:nvPr/>
                      </p:nvSpPr>
                      <p:spPr>
                        <a:xfrm flipH="1" rot="360000">
                          <a:off x="3607920" y="2638800"/>
                          <a:ext cx="206640" cy="59760"/>
                        </a:xfrm>
                        <a:custGeom>
                          <a:avLst/>
                          <a:gdLst/>
                          <a:ahLst/>
                          <a:rect l="l" t="t" r="r" b="b"/>
                          <a:pathLst>
                            <a:path w="540" h="180">
                              <a:moveTo>
                                <a:pt x="0" y="180"/>
                              </a:moveTo>
                              <a:cubicBezTo>
                                <a:pt x="10" y="150"/>
                                <a:pt x="10" y="115"/>
                                <a:pt x="30" y="90"/>
                              </a:cubicBezTo>
                              <a:cubicBezTo>
                                <a:pt x="72" y="37"/>
                                <a:pt x="151" y="20"/>
                                <a:pt x="210" y="0"/>
                              </a:cubicBezTo>
                              <a:cubicBezTo>
                                <a:pt x="267" y="11"/>
                                <a:pt x="389" y="29"/>
                                <a:pt x="450" y="60"/>
                              </a:cubicBezTo>
                              <a:cubicBezTo>
                                <a:pt x="482" y="76"/>
                                <a:pt x="540" y="120"/>
                                <a:pt x="540" y="120"/>
                              </a:cubicBezTo>
                            </a:path>
                          </a:pathLst>
                        </a:custGeom>
                        <a:solidFill>
                          <a:srgbClr val="4a8ac4"/>
                        </a:solidFill>
                        <a:ln w="38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3" name=""/>
                        <p:cNvSpPr/>
                        <p:nvPr/>
                      </p:nvSpPr>
                      <p:spPr>
                        <a:xfrm rot="360600">
                          <a:off x="3754800" y="2844000"/>
                          <a:ext cx="45720" cy="139320"/>
                        </a:xfrm>
                        <a:custGeom>
                          <a:avLst/>
                          <a:gdLst/>
                          <a:ahLst/>
                          <a:rect l="l" t="t" r="r" b="b"/>
                          <a:pathLst>
                            <a:path w="120" h="420">
                              <a:moveTo>
                                <a:pt x="120" y="0"/>
                              </a:moveTo>
                              <a:cubicBezTo>
                                <a:pt x="110" y="83"/>
                                <a:pt x="106" y="238"/>
                                <a:pt x="60" y="330"/>
                              </a:cubicBezTo>
                              <a:cubicBezTo>
                                <a:pt x="44" y="362"/>
                                <a:pt x="0" y="420"/>
                                <a:pt x="0" y="42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rot="360600">
                          <a:off x="3649320" y="3116520"/>
                          <a:ext cx="298800" cy="79560"/>
                        </a:xfrm>
                        <a:custGeom>
                          <a:avLst/>
                          <a:gdLst/>
                          <a:ahLst/>
                          <a:rect l="l" t="t" r="r" b="b"/>
                          <a:pathLst>
                            <a:path w="780" h="240">
                              <a:moveTo>
                                <a:pt x="0" y="0"/>
                              </a:moveTo>
                              <a:cubicBezTo>
                                <a:pt x="20" y="30"/>
                                <a:pt x="35" y="65"/>
                                <a:pt x="60" y="90"/>
                              </a:cubicBezTo>
                              <a:cubicBezTo>
                                <a:pt x="158" y="188"/>
                                <a:pt x="320" y="208"/>
                                <a:pt x="450" y="240"/>
                              </a:cubicBezTo>
                              <a:cubicBezTo>
                                <a:pt x="530" y="230"/>
                                <a:pt x="615" y="240"/>
                                <a:pt x="690" y="210"/>
                              </a:cubicBezTo>
                              <a:cubicBezTo>
                                <a:pt x="745" y="188"/>
                                <a:pt x="780" y="51"/>
                                <a:pt x="780" y="0"/>
                              </a:cubicBezTo>
                            </a:path>
                          </a:pathLst>
                        </a:custGeom>
                        <a:solidFill>
                          <a:srgbClr val="4a8ac4"/>
                        </a:solidFill>
                        <a:ln w="38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sp>
                    <p:nvSpPr>
                      <p:cNvPr id="275" name=""/>
                      <p:cNvSpPr/>
                      <p:nvPr/>
                    </p:nvSpPr>
                    <p:spPr>
                      <a:xfrm rot="360600">
                        <a:off x="3473640" y="2455560"/>
                        <a:ext cx="736200" cy="358200"/>
                      </a:xfrm>
                      <a:custGeom>
                        <a:avLst/>
                        <a:gdLst/>
                        <a:ahLst/>
                        <a:rect l="l" t="t" r="r" b="b"/>
                        <a:pathLst>
                          <a:path w="1922" h="1080">
                            <a:moveTo>
                              <a:pt x="962" y="0"/>
                            </a:moveTo>
                            <a:cubicBezTo>
                              <a:pt x="942" y="60"/>
                              <a:pt x="922" y="120"/>
                              <a:pt x="902" y="180"/>
                            </a:cubicBezTo>
                            <a:cubicBezTo>
                              <a:pt x="892" y="210"/>
                              <a:pt x="882" y="240"/>
                              <a:pt x="872" y="270"/>
                            </a:cubicBezTo>
                            <a:cubicBezTo>
                              <a:pt x="862" y="300"/>
                              <a:pt x="812" y="290"/>
                              <a:pt x="782" y="300"/>
                            </a:cubicBezTo>
                            <a:cubicBezTo>
                              <a:pt x="752" y="270"/>
                              <a:pt x="716" y="245"/>
                              <a:pt x="692" y="210"/>
                            </a:cubicBezTo>
                            <a:cubicBezTo>
                              <a:pt x="674" y="184"/>
                              <a:pt x="693" y="112"/>
                              <a:pt x="662" y="120"/>
                            </a:cubicBezTo>
                            <a:cubicBezTo>
                              <a:pt x="647" y="124"/>
                              <a:pt x="530" y="303"/>
                              <a:pt x="512" y="330"/>
                            </a:cubicBezTo>
                            <a:cubicBezTo>
                              <a:pt x="492" y="300"/>
                              <a:pt x="488" y="240"/>
                              <a:pt x="452" y="240"/>
                            </a:cubicBezTo>
                            <a:cubicBezTo>
                              <a:pt x="416" y="240"/>
                              <a:pt x="404" y="296"/>
                              <a:pt x="392" y="330"/>
                            </a:cubicBezTo>
                            <a:cubicBezTo>
                              <a:pt x="364" y="407"/>
                              <a:pt x="332" y="570"/>
                              <a:pt x="332" y="570"/>
                            </a:cubicBezTo>
                            <a:cubicBezTo>
                              <a:pt x="322" y="520"/>
                              <a:pt x="351" y="432"/>
                              <a:pt x="302" y="420"/>
                            </a:cubicBezTo>
                            <a:cubicBezTo>
                              <a:pt x="253" y="408"/>
                              <a:pt x="212" y="490"/>
                              <a:pt x="212" y="540"/>
                            </a:cubicBezTo>
                            <a:cubicBezTo>
                              <a:pt x="212" y="576"/>
                              <a:pt x="272" y="580"/>
                              <a:pt x="302" y="600"/>
                            </a:cubicBezTo>
                            <a:cubicBezTo>
                              <a:pt x="332" y="590"/>
                              <a:pt x="367" y="590"/>
                              <a:pt x="392" y="570"/>
                            </a:cubicBezTo>
                            <a:cubicBezTo>
                              <a:pt x="586" y="415"/>
                              <a:pt x="316" y="525"/>
                              <a:pt x="542" y="450"/>
                            </a:cubicBezTo>
                            <a:cubicBezTo>
                              <a:pt x="679" y="245"/>
                              <a:pt x="539" y="403"/>
                              <a:pt x="632" y="450"/>
                            </a:cubicBezTo>
                            <a:cubicBezTo>
                              <a:pt x="660" y="464"/>
                              <a:pt x="692" y="430"/>
                              <a:pt x="722" y="420"/>
                            </a:cubicBezTo>
                            <a:cubicBezTo>
                              <a:pt x="742" y="390"/>
                              <a:pt x="766" y="362"/>
                              <a:pt x="782" y="330"/>
                            </a:cubicBezTo>
                            <a:cubicBezTo>
                              <a:pt x="796" y="302"/>
                              <a:pt x="780" y="240"/>
                              <a:pt x="812" y="240"/>
                            </a:cubicBezTo>
                            <a:cubicBezTo>
                              <a:pt x="844" y="240"/>
                              <a:pt x="833" y="300"/>
                              <a:pt x="842" y="330"/>
                            </a:cubicBezTo>
                            <a:cubicBezTo>
                              <a:pt x="917" y="594"/>
                              <a:pt x="830" y="324"/>
                              <a:pt x="902" y="540"/>
                            </a:cubicBezTo>
                            <a:cubicBezTo>
                              <a:pt x="942" y="530"/>
                              <a:pt x="990" y="536"/>
                              <a:pt x="1022" y="510"/>
                            </a:cubicBezTo>
                            <a:cubicBezTo>
                              <a:pt x="1047" y="490"/>
                              <a:pt x="1044" y="451"/>
                              <a:pt x="1052" y="420"/>
                            </a:cubicBezTo>
                            <a:cubicBezTo>
                              <a:pt x="1154" y="48"/>
                              <a:pt x="1073" y="297"/>
                              <a:pt x="1142" y="90"/>
                            </a:cubicBezTo>
                            <a:cubicBezTo>
                              <a:pt x="1132" y="210"/>
                              <a:pt x="1138" y="332"/>
                              <a:pt x="1112" y="450"/>
                            </a:cubicBezTo>
                            <a:cubicBezTo>
                              <a:pt x="1105" y="481"/>
                              <a:pt x="1056" y="378"/>
                              <a:pt x="1082" y="360"/>
                            </a:cubicBezTo>
                            <a:cubicBezTo>
                              <a:pt x="1116" y="337"/>
                              <a:pt x="1162" y="380"/>
                              <a:pt x="1202" y="390"/>
                            </a:cubicBezTo>
                            <a:cubicBezTo>
                              <a:pt x="1232" y="380"/>
                              <a:pt x="1270" y="382"/>
                              <a:pt x="1292" y="360"/>
                            </a:cubicBezTo>
                            <a:cubicBezTo>
                              <a:pt x="1314" y="338"/>
                              <a:pt x="1304" y="244"/>
                              <a:pt x="1322" y="270"/>
                            </a:cubicBezTo>
                            <a:cubicBezTo>
                              <a:pt x="1356" y="321"/>
                              <a:pt x="1339" y="391"/>
                              <a:pt x="1352" y="450"/>
                            </a:cubicBezTo>
                            <a:cubicBezTo>
                              <a:pt x="1359" y="481"/>
                              <a:pt x="1372" y="510"/>
                              <a:pt x="1382" y="540"/>
                            </a:cubicBezTo>
                            <a:cubicBezTo>
                              <a:pt x="1412" y="510"/>
                              <a:pt x="1451" y="487"/>
                              <a:pt x="1472" y="450"/>
                            </a:cubicBezTo>
                            <a:cubicBezTo>
                              <a:pt x="1503" y="395"/>
                              <a:pt x="1532" y="270"/>
                              <a:pt x="1532" y="270"/>
                            </a:cubicBezTo>
                            <a:cubicBezTo>
                              <a:pt x="1542" y="370"/>
                              <a:pt x="1521" y="478"/>
                              <a:pt x="1562" y="570"/>
                            </a:cubicBezTo>
                            <a:cubicBezTo>
                              <a:pt x="1575" y="599"/>
                              <a:pt x="1623" y="528"/>
                              <a:pt x="1652" y="540"/>
                            </a:cubicBezTo>
                            <a:cubicBezTo>
                              <a:pt x="1685" y="553"/>
                              <a:pt x="1692" y="600"/>
                              <a:pt x="1712" y="630"/>
                            </a:cubicBezTo>
                            <a:cubicBezTo>
                              <a:pt x="1722" y="710"/>
                              <a:pt x="1690" y="808"/>
                              <a:pt x="1742" y="870"/>
                            </a:cubicBezTo>
                            <a:cubicBezTo>
                              <a:pt x="1798" y="938"/>
                              <a:pt x="1914" y="731"/>
                              <a:pt x="1922" y="720"/>
                            </a:cubicBezTo>
                            <a:cubicBezTo>
                              <a:pt x="1882" y="660"/>
                              <a:pt x="1861" y="582"/>
                              <a:pt x="1802" y="540"/>
                            </a:cubicBezTo>
                            <a:cubicBezTo>
                              <a:pt x="1776" y="522"/>
                              <a:pt x="1742" y="580"/>
                              <a:pt x="1712" y="570"/>
                            </a:cubicBezTo>
                            <a:cubicBezTo>
                              <a:pt x="1672" y="557"/>
                              <a:pt x="1652" y="510"/>
                              <a:pt x="1622" y="480"/>
                            </a:cubicBezTo>
                            <a:cubicBezTo>
                              <a:pt x="1602" y="510"/>
                              <a:pt x="1592" y="590"/>
                              <a:pt x="1562" y="570"/>
                            </a:cubicBezTo>
                            <a:cubicBezTo>
                              <a:pt x="1520" y="542"/>
                              <a:pt x="1543" y="470"/>
                              <a:pt x="1532" y="420"/>
                            </a:cubicBezTo>
                            <a:cubicBezTo>
                              <a:pt x="1523" y="380"/>
                              <a:pt x="1514" y="339"/>
                              <a:pt x="1502" y="300"/>
                            </a:cubicBezTo>
                            <a:cubicBezTo>
                              <a:pt x="1484" y="239"/>
                              <a:pt x="1442" y="120"/>
                              <a:pt x="1442" y="120"/>
                            </a:cubicBezTo>
                            <a:cubicBezTo>
                              <a:pt x="1412" y="130"/>
                              <a:pt x="1374" y="128"/>
                              <a:pt x="1352" y="150"/>
                            </a:cubicBezTo>
                            <a:cubicBezTo>
                              <a:pt x="1338" y="164"/>
                              <a:pt x="1292" y="359"/>
                              <a:pt x="1292" y="360"/>
                            </a:cubicBezTo>
                            <a:cubicBezTo>
                              <a:pt x="1242" y="340"/>
                              <a:pt x="1186" y="331"/>
                              <a:pt x="1142" y="300"/>
                            </a:cubicBezTo>
                            <a:cubicBezTo>
                              <a:pt x="1113" y="279"/>
                              <a:pt x="1107" y="235"/>
                              <a:pt x="1082" y="210"/>
                            </a:cubicBezTo>
                            <a:cubicBezTo>
                              <a:pt x="1047" y="175"/>
                              <a:pt x="1002" y="150"/>
                              <a:pt x="962" y="120"/>
                            </a:cubicBezTo>
                            <a:cubicBezTo>
                              <a:pt x="879" y="153"/>
                              <a:pt x="727" y="205"/>
                              <a:pt x="662" y="270"/>
                            </a:cubicBezTo>
                            <a:cubicBezTo>
                              <a:pt x="549" y="383"/>
                              <a:pt x="644" y="372"/>
                              <a:pt x="572" y="480"/>
                            </a:cubicBezTo>
                            <a:cubicBezTo>
                              <a:pt x="548" y="515"/>
                              <a:pt x="512" y="540"/>
                              <a:pt x="482" y="570"/>
                            </a:cubicBezTo>
                            <a:cubicBezTo>
                              <a:pt x="462" y="540"/>
                              <a:pt x="436" y="513"/>
                              <a:pt x="422" y="480"/>
                            </a:cubicBezTo>
                            <a:cubicBezTo>
                              <a:pt x="357" y="329"/>
                              <a:pt x="453" y="315"/>
                              <a:pt x="272" y="450"/>
                            </a:cubicBezTo>
                            <a:cubicBezTo>
                              <a:pt x="190" y="780"/>
                              <a:pt x="314" y="368"/>
                              <a:pt x="152" y="660"/>
                            </a:cubicBezTo>
                            <a:cubicBezTo>
                              <a:pt x="121" y="715"/>
                              <a:pt x="107" y="779"/>
                              <a:pt x="92" y="840"/>
                            </a:cubicBezTo>
                            <a:cubicBezTo>
                              <a:pt x="72" y="920"/>
                              <a:pt x="32" y="1080"/>
                              <a:pt x="32" y="1080"/>
                            </a:cubicBezTo>
                            <a:cubicBezTo>
                              <a:pt x="0" y="950"/>
                              <a:pt x="2" y="1001"/>
                              <a:pt x="2" y="93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 name=""/>
                    <p:cNvSpPr/>
                    <p:nvPr/>
                  </p:nvSpPr>
                  <p:spPr>
                    <a:xfrm rot="360600">
                      <a:off x="2642760" y="3304800"/>
                      <a:ext cx="1885680" cy="2407320"/>
                    </a:xfrm>
                    <a:custGeom>
                      <a:avLst/>
                      <a:gdLst/>
                      <a:ahLst/>
                      <a:rect l="l" t="t" r="r" b="b"/>
                      <a:pathLst>
                        <a:path w="4923" h="7255">
                          <a:moveTo>
                            <a:pt x="2223" y="0"/>
                          </a:moveTo>
                          <a:cubicBezTo>
                            <a:pt x="2229" y="158"/>
                            <a:pt x="2258" y="317"/>
                            <a:pt x="2241" y="474"/>
                          </a:cubicBezTo>
                          <a:cubicBezTo>
                            <a:pt x="2239" y="496"/>
                            <a:pt x="2082" y="592"/>
                            <a:pt x="2073" y="600"/>
                          </a:cubicBezTo>
                          <a:cubicBezTo>
                            <a:pt x="2040" y="627"/>
                            <a:pt x="2018" y="666"/>
                            <a:pt x="1983" y="690"/>
                          </a:cubicBezTo>
                          <a:cubicBezTo>
                            <a:pt x="1832" y="790"/>
                            <a:pt x="1624" y="738"/>
                            <a:pt x="1443" y="750"/>
                          </a:cubicBezTo>
                          <a:cubicBezTo>
                            <a:pt x="1268" y="808"/>
                            <a:pt x="1202" y="812"/>
                            <a:pt x="1113" y="990"/>
                          </a:cubicBezTo>
                          <a:cubicBezTo>
                            <a:pt x="1099" y="1018"/>
                            <a:pt x="1098" y="1052"/>
                            <a:pt x="1083" y="1080"/>
                          </a:cubicBezTo>
                          <a:cubicBezTo>
                            <a:pt x="1048" y="1143"/>
                            <a:pt x="963" y="1260"/>
                            <a:pt x="963" y="1260"/>
                          </a:cubicBezTo>
                          <a:cubicBezTo>
                            <a:pt x="919" y="1479"/>
                            <a:pt x="877" y="1699"/>
                            <a:pt x="843" y="1920"/>
                          </a:cubicBezTo>
                          <a:cubicBezTo>
                            <a:pt x="831" y="1998"/>
                            <a:pt x="802" y="2226"/>
                            <a:pt x="783" y="2310"/>
                          </a:cubicBezTo>
                          <a:cubicBezTo>
                            <a:pt x="736" y="2522"/>
                            <a:pt x="672" y="2734"/>
                            <a:pt x="603" y="2940"/>
                          </a:cubicBezTo>
                          <a:cubicBezTo>
                            <a:pt x="592" y="2974"/>
                            <a:pt x="558" y="2997"/>
                            <a:pt x="543" y="3030"/>
                          </a:cubicBezTo>
                          <a:cubicBezTo>
                            <a:pt x="400" y="3351"/>
                            <a:pt x="559" y="3096"/>
                            <a:pt x="423" y="3300"/>
                          </a:cubicBezTo>
                          <a:cubicBezTo>
                            <a:pt x="406" y="3367"/>
                            <a:pt x="385" y="3488"/>
                            <a:pt x="333" y="3540"/>
                          </a:cubicBezTo>
                          <a:cubicBezTo>
                            <a:pt x="311" y="3562"/>
                            <a:pt x="273" y="3560"/>
                            <a:pt x="243" y="3570"/>
                          </a:cubicBezTo>
                          <a:cubicBezTo>
                            <a:pt x="473" y="3647"/>
                            <a:pt x="222" y="3549"/>
                            <a:pt x="33" y="3630"/>
                          </a:cubicBezTo>
                          <a:cubicBezTo>
                            <a:pt x="0" y="3644"/>
                            <a:pt x="93" y="3670"/>
                            <a:pt x="123" y="3690"/>
                          </a:cubicBezTo>
                          <a:cubicBezTo>
                            <a:pt x="170" y="3832"/>
                            <a:pt x="163" y="3738"/>
                            <a:pt x="93" y="3900"/>
                          </a:cubicBezTo>
                          <a:cubicBezTo>
                            <a:pt x="81" y="3929"/>
                            <a:pt x="37" y="3972"/>
                            <a:pt x="63" y="3990"/>
                          </a:cubicBezTo>
                          <a:cubicBezTo>
                            <a:pt x="97" y="4013"/>
                            <a:pt x="143" y="3969"/>
                            <a:pt x="183" y="3960"/>
                          </a:cubicBezTo>
                          <a:cubicBezTo>
                            <a:pt x="233" y="3949"/>
                            <a:pt x="283" y="3940"/>
                            <a:pt x="333" y="3930"/>
                          </a:cubicBezTo>
                          <a:cubicBezTo>
                            <a:pt x="283" y="4005"/>
                            <a:pt x="246" y="4053"/>
                            <a:pt x="213" y="4140"/>
                          </a:cubicBezTo>
                          <a:cubicBezTo>
                            <a:pt x="199" y="4179"/>
                            <a:pt x="146" y="4242"/>
                            <a:pt x="183" y="4260"/>
                          </a:cubicBezTo>
                          <a:cubicBezTo>
                            <a:pt x="221" y="4279"/>
                            <a:pt x="243" y="4200"/>
                            <a:pt x="273" y="4170"/>
                          </a:cubicBezTo>
                          <a:cubicBezTo>
                            <a:pt x="274" y="4168"/>
                            <a:pt x="332" y="3967"/>
                            <a:pt x="363" y="3990"/>
                          </a:cubicBezTo>
                          <a:cubicBezTo>
                            <a:pt x="414" y="4028"/>
                            <a:pt x="326" y="4228"/>
                            <a:pt x="423" y="4170"/>
                          </a:cubicBezTo>
                          <a:lnTo>
                            <a:pt x="513" y="3930"/>
                          </a:lnTo>
                          <a:lnTo>
                            <a:pt x="1665" y="1626"/>
                          </a:lnTo>
                          <a:lnTo>
                            <a:pt x="1665" y="3786"/>
                          </a:lnTo>
                          <a:lnTo>
                            <a:pt x="945" y="6666"/>
                          </a:lnTo>
                          <a:cubicBezTo>
                            <a:pt x="891" y="6674"/>
                            <a:pt x="838" y="6691"/>
                            <a:pt x="783" y="6690"/>
                          </a:cubicBezTo>
                          <a:cubicBezTo>
                            <a:pt x="732" y="6689"/>
                            <a:pt x="682" y="6648"/>
                            <a:pt x="633" y="6660"/>
                          </a:cubicBezTo>
                          <a:cubicBezTo>
                            <a:pt x="592" y="6670"/>
                            <a:pt x="573" y="6720"/>
                            <a:pt x="543" y="6750"/>
                          </a:cubicBezTo>
                          <a:cubicBezTo>
                            <a:pt x="573" y="7134"/>
                            <a:pt x="458" y="7099"/>
                            <a:pt x="693" y="7200"/>
                          </a:cubicBezTo>
                          <a:cubicBezTo>
                            <a:pt x="722" y="7212"/>
                            <a:pt x="753" y="7220"/>
                            <a:pt x="783" y="7230"/>
                          </a:cubicBezTo>
                          <a:cubicBezTo>
                            <a:pt x="963" y="7220"/>
                            <a:pt x="1151" y="7255"/>
                            <a:pt x="1323" y="7200"/>
                          </a:cubicBezTo>
                          <a:cubicBezTo>
                            <a:pt x="1392" y="7178"/>
                            <a:pt x="1443" y="7020"/>
                            <a:pt x="1443" y="7020"/>
                          </a:cubicBezTo>
                          <a:cubicBezTo>
                            <a:pt x="1477" y="6885"/>
                            <a:pt x="1485" y="6687"/>
                            <a:pt x="1563" y="6570"/>
                          </a:cubicBezTo>
                          <a:cubicBezTo>
                            <a:pt x="1583" y="6540"/>
                            <a:pt x="1607" y="6512"/>
                            <a:pt x="1623" y="6480"/>
                          </a:cubicBezTo>
                          <a:cubicBezTo>
                            <a:pt x="1681" y="6363"/>
                            <a:pt x="1625" y="6405"/>
                            <a:pt x="1683" y="6270"/>
                          </a:cubicBezTo>
                          <a:cubicBezTo>
                            <a:pt x="1697" y="6237"/>
                            <a:pt x="1723" y="6210"/>
                            <a:pt x="1743" y="6180"/>
                          </a:cubicBezTo>
                          <a:cubicBezTo>
                            <a:pt x="1753" y="6120"/>
                            <a:pt x="1758" y="6059"/>
                            <a:pt x="1773" y="6000"/>
                          </a:cubicBezTo>
                          <a:cubicBezTo>
                            <a:pt x="1804" y="5878"/>
                            <a:pt x="1862" y="5762"/>
                            <a:pt x="1893" y="5640"/>
                          </a:cubicBezTo>
                          <a:cubicBezTo>
                            <a:pt x="1903" y="5600"/>
                            <a:pt x="1907" y="5558"/>
                            <a:pt x="1923" y="5520"/>
                          </a:cubicBezTo>
                          <a:cubicBezTo>
                            <a:pt x="1937" y="5487"/>
                            <a:pt x="1968" y="5463"/>
                            <a:pt x="1983" y="5430"/>
                          </a:cubicBezTo>
                          <a:cubicBezTo>
                            <a:pt x="2038" y="5307"/>
                            <a:pt x="2043" y="5160"/>
                            <a:pt x="2103" y="5040"/>
                          </a:cubicBezTo>
                          <a:cubicBezTo>
                            <a:pt x="2119" y="5008"/>
                            <a:pt x="2148" y="4983"/>
                            <a:pt x="2163" y="4950"/>
                          </a:cubicBezTo>
                          <a:cubicBezTo>
                            <a:pt x="2189" y="4891"/>
                            <a:pt x="2243" y="4650"/>
                            <a:pt x="2283" y="4590"/>
                          </a:cubicBezTo>
                          <a:cubicBezTo>
                            <a:pt x="2303" y="4560"/>
                            <a:pt x="2328" y="4533"/>
                            <a:pt x="2343" y="4500"/>
                          </a:cubicBezTo>
                          <a:cubicBezTo>
                            <a:pt x="2369" y="4442"/>
                            <a:pt x="2403" y="4320"/>
                            <a:pt x="2403" y="4320"/>
                          </a:cubicBezTo>
                          <a:cubicBezTo>
                            <a:pt x="2519" y="4494"/>
                            <a:pt x="2518" y="4696"/>
                            <a:pt x="2583" y="4890"/>
                          </a:cubicBezTo>
                          <a:cubicBezTo>
                            <a:pt x="2597" y="4932"/>
                            <a:pt x="2625" y="4969"/>
                            <a:pt x="2643" y="5010"/>
                          </a:cubicBezTo>
                          <a:cubicBezTo>
                            <a:pt x="2694" y="5128"/>
                            <a:pt x="2735" y="5255"/>
                            <a:pt x="2793" y="5370"/>
                          </a:cubicBezTo>
                          <a:cubicBezTo>
                            <a:pt x="2809" y="5402"/>
                            <a:pt x="2837" y="5428"/>
                            <a:pt x="2853" y="5460"/>
                          </a:cubicBezTo>
                          <a:cubicBezTo>
                            <a:pt x="2867" y="5488"/>
                            <a:pt x="2871" y="5521"/>
                            <a:pt x="2883" y="5550"/>
                          </a:cubicBezTo>
                          <a:cubicBezTo>
                            <a:pt x="2929" y="5657"/>
                            <a:pt x="2943" y="5670"/>
                            <a:pt x="3003" y="5760"/>
                          </a:cubicBezTo>
                          <a:cubicBezTo>
                            <a:pt x="3065" y="6010"/>
                            <a:pt x="2989" y="5763"/>
                            <a:pt x="3093" y="5970"/>
                          </a:cubicBezTo>
                          <a:cubicBezTo>
                            <a:pt x="3154" y="6093"/>
                            <a:pt x="3182" y="6239"/>
                            <a:pt x="3243" y="6360"/>
                          </a:cubicBezTo>
                          <a:cubicBezTo>
                            <a:pt x="3279" y="6432"/>
                            <a:pt x="3330" y="6496"/>
                            <a:pt x="3363" y="6570"/>
                          </a:cubicBezTo>
                          <a:cubicBezTo>
                            <a:pt x="3389" y="6628"/>
                            <a:pt x="3403" y="6690"/>
                            <a:pt x="3423" y="6750"/>
                          </a:cubicBezTo>
                          <a:cubicBezTo>
                            <a:pt x="3437" y="6792"/>
                            <a:pt x="3466" y="6828"/>
                            <a:pt x="3483" y="6870"/>
                          </a:cubicBezTo>
                          <a:cubicBezTo>
                            <a:pt x="3506" y="6929"/>
                            <a:pt x="3523" y="6990"/>
                            <a:pt x="3543" y="7050"/>
                          </a:cubicBezTo>
                          <a:cubicBezTo>
                            <a:pt x="3561" y="7103"/>
                            <a:pt x="3724" y="7150"/>
                            <a:pt x="3783" y="7170"/>
                          </a:cubicBezTo>
                          <a:cubicBezTo>
                            <a:pt x="3923" y="7160"/>
                            <a:pt x="4064" y="7161"/>
                            <a:pt x="4203" y="7140"/>
                          </a:cubicBezTo>
                          <a:cubicBezTo>
                            <a:pt x="4266" y="7131"/>
                            <a:pt x="4383" y="7080"/>
                            <a:pt x="4383" y="7080"/>
                          </a:cubicBezTo>
                          <a:cubicBezTo>
                            <a:pt x="4443" y="6900"/>
                            <a:pt x="4461" y="6807"/>
                            <a:pt x="4413" y="6600"/>
                          </a:cubicBezTo>
                          <a:cubicBezTo>
                            <a:pt x="4403" y="6556"/>
                            <a:pt x="4387" y="6509"/>
                            <a:pt x="4353" y="6480"/>
                          </a:cubicBezTo>
                          <a:cubicBezTo>
                            <a:pt x="4321" y="6454"/>
                            <a:pt x="4273" y="6460"/>
                            <a:pt x="4233" y="6450"/>
                          </a:cubicBezTo>
                          <a:cubicBezTo>
                            <a:pt x="4173" y="6460"/>
                            <a:pt x="4111" y="6461"/>
                            <a:pt x="4053" y="6480"/>
                          </a:cubicBezTo>
                          <a:cubicBezTo>
                            <a:pt x="4019" y="6491"/>
                            <a:pt x="3986" y="6568"/>
                            <a:pt x="3963" y="6540"/>
                          </a:cubicBezTo>
                          <a:cubicBezTo>
                            <a:pt x="3910" y="6477"/>
                            <a:pt x="3974" y="6471"/>
                            <a:pt x="3903" y="6300"/>
                          </a:cubicBezTo>
                          <a:lnTo>
                            <a:pt x="3249" y="3786"/>
                          </a:lnTo>
                          <a:lnTo>
                            <a:pt x="3249" y="1482"/>
                          </a:lnTo>
                          <a:cubicBezTo>
                            <a:pt x="3585" y="2298"/>
                            <a:pt x="3950" y="3103"/>
                            <a:pt x="4257" y="3930"/>
                          </a:cubicBezTo>
                          <a:cubicBezTo>
                            <a:pt x="4272" y="3971"/>
                            <a:pt x="4219" y="4009"/>
                            <a:pt x="4203" y="4050"/>
                          </a:cubicBezTo>
                          <a:cubicBezTo>
                            <a:pt x="4166" y="4141"/>
                            <a:pt x="4004" y="4543"/>
                            <a:pt x="4173" y="4290"/>
                          </a:cubicBezTo>
                          <a:cubicBezTo>
                            <a:pt x="4195" y="4201"/>
                            <a:pt x="4213" y="4054"/>
                            <a:pt x="4293" y="3990"/>
                          </a:cubicBezTo>
                          <a:cubicBezTo>
                            <a:pt x="4318" y="3970"/>
                            <a:pt x="4353" y="3970"/>
                            <a:pt x="4383" y="3960"/>
                          </a:cubicBezTo>
                          <a:cubicBezTo>
                            <a:pt x="4403" y="4000"/>
                            <a:pt x="4426" y="4038"/>
                            <a:pt x="4443" y="4080"/>
                          </a:cubicBezTo>
                          <a:cubicBezTo>
                            <a:pt x="4466" y="4139"/>
                            <a:pt x="4518" y="4321"/>
                            <a:pt x="4503" y="4260"/>
                          </a:cubicBezTo>
                          <a:cubicBezTo>
                            <a:pt x="4483" y="4180"/>
                            <a:pt x="4443" y="4020"/>
                            <a:pt x="4443" y="4020"/>
                          </a:cubicBezTo>
                          <a:cubicBezTo>
                            <a:pt x="4483" y="4010"/>
                            <a:pt x="4563" y="4031"/>
                            <a:pt x="4563" y="3990"/>
                          </a:cubicBezTo>
                          <a:cubicBezTo>
                            <a:pt x="4563" y="3949"/>
                            <a:pt x="4406" y="3978"/>
                            <a:pt x="4443" y="3960"/>
                          </a:cubicBezTo>
                          <a:cubicBezTo>
                            <a:pt x="4534" y="3914"/>
                            <a:pt x="4643" y="3920"/>
                            <a:pt x="4743" y="3900"/>
                          </a:cubicBezTo>
                          <a:cubicBezTo>
                            <a:pt x="4832" y="3882"/>
                            <a:pt x="4847" y="3861"/>
                            <a:pt x="4923" y="3810"/>
                          </a:cubicBezTo>
                          <a:cubicBezTo>
                            <a:pt x="4913" y="3780"/>
                            <a:pt x="4923" y="3729"/>
                            <a:pt x="4893" y="3720"/>
                          </a:cubicBezTo>
                          <a:cubicBezTo>
                            <a:pt x="4588" y="3626"/>
                            <a:pt x="4406" y="3775"/>
                            <a:pt x="4623" y="3630"/>
                          </a:cubicBezTo>
                          <a:cubicBezTo>
                            <a:pt x="4643" y="3600"/>
                            <a:pt x="4699" y="3572"/>
                            <a:pt x="4683" y="3540"/>
                          </a:cubicBezTo>
                          <a:cubicBezTo>
                            <a:pt x="4664" y="3503"/>
                            <a:pt x="4616" y="3925"/>
                            <a:pt x="4473" y="3510"/>
                          </a:cubicBezTo>
                          <a:cubicBezTo>
                            <a:pt x="4109" y="2452"/>
                            <a:pt x="4330" y="3135"/>
                            <a:pt x="3825" y="1050"/>
                          </a:cubicBezTo>
                          <a:cubicBezTo>
                            <a:pt x="3818" y="1021"/>
                            <a:pt x="3826" y="987"/>
                            <a:pt x="3813" y="960"/>
                          </a:cubicBezTo>
                          <a:cubicBezTo>
                            <a:pt x="3781" y="895"/>
                            <a:pt x="3716" y="848"/>
                            <a:pt x="3693" y="780"/>
                          </a:cubicBezTo>
                          <a:cubicBezTo>
                            <a:pt x="3683" y="750"/>
                            <a:pt x="3689" y="708"/>
                            <a:pt x="3663" y="690"/>
                          </a:cubicBezTo>
                          <a:cubicBezTo>
                            <a:pt x="3505" y="577"/>
                            <a:pt x="3209" y="595"/>
                            <a:pt x="3033" y="570"/>
                          </a:cubicBezTo>
                          <a:cubicBezTo>
                            <a:pt x="2983" y="540"/>
                            <a:pt x="2927" y="518"/>
                            <a:pt x="2883" y="480"/>
                          </a:cubicBezTo>
                          <a:cubicBezTo>
                            <a:pt x="2746" y="363"/>
                            <a:pt x="2763" y="156"/>
                            <a:pt x="2763" y="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 name=""/>
                  <p:cNvGrpSpPr/>
                  <p:nvPr/>
                </p:nvGrpSpPr>
                <p:grpSpPr>
                  <a:xfrm>
                    <a:off x="3082680" y="3472920"/>
                    <a:ext cx="1135080" cy="1312920"/>
                    <a:chOff x="3082680" y="3472920"/>
                    <a:chExt cx="1135080" cy="1312920"/>
                  </a:xfrm>
                </p:grpSpPr>
                <p:sp>
                  <p:nvSpPr>
                    <p:cNvPr id="278" name=""/>
                    <p:cNvSpPr/>
                    <p:nvPr/>
                  </p:nvSpPr>
                  <p:spPr>
                    <a:xfrm rot="360600">
                      <a:off x="3519360" y="3494880"/>
                      <a:ext cx="430200" cy="151200"/>
                    </a:xfrm>
                    <a:custGeom>
                      <a:avLst/>
                      <a:gdLst/>
                      <a:ahLst/>
                      <a:rect l="l" t="t" r="r" b="b"/>
                      <a:pathLst>
                        <a:path w="2070" h="660">
                          <a:moveTo>
                            <a:pt x="0" y="180"/>
                          </a:moveTo>
                          <a:cubicBezTo>
                            <a:pt x="72" y="395"/>
                            <a:pt x="259" y="458"/>
                            <a:pt x="450" y="540"/>
                          </a:cubicBezTo>
                          <a:cubicBezTo>
                            <a:pt x="634" y="619"/>
                            <a:pt x="652" y="629"/>
                            <a:pt x="870" y="660"/>
                          </a:cubicBezTo>
                          <a:cubicBezTo>
                            <a:pt x="1010" y="650"/>
                            <a:pt x="1151" y="645"/>
                            <a:pt x="1290" y="630"/>
                          </a:cubicBezTo>
                          <a:cubicBezTo>
                            <a:pt x="1395" y="618"/>
                            <a:pt x="1518" y="569"/>
                            <a:pt x="1620" y="540"/>
                          </a:cubicBezTo>
                          <a:cubicBezTo>
                            <a:pt x="1650" y="531"/>
                            <a:pt x="1682" y="525"/>
                            <a:pt x="1710" y="510"/>
                          </a:cubicBezTo>
                          <a:cubicBezTo>
                            <a:pt x="1773" y="475"/>
                            <a:pt x="1890" y="390"/>
                            <a:pt x="1890" y="390"/>
                          </a:cubicBezTo>
                          <a:cubicBezTo>
                            <a:pt x="1920" y="340"/>
                            <a:pt x="1954" y="292"/>
                            <a:pt x="1980" y="240"/>
                          </a:cubicBezTo>
                          <a:cubicBezTo>
                            <a:pt x="2020" y="160"/>
                            <a:pt x="2005" y="65"/>
                            <a:pt x="2070" y="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3571200" y="4689000"/>
                      <a:ext cx="34128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H="1" flipV="1">
                      <a:off x="3227400" y="4617000"/>
                      <a:ext cx="28368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274920" y="4456080"/>
                      <a:ext cx="624960" cy="65880"/>
                    </a:xfrm>
                    <a:prstGeom prst="line">
                      <a:avLst/>
                    </a:prstGeom>
                    <a:ln w="381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82" name=""/>
                    <p:cNvSpPr/>
                    <p:nvPr/>
                  </p:nvSpPr>
                  <p:spPr>
                    <a:xfrm flipV="1">
                      <a:off x="3995280" y="3790080"/>
                      <a:ext cx="22248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3082680" y="3704040"/>
                      <a:ext cx="224280" cy="156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84" name=""/>
                <p:cNvSpPr/>
                <p:nvPr/>
              </p:nvSpPr>
              <p:spPr>
                <a:xfrm rot="360600">
                  <a:off x="2636280" y="5217120"/>
                  <a:ext cx="565560" cy="430560"/>
                </a:xfrm>
                <a:custGeom>
                  <a:avLst/>
                  <a:gdLst/>
                  <a:ahLst/>
                  <a:rect l="l" t="t" r="r" b="b"/>
                  <a:pathLst>
                    <a:path w="1680" h="1608">
                      <a:moveTo>
                        <a:pt x="1032" y="144"/>
                      </a:moveTo>
                      <a:cubicBezTo>
                        <a:pt x="912" y="264"/>
                        <a:pt x="1008" y="720"/>
                        <a:pt x="888" y="864"/>
                      </a:cubicBezTo>
                      <a:cubicBezTo>
                        <a:pt x="768" y="1008"/>
                        <a:pt x="456" y="936"/>
                        <a:pt x="312" y="1008"/>
                      </a:cubicBezTo>
                      <a:cubicBezTo>
                        <a:pt x="168" y="1080"/>
                        <a:pt x="48" y="1200"/>
                        <a:pt x="24" y="1296"/>
                      </a:cubicBezTo>
                      <a:cubicBezTo>
                        <a:pt x="0" y="1392"/>
                        <a:pt x="0" y="1560"/>
                        <a:pt x="168" y="1584"/>
                      </a:cubicBezTo>
                      <a:cubicBezTo>
                        <a:pt x="336" y="1608"/>
                        <a:pt x="816" y="1440"/>
                        <a:pt x="1032" y="1440"/>
                      </a:cubicBezTo>
                      <a:cubicBezTo>
                        <a:pt x="1248" y="1440"/>
                        <a:pt x="1368" y="1608"/>
                        <a:pt x="1464" y="1584"/>
                      </a:cubicBezTo>
                      <a:cubicBezTo>
                        <a:pt x="1560" y="1560"/>
                        <a:pt x="1608" y="1392"/>
                        <a:pt x="1608" y="1296"/>
                      </a:cubicBezTo>
                      <a:cubicBezTo>
                        <a:pt x="1608" y="1200"/>
                        <a:pt x="1464" y="1200"/>
                        <a:pt x="1464" y="1008"/>
                      </a:cubicBezTo>
                      <a:cubicBezTo>
                        <a:pt x="1464" y="816"/>
                        <a:pt x="1680" y="288"/>
                        <a:pt x="1608" y="144"/>
                      </a:cubicBezTo>
                      <a:cubicBezTo>
                        <a:pt x="1536" y="0"/>
                        <a:pt x="1152" y="24"/>
                        <a:pt x="1032" y="144"/>
                      </a:cubicBezTo>
                      <a:close/>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flipH="1" rot="360000">
                  <a:off x="3765960" y="5249160"/>
                  <a:ext cx="565560" cy="516600"/>
                </a:xfrm>
                <a:custGeom>
                  <a:avLst/>
                  <a:gdLst/>
                  <a:ahLst/>
                  <a:rect l="l" t="t" r="r" b="b"/>
                  <a:pathLst>
                    <a:path w="1680" h="1608">
                      <a:moveTo>
                        <a:pt x="1032" y="144"/>
                      </a:moveTo>
                      <a:cubicBezTo>
                        <a:pt x="912" y="264"/>
                        <a:pt x="1008" y="720"/>
                        <a:pt x="888" y="864"/>
                      </a:cubicBezTo>
                      <a:cubicBezTo>
                        <a:pt x="768" y="1008"/>
                        <a:pt x="456" y="936"/>
                        <a:pt x="312" y="1008"/>
                      </a:cubicBezTo>
                      <a:cubicBezTo>
                        <a:pt x="168" y="1080"/>
                        <a:pt x="48" y="1200"/>
                        <a:pt x="24" y="1296"/>
                      </a:cubicBezTo>
                      <a:cubicBezTo>
                        <a:pt x="0" y="1392"/>
                        <a:pt x="0" y="1560"/>
                        <a:pt x="168" y="1584"/>
                      </a:cubicBezTo>
                      <a:cubicBezTo>
                        <a:pt x="336" y="1608"/>
                        <a:pt x="816" y="1440"/>
                        <a:pt x="1032" y="1440"/>
                      </a:cubicBezTo>
                      <a:cubicBezTo>
                        <a:pt x="1248" y="1440"/>
                        <a:pt x="1368" y="1608"/>
                        <a:pt x="1464" y="1584"/>
                      </a:cubicBezTo>
                      <a:cubicBezTo>
                        <a:pt x="1560" y="1560"/>
                        <a:pt x="1608" y="1392"/>
                        <a:pt x="1608" y="1296"/>
                      </a:cubicBezTo>
                      <a:cubicBezTo>
                        <a:pt x="1608" y="1200"/>
                        <a:pt x="1464" y="1200"/>
                        <a:pt x="1464" y="1008"/>
                      </a:cubicBezTo>
                      <a:cubicBezTo>
                        <a:pt x="1464" y="816"/>
                        <a:pt x="1680" y="288"/>
                        <a:pt x="1608" y="144"/>
                      </a:cubicBezTo>
                      <a:cubicBezTo>
                        <a:pt x="1536" y="0"/>
                        <a:pt x="1152" y="24"/>
                        <a:pt x="1032" y="144"/>
                      </a:cubicBezTo>
                      <a:close/>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 name=""/>
              <p:cNvGrpSpPr/>
              <p:nvPr/>
            </p:nvGrpSpPr>
            <p:grpSpPr>
              <a:xfrm>
                <a:off x="853200" y="2048040"/>
                <a:ext cx="2176920" cy="3241080"/>
                <a:chOff x="853200" y="2048040"/>
                <a:chExt cx="2176920" cy="3241080"/>
              </a:xfrm>
            </p:grpSpPr>
            <p:grpSp>
              <p:nvGrpSpPr>
                <p:cNvPr id="287" name=""/>
                <p:cNvGrpSpPr/>
                <p:nvPr/>
              </p:nvGrpSpPr>
              <p:grpSpPr>
                <a:xfrm>
                  <a:off x="853200" y="2048040"/>
                  <a:ext cx="2176920" cy="3241080"/>
                  <a:chOff x="853200" y="2048040"/>
                  <a:chExt cx="2176920" cy="3241080"/>
                </a:xfrm>
              </p:grpSpPr>
              <p:grpSp>
                <p:nvGrpSpPr>
                  <p:cNvPr id="288" name=""/>
                  <p:cNvGrpSpPr/>
                  <p:nvPr/>
                </p:nvGrpSpPr>
                <p:grpSpPr>
                  <a:xfrm>
                    <a:off x="853200" y="2048040"/>
                    <a:ext cx="2043360" cy="3186720"/>
                    <a:chOff x="853200" y="2048040"/>
                    <a:chExt cx="2043360" cy="3186720"/>
                  </a:xfrm>
                </p:grpSpPr>
                <p:grpSp>
                  <p:nvGrpSpPr>
                    <p:cNvPr id="289" name=""/>
                    <p:cNvGrpSpPr/>
                    <p:nvPr/>
                  </p:nvGrpSpPr>
                  <p:grpSpPr>
                    <a:xfrm>
                      <a:off x="961920" y="2048040"/>
                      <a:ext cx="1136520" cy="1071720"/>
                      <a:chOff x="961920" y="2048040"/>
                      <a:chExt cx="1136520" cy="1071720"/>
                    </a:xfrm>
                  </p:grpSpPr>
                  <p:grpSp>
                    <p:nvGrpSpPr>
                      <p:cNvPr id="290" name=""/>
                      <p:cNvGrpSpPr/>
                      <p:nvPr/>
                    </p:nvGrpSpPr>
                    <p:grpSpPr>
                      <a:xfrm>
                        <a:off x="1130400" y="2124720"/>
                        <a:ext cx="810720" cy="900000"/>
                        <a:chOff x="1130400" y="2124720"/>
                        <a:chExt cx="810720" cy="900000"/>
                      </a:xfrm>
                    </p:grpSpPr>
                    <p:sp>
                      <p:nvSpPr>
                        <p:cNvPr id="291" name=""/>
                        <p:cNvSpPr/>
                        <p:nvPr/>
                      </p:nvSpPr>
                      <p:spPr>
                        <a:xfrm rot="20808600">
                          <a:off x="1209600" y="2188800"/>
                          <a:ext cx="651960" cy="77184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2" name=""/>
                        <p:cNvGrpSpPr/>
                        <p:nvPr/>
                      </p:nvGrpSpPr>
                      <p:grpSpPr>
                        <a:xfrm>
                          <a:off x="1360440" y="2418480"/>
                          <a:ext cx="129600" cy="188280"/>
                          <a:chOff x="1360440" y="2418480"/>
                          <a:chExt cx="129600" cy="188280"/>
                        </a:xfrm>
                      </p:grpSpPr>
                      <p:sp>
                        <p:nvSpPr>
                          <p:cNvPr id="293" name=""/>
                          <p:cNvSpPr/>
                          <p:nvPr/>
                        </p:nvSpPr>
                        <p:spPr>
                          <a:xfrm rot="20808600">
                            <a:off x="1378440" y="2426760"/>
                            <a:ext cx="92880" cy="17136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rot="20808600">
                            <a:off x="1388160" y="2511360"/>
                            <a:ext cx="92880" cy="85680"/>
                          </a:xfrm>
                          <a:prstGeom prst="ellipse">
                            <a:avLst/>
                          </a:prstGeom>
                          <a:solidFill>
                            <a:srgbClr val="4a8ac4"/>
                          </a:solidFill>
                          <a:ln w="381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grpSp>
                    <p:grpSp>
                      <p:nvGrpSpPr>
                        <p:cNvPr id="295" name=""/>
                        <p:cNvGrpSpPr/>
                        <p:nvPr/>
                      </p:nvGrpSpPr>
                      <p:grpSpPr>
                        <a:xfrm>
                          <a:off x="1541880" y="2375640"/>
                          <a:ext cx="129600" cy="188280"/>
                          <a:chOff x="1541880" y="2375640"/>
                          <a:chExt cx="129600" cy="188280"/>
                        </a:xfrm>
                      </p:grpSpPr>
                      <p:sp>
                        <p:nvSpPr>
                          <p:cNvPr id="296" name=""/>
                          <p:cNvSpPr/>
                          <p:nvPr/>
                        </p:nvSpPr>
                        <p:spPr>
                          <a:xfrm rot="20808600">
                            <a:off x="1559880" y="2383920"/>
                            <a:ext cx="92880" cy="171360"/>
                          </a:xfrm>
                          <a:prstGeom prst="ellipse">
                            <a:avLst/>
                          </a:prstGeom>
                          <a:solidFill>
                            <a:srgbClr val="4a8ac4"/>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rot="20808600">
                            <a:off x="1569600" y="2468520"/>
                            <a:ext cx="92880" cy="85680"/>
                          </a:xfrm>
                          <a:prstGeom prst="ellipse">
                            <a:avLst/>
                          </a:prstGeom>
                          <a:solidFill>
                            <a:srgbClr val="4a8ac4"/>
                          </a:solidFill>
                          <a:ln w="381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grpSp>
                    <p:sp>
                      <p:nvSpPr>
                        <p:cNvPr id="298" name=""/>
                        <p:cNvSpPr/>
                        <p:nvPr/>
                      </p:nvSpPr>
                      <p:spPr>
                        <a:xfrm rot="20808600">
                          <a:off x="1500840" y="2313360"/>
                          <a:ext cx="174600" cy="53280"/>
                        </a:xfrm>
                        <a:custGeom>
                          <a:avLst/>
                          <a:gdLst/>
                          <a:ahLst/>
                          <a:rect l="l" t="t" r="r" b="b"/>
                          <a:pathLst>
                            <a:path w="540" h="180">
                              <a:moveTo>
                                <a:pt x="0" y="180"/>
                              </a:moveTo>
                              <a:cubicBezTo>
                                <a:pt x="10" y="150"/>
                                <a:pt x="10" y="115"/>
                                <a:pt x="30" y="90"/>
                              </a:cubicBezTo>
                              <a:cubicBezTo>
                                <a:pt x="72" y="37"/>
                                <a:pt x="151" y="20"/>
                                <a:pt x="210" y="0"/>
                              </a:cubicBezTo>
                              <a:cubicBezTo>
                                <a:pt x="267" y="11"/>
                                <a:pt x="389" y="29"/>
                                <a:pt x="450" y="60"/>
                              </a:cubicBezTo>
                              <a:cubicBezTo>
                                <a:pt x="482" y="76"/>
                                <a:pt x="540" y="120"/>
                                <a:pt x="540" y="120"/>
                              </a:cubicBezTo>
                            </a:path>
                          </a:pathLst>
                        </a:custGeom>
                        <a:solidFill>
                          <a:srgbClr val="4a8ac4"/>
                        </a:solidFill>
                        <a:ln w="381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99" name=""/>
                        <p:cNvSpPr/>
                        <p:nvPr/>
                      </p:nvSpPr>
                      <p:spPr>
                        <a:xfrm flipH="1" rot="20808600">
                          <a:off x="1308600" y="2387520"/>
                          <a:ext cx="174600" cy="53280"/>
                        </a:xfrm>
                        <a:custGeom>
                          <a:avLst/>
                          <a:gdLst/>
                          <a:ahLst/>
                          <a:rect l="l" t="t" r="r" b="b"/>
                          <a:pathLst>
                            <a:path w="540" h="180">
                              <a:moveTo>
                                <a:pt x="0" y="180"/>
                              </a:moveTo>
                              <a:cubicBezTo>
                                <a:pt x="10" y="150"/>
                                <a:pt x="10" y="115"/>
                                <a:pt x="30" y="90"/>
                              </a:cubicBezTo>
                              <a:cubicBezTo>
                                <a:pt x="72" y="37"/>
                                <a:pt x="151" y="20"/>
                                <a:pt x="210" y="0"/>
                              </a:cubicBezTo>
                              <a:cubicBezTo>
                                <a:pt x="267" y="11"/>
                                <a:pt x="389" y="29"/>
                                <a:pt x="450" y="60"/>
                              </a:cubicBezTo>
                              <a:cubicBezTo>
                                <a:pt x="482" y="76"/>
                                <a:pt x="540" y="120"/>
                                <a:pt x="540" y="120"/>
                              </a:cubicBezTo>
                            </a:path>
                          </a:pathLst>
                        </a:custGeom>
                        <a:solidFill>
                          <a:srgbClr val="4a8ac4"/>
                        </a:solidFill>
                        <a:ln w="381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300" name=""/>
                        <p:cNvSpPr/>
                        <p:nvPr/>
                      </p:nvSpPr>
                      <p:spPr>
                        <a:xfrm rot="20808600">
                          <a:off x="1500840" y="2541600"/>
                          <a:ext cx="38880" cy="124920"/>
                        </a:xfrm>
                        <a:custGeom>
                          <a:avLst/>
                          <a:gdLst/>
                          <a:ahLst/>
                          <a:rect l="l" t="t" r="r" b="b"/>
                          <a:pathLst>
                            <a:path w="120" h="420">
                              <a:moveTo>
                                <a:pt x="120" y="0"/>
                              </a:moveTo>
                              <a:cubicBezTo>
                                <a:pt x="110" y="83"/>
                                <a:pt x="106" y="238"/>
                                <a:pt x="60" y="330"/>
                              </a:cubicBezTo>
                              <a:cubicBezTo>
                                <a:pt x="44" y="362"/>
                                <a:pt x="0" y="420"/>
                                <a:pt x="0" y="42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rot="20808600">
                          <a:off x="1480680" y="2768400"/>
                          <a:ext cx="252360" cy="71280"/>
                        </a:xfrm>
                        <a:custGeom>
                          <a:avLst/>
                          <a:gdLst/>
                          <a:ahLst/>
                          <a:rect l="l" t="t" r="r" b="b"/>
                          <a:pathLst>
                            <a:path w="780" h="240">
                              <a:moveTo>
                                <a:pt x="0" y="0"/>
                              </a:moveTo>
                              <a:cubicBezTo>
                                <a:pt x="20" y="30"/>
                                <a:pt x="35" y="65"/>
                                <a:pt x="60" y="90"/>
                              </a:cubicBezTo>
                              <a:cubicBezTo>
                                <a:pt x="158" y="188"/>
                                <a:pt x="320" y="208"/>
                                <a:pt x="450" y="240"/>
                              </a:cubicBezTo>
                              <a:cubicBezTo>
                                <a:pt x="530" y="230"/>
                                <a:pt x="615" y="240"/>
                                <a:pt x="690" y="210"/>
                              </a:cubicBezTo>
                              <a:cubicBezTo>
                                <a:pt x="745" y="188"/>
                                <a:pt x="780" y="51"/>
                                <a:pt x="780" y="0"/>
                              </a:cubicBezTo>
                            </a:path>
                          </a:pathLst>
                        </a:custGeom>
                        <a:solidFill>
                          <a:srgbClr val="4a8ac4"/>
                        </a:solidFill>
                        <a:ln w="38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02" name=""/>
                      <p:cNvSpPr/>
                      <p:nvPr/>
                    </p:nvSpPr>
                    <p:spPr>
                      <a:xfrm rot="20808600">
                        <a:off x="1049040" y="2145960"/>
                        <a:ext cx="962280" cy="875160"/>
                      </a:xfrm>
                      <a:custGeom>
                        <a:avLst/>
                        <a:gdLst/>
                        <a:ahLst/>
                        <a:rect l="l" t="t" r="r" b="b"/>
                        <a:pathLst>
                          <a:path w="2975" h="2940">
                            <a:moveTo>
                              <a:pt x="1415" y="330"/>
                            </a:moveTo>
                            <a:cubicBezTo>
                              <a:pt x="1445" y="320"/>
                              <a:pt x="1491" y="272"/>
                              <a:pt x="1505" y="300"/>
                            </a:cubicBezTo>
                            <a:cubicBezTo>
                              <a:pt x="1521" y="332"/>
                              <a:pt x="1481" y="390"/>
                              <a:pt x="1445" y="390"/>
                            </a:cubicBezTo>
                            <a:cubicBezTo>
                              <a:pt x="1409" y="390"/>
                              <a:pt x="1405" y="330"/>
                              <a:pt x="1385" y="300"/>
                            </a:cubicBezTo>
                            <a:cubicBezTo>
                              <a:pt x="1355" y="320"/>
                              <a:pt x="1331" y="354"/>
                              <a:pt x="1295" y="360"/>
                            </a:cubicBezTo>
                            <a:cubicBezTo>
                              <a:pt x="1264" y="365"/>
                              <a:pt x="1232" y="314"/>
                              <a:pt x="1205" y="330"/>
                            </a:cubicBezTo>
                            <a:cubicBezTo>
                              <a:pt x="1174" y="349"/>
                              <a:pt x="1129" y="499"/>
                              <a:pt x="1115" y="540"/>
                            </a:cubicBezTo>
                            <a:cubicBezTo>
                              <a:pt x="1105" y="510"/>
                              <a:pt x="1117" y="450"/>
                              <a:pt x="1085" y="450"/>
                            </a:cubicBezTo>
                            <a:cubicBezTo>
                              <a:pt x="990" y="450"/>
                              <a:pt x="815" y="540"/>
                              <a:pt x="815" y="540"/>
                            </a:cubicBezTo>
                            <a:cubicBezTo>
                              <a:pt x="735" y="780"/>
                              <a:pt x="835" y="540"/>
                              <a:pt x="755" y="540"/>
                            </a:cubicBezTo>
                            <a:cubicBezTo>
                              <a:pt x="713" y="540"/>
                              <a:pt x="695" y="600"/>
                              <a:pt x="665" y="630"/>
                            </a:cubicBezTo>
                            <a:cubicBezTo>
                              <a:pt x="655" y="660"/>
                              <a:pt x="646" y="690"/>
                              <a:pt x="635" y="720"/>
                            </a:cubicBezTo>
                            <a:cubicBezTo>
                              <a:pt x="616" y="770"/>
                              <a:pt x="593" y="819"/>
                              <a:pt x="575" y="870"/>
                            </a:cubicBezTo>
                            <a:cubicBezTo>
                              <a:pt x="458" y="1198"/>
                              <a:pt x="544" y="1052"/>
                              <a:pt x="425" y="1230"/>
                            </a:cubicBezTo>
                            <a:cubicBezTo>
                              <a:pt x="405" y="1310"/>
                              <a:pt x="381" y="1389"/>
                              <a:pt x="365" y="1470"/>
                            </a:cubicBezTo>
                            <a:cubicBezTo>
                              <a:pt x="345" y="1570"/>
                              <a:pt x="305" y="1770"/>
                              <a:pt x="305" y="1770"/>
                            </a:cubicBezTo>
                            <a:cubicBezTo>
                              <a:pt x="315" y="1920"/>
                              <a:pt x="323" y="2070"/>
                              <a:pt x="335" y="2220"/>
                            </a:cubicBezTo>
                            <a:cubicBezTo>
                              <a:pt x="343" y="2320"/>
                              <a:pt x="372" y="2420"/>
                              <a:pt x="365" y="2520"/>
                            </a:cubicBezTo>
                            <a:cubicBezTo>
                              <a:pt x="361" y="2574"/>
                              <a:pt x="346" y="2635"/>
                              <a:pt x="305" y="2670"/>
                            </a:cubicBezTo>
                            <a:cubicBezTo>
                              <a:pt x="257" y="2712"/>
                              <a:pt x="125" y="2730"/>
                              <a:pt x="125" y="2730"/>
                            </a:cubicBezTo>
                            <a:cubicBezTo>
                              <a:pt x="95" y="2760"/>
                              <a:pt x="0" y="2796"/>
                              <a:pt x="35" y="2820"/>
                            </a:cubicBezTo>
                            <a:cubicBezTo>
                              <a:pt x="86" y="2854"/>
                              <a:pt x="166" y="2825"/>
                              <a:pt x="215" y="2790"/>
                            </a:cubicBezTo>
                            <a:cubicBezTo>
                              <a:pt x="249" y="2766"/>
                              <a:pt x="235" y="2710"/>
                              <a:pt x="245" y="2670"/>
                            </a:cubicBezTo>
                            <a:cubicBezTo>
                              <a:pt x="235" y="2630"/>
                              <a:pt x="252" y="2568"/>
                              <a:pt x="215" y="2550"/>
                            </a:cubicBezTo>
                            <a:cubicBezTo>
                              <a:pt x="169" y="2527"/>
                              <a:pt x="14" y="2580"/>
                              <a:pt x="65" y="2580"/>
                            </a:cubicBezTo>
                            <a:cubicBezTo>
                              <a:pt x="126" y="2580"/>
                              <a:pt x="185" y="2560"/>
                              <a:pt x="245" y="2550"/>
                            </a:cubicBezTo>
                            <a:cubicBezTo>
                              <a:pt x="363" y="2373"/>
                              <a:pt x="361" y="2274"/>
                              <a:pt x="245" y="2100"/>
                            </a:cubicBezTo>
                            <a:cubicBezTo>
                              <a:pt x="295" y="2090"/>
                              <a:pt x="379" y="2118"/>
                              <a:pt x="395" y="2070"/>
                            </a:cubicBezTo>
                            <a:cubicBezTo>
                              <a:pt x="489" y="1789"/>
                              <a:pt x="415" y="1774"/>
                              <a:pt x="275" y="1680"/>
                            </a:cubicBezTo>
                            <a:cubicBezTo>
                              <a:pt x="305" y="1670"/>
                              <a:pt x="347" y="1676"/>
                              <a:pt x="365" y="1650"/>
                            </a:cubicBezTo>
                            <a:cubicBezTo>
                              <a:pt x="393" y="1611"/>
                              <a:pt x="439" y="1414"/>
                              <a:pt x="455" y="1350"/>
                            </a:cubicBezTo>
                            <a:cubicBezTo>
                              <a:pt x="445" y="1310"/>
                              <a:pt x="460" y="1251"/>
                              <a:pt x="425" y="1230"/>
                            </a:cubicBezTo>
                            <a:cubicBezTo>
                              <a:pt x="390" y="1209"/>
                              <a:pt x="264" y="1260"/>
                              <a:pt x="305" y="1260"/>
                            </a:cubicBezTo>
                            <a:cubicBezTo>
                              <a:pt x="377" y="1260"/>
                              <a:pt x="474" y="1224"/>
                              <a:pt x="545" y="1200"/>
                            </a:cubicBezTo>
                            <a:cubicBezTo>
                              <a:pt x="585" y="1160"/>
                              <a:pt x="645" y="1133"/>
                              <a:pt x="665" y="1080"/>
                            </a:cubicBezTo>
                            <a:cubicBezTo>
                              <a:pt x="708" y="966"/>
                              <a:pt x="695" y="838"/>
                              <a:pt x="725" y="720"/>
                            </a:cubicBezTo>
                            <a:cubicBezTo>
                              <a:pt x="736" y="677"/>
                              <a:pt x="765" y="640"/>
                              <a:pt x="785" y="600"/>
                            </a:cubicBezTo>
                            <a:cubicBezTo>
                              <a:pt x="765" y="570"/>
                              <a:pt x="758" y="523"/>
                              <a:pt x="725" y="510"/>
                            </a:cubicBezTo>
                            <a:cubicBezTo>
                              <a:pt x="696" y="498"/>
                              <a:pt x="603" y="540"/>
                              <a:pt x="635" y="540"/>
                            </a:cubicBezTo>
                            <a:cubicBezTo>
                              <a:pt x="716" y="540"/>
                              <a:pt x="795" y="520"/>
                              <a:pt x="875" y="510"/>
                            </a:cubicBezTo>
                            <a:cubicBezTo>
                              <a:pt x="905" y="500"/>
                              <a:pt x="934" y="487"/>
                              <a:pt x="965" y="480"/>
                            </a:cubicBezTo>
                            <a:cubicBezTo>
                              <a:pt x="1024" y="467"/>
                              <a:pt x="1096" y="485"/>
                              <a:pt x="1145" y="450"/>
                            </a:cubicBezTo>
                            <a:cubicBezTo>
                              <a:pt x="1179" y="426"/>
                              <a:pt x="1149" y="362"/>
                              <a:pt x="1175" y="330"/>
                            </a:cubicBezTo>
                            <a:cubicBezTo>
                              <a:pt x="1195" y="305"/>
                              <a:pt x="1234" y="306"/>
                              <a:pt x="1265" y="300"/>
                            </a:cubicBezTo>
                            <a:cubicBezTo>
                              <a:pt x="1334" y="286"/>
                              <a:pt x="1405" y="280"/>
                              <a:pt x="1475" y="270"/>
                            </a:cubicBezTo>
                            <a:cubicBezTo>
                              <a:pt x="1515" y="290"/>
                              <a:pt x="1550" y="326"/>
                              <a:pt x="1595" y="330"/>
                            </a:cubicBezTo>
                            <a:cubicBezTo>
                              <a:pt x="1675" y="337"/>
                              <a:pt x="1756" y="283"/>
                              <a:pt x="1835" y="300"/>
                            </a:cubicBezTo>
                            <a:cubicBezTo>
                              <a:pt x="1866" y="307"/>
                              <a:pt x="1845" y="365"/>
                              <a:pt x="1865" y="390"/>
                            </a:cubicBezTo>
                            <a:cubicBezTo>
                              <a:pt x="1888" y="418"/>
                              <a:pt x="1925" y="430"/>
                              <a:pt x="1955" y="450"/>
                            </a:cubicBezTo>
                            <a:cubicBezTo>
                              <a:pt x="1887" y="178"/>
                              <a:pt x="1932" y="422"/>
                              <a:pt x="2015" y="450"/>
                            </a:cubicBezTo>
                            <a:cubicBezTo>
                              <a:pt x="2049" y="461"/>
                              <a:pt x="2075" y="410"/>
                              <a:pt x="2105" y="390"/>
                            </a:cubicBezTo>
                            <a:cubicBezTo>
                              <a:pt x="2165" y="420"/>
                              <a:pt x="2231" y="440"/>
                              <a:pt x="2285" y="480"/>
                            </a:cubicBezTo>
                            <a:cubicBezTo>
                              <a:pt x="2348" y="528"/>
                              <a:pt x="2346" y="596"/>
                              <a:pt x="2375" y="660"/>
                            </a:cubicBezTo>
                            <a:cubicBezTo>
                              <a:pt x="2412" y="741"/>
                              <a:pt x="2455" y="820"/>
                              <a:pt x="2495" y="900"/>
                            </a:cubicBezTo>
                            <a:cubicBezTo>
                              <a:pt x="2514" y="938"/>
                              <a:pt x="2559" y="957"/>
                              <a:pt x="2585" y="990"/>
                            </a:cubicBezTo>
                            <a:cubicBezTo>
                              <a:pt x="2629" y="1047"/>
                              <a:pt x="2705" y="1170"/>
                              <a:pt x="2705" y="1170"/>
                            </a:cubicBezTo>
                            <a:cubicBezTo>
                              <a:pt x="2725" y="1270"/>
                              <a:pt x="2765" y="1368"/>
                              <a:pt x="2765" y="1470"/>
                            </a:cubicBezTo>
                            <a:cubicBezTo>
                              <a:pt x="2765" y="1506"/>
                              <a:pt x="2721" y="1528"/>
                              <a:pt x="2705" y="1560"/>
                            </a:cubicBezTo>
                            <a:cubicBezTo>
                              <a:pt x="2691" y="1588"/>
                              <a:pt x="2685" y="1620"/>
                              <a:pt x="2675" y="1650"/>
                            </a:cubicBezTo>
                            <a:cubicBezTo>
                              <a:pt x="2695" y="1720"/>
                              <a:pt x="2698" y="1798"/>
                              <a:pt x="2735" y="1860"/>
                            </a:cubicBezTo>
                            <a:cubicBezTo>
                              <a:pt x="2780" y="1936"/>
                              <a:pt x="2966" y="1987"/>
                              <a:pt x="2765" y="1920"/>
                            </a:cubicBezTo>
                            <a:cubicBezTo>
                              <a:pt x="2735" y="1960"/>
                              <a:pt x="2684" y="1991"/>
                              <a:pt x="2675" y="2040"/>
                            </a:cubicBezTo>
                            <a:cubicBezTo>
                              <a:pt x="2635" y="2261"/>
                              <a:pt x="2800" y="2372"/>
                              <a:pt x="2975" y="2430"/>
                            </a:cubicBezTo>
                            <a:cubicBezTo>
                              <a:pt x="2945" y="2440"/>
                              <a:pt x="2910" y="2440"/>
                              <a:pt x="2885" y="2460"/>
                            </a:cubicBezTo>
                            <a:cubicBezTo>
                              <a:pt x="2820" y="2512"/>
                              <a:pt x="2813" y="2598"/>
                              <a:pt x="2795" y="2670"/>
                            </a:cubicBezTo>
                            <a:cubicBezTo>
                              <a:pt x="2815" y="2730"/>
                              <a:pt x="2855" y="2787"/>
                              <a:pt x="2855" y="2850"/>
                            </a:cubicBezTo>
                            <a:cubicBezTo>
                              <a:pt x="2855" y="2886"/>
                              <a:pt x="2770" y="2785"/>
                              <a:pt x="2795" y="2760"/>
                            </a:cubicBezTo>
                            <a:cubicBezTo>
                              <a:pt x="2820" y="2735"/>
                              <a:pt x="2855" y="2800"/>
                              <a:pt x="2885" y="2820"/>
                            </a:cubicBezTo>
                            <a:cubicBezTo>
                              <a:pt x="2917" y="2626"/>
                              <a:pt x="2935" y="2566"/>
                              <a:pt x="2825" y="2400"/>
                            </a:cubicBezTo>
                            <a:cubicBezTo>
                              <a:pt x="2795" y="2410"/>
                              <a:pt x="2735" y="2398"/>
                              <a:pt x="2735" y="2430"/>
                            </a:cubicBezTo>
                            <a:cubicBezTo>
                              <a:pt x="2735" y="2466"/>
                              <a:pt x="2794" y="2509"/>
                              <a:pt x="2825" y="2490"/>
                            </a:cubicBezTo>
                            <a:cubicBezTo>
                              <a:pt x="2871" y="2462"/>
                              <a:pt x="2865" y="2390"/>
                              <a:pt x="2885" y="2340"/>
                            </a:cubicBezTo>
                            <a:cubicBezTo>
                              <a:pt x="2875" y="2235"/>
                              <a:pt x="2886" y="1957"/>
                              <a:pt x="2765" y="1860"/>
                            </a:cubicBezTo>
                            <a:cubicBezTo>
                              <a:pt x="2740" y="1840"/>
                              <a:pt x="2705" y="1840"/>
                              <a:pt x="2675" y="1830"/>
                            </a:cubicBezTo>
                            <a:cubicBezTo>
                              <a:pt x="2645" y="1860"/>
                              <a:pt x="2606" y="1883"/>
                              <a:pt x="2585" y="1920"/>
                            </a:cubicBezTo>
                            <a:cubicBezTo>
                              <a:pt x="2565" y="1956"/>
                              <a:pt x="2517" y="2024"/>
                              <a:pt x="2555" y="2040"/>
                            </a:cubicBezTo>
                            <a:cubicBezTo>
                              <a:pt x="2629" y="2072"/>
                              <a:pt x="2715" y="2020"/>
                              <a:pt x="2795" y="2010"/>
                            </a:cubicBezTo>
                            <a:cubicBezTo>
                              <a:pt x="2879" y="1757"/>
                              <a:pt x="2739" y="1608"/>
                              <a:pt x="2555" y="1470"/>
                            </a:cubicBezTo>
                            <a:cubicBezTo>
                              <a:pt x="2535" y="1500"/>
                              <a:pt x="2479" y="1528"/>
                              <a:pt x="2495" y="1560"/>
                            </a:cubicBezTo>
                            <a:cubicBezTo>
                              <a:pt x="2509" y="1588"/>
                              <a:pt x="2563" y="1552"/>
                              <a:pt x="2585" y="1530"/>
                            </a:cubicBezTo>
                            <a:cubicBezTo>
                              <a:pt x="2607" y="1508"/>
                              <a:pt x="2605" y="1470"/>
                              <a:pt x="2615" y="1440"/>
                            </a:cubicBezTo>
                            <a:cubicBezTo>
                              <a:pt x="2568" y="1062"/>
                              <a:pt x="2669" y="1230"/>
                              <a:pt x="2465" y="1230"/>
                            </a:cubicBezTo>
                            <a:cubicBezTo>
                              <a:pt x="2433" y="1230"/>
                              <a:pt x="2525" y="1210"/>
                              <a:pt x="2555" y="1200"/>
                            </a:cubicBezTo>
                            <a:cubicBezTo>
                              <a:pt x="2520" y="993"/>
                              <a:pt x="2515" y="657"/>
                              <a:pt x="2255" y="570"/>
                            </a:cubicBezTo>
                            <a:cubicBezTo>
                              <a:pt x="2225" y="560"/>
                              <a:pt x="2195" y="550"/>
                              <a:pt x="2165" y="540"/>
                            </a:cubicBezTo>
                            <a:cubicBezTo>
                              <a:pt x="2175" y="580"/>
                              <a:pt x="2156" y="647"/>
                              <a:pt x="2195" y="660"/>
                            </a:cubicBezTo>
                            <a:cubicBezTo>
                              <a:pt x="2246" y="677"/>
                              <a:pt x="2338" y="653"/>
                              <a:pt x="2345" y="600"/>
                            </a:cubicBezTo>
                            <a:cubicBezTo>
                              <a:pt x="2354" y="528"/>
                              <a:pt x="2265" y="480"/>
                              <a:pt x="2225" y="420"/>
                            </a:cubicBezTo>
                            <a:cubicBezTo>
                              <a:pt x="2156" y="317"/>
                              <a:pt x="2091" y="250"/>
                              <a:pt x="1985" y="180"/>
                            </a:cubicBezTo>
                            <a:cubicBezTo>
                              <a:pt x="1955" y="200"/>
                              <a:pt x="1902" y="205"/>
                              <a:pt x="1895" y="240"/>
                            </a:cubicBezTo>
                            <a:cubicBezTo>
                              <a:pt x="1865" y="392"/>
                              <a:pt x="2016" y="310"/>
                              <a:pt x="2045" y="300"/>
                            </a:cubicBezTo>
                            <a:cubicBezTo>
                              <a:pt x="1985" y="240"/>
                              <a:pt x="1936" y="167"/>
                              <a:pt x="1865" y="120"/>
                            </a:cubicBezTo>
                            <a:cubicBezTo>
                              <a:pt x="1805" y="80"/>
                              <a:pt x="1685" y="0"/>
                              <a:pt x="1685" y="0"/>
                            </a:cubicBezTo>
                            <a:cubicBezTo>
                              <a:pt x="1645" y="10"/>
                              <a:pt x="1597" y="4"/>
                              <a:pt x="1565" y="30"/>
                            </a:cubicBezTo>
                            <a:cubicBezTo>
                              <a:pt x="1472" y="104"/>
                              <a:pt x="1604" y="193"/>
                              <a:pt x="1565" y="270"/>
                            </a:cubicBezTo>
                            <a:cubicBezTo>
                              <a:pt x="1549" y="302"/>
                              <a:pt x="1530" y="205"/>
                              <a:pt x="1505" y="180"/>
                            </a:cubicBezTo>
                            <a:cubicBezTo>
                              <a:pt x="1470" y="145"/>
                              <a:pt x="1425" y="120"/>
                              <a:pt x="1385" y="90"/>
                            </a:cubicBezTo>
                            <a:cubicBezTo>
                              <a:pt x="1345" y="100"/>
                              <a:pt x="1275" y="80"/>
                              <a:pt x="1265" y="120"/>
                            </a:cubicBezTo>
                            <a:cubicBezTo>
                              <a:pt x="1210" y="338"/>
                              <a:pt x="1326" y="330"/>
                              <a:pt x="1445" y="360"/>
                            </a:cubicBezTo>
                            <a:cubicBezTo>
                              <a:pt x="1396" y="323"/>
                              <a:pt x="1311" y="240"/>
                              <a:pt x="1235" y="240"/>
                            </a:cubicBezTo>
                            <a:cubicBezTo>
                              <a:pt x="1174" y="240"/>
                              <a:pt x="1115" y="260"/>
                              <a:pt x="1055" y="270"/>
                            </a:cubicBezTo>
                            <a:cubicBezTo>
                              <a:pt x="1053" y="277"/>
                              <a:pt x="937" y="524"/>
                              <a:pt x="1145" y="420"/>
                            </a:cubicBezTo>
                            <a:cubicBezTo>
                              <a:pt x="1177" y="404"/>
                              <a:pt x="1113" y="353"/>
                              <a:pt x="1085" y="330"/>
                            </a:cubicBezTo>
                            <a:cubicBezTo>
                              <a:pt x="1054" y="305"/>
                              <a:pt x="852" y="271"/>
                              <a:pt x="845" y="270"/>
                            </a:cubicBezTo>
                            <a:cubicBezTo>
                              <a:pt x="776" y="339"/>
                              <a:pt x="644" y="418"/>
                              <a:pt x="815" y="540"/>
                            </a:cubicBezTo>
                            <a:cubicBezTo>
                              <a:pt x="856" y="570"/>
                              <a:pt x="915" y="520"/>
                              <a:pt x="965" y="510"/>
                            </a:cubicBezTo>
                            <a:cubicBezTo>
                              <a:pt x="846" y="421"/>
                              <a:pt x="812" y="351"/>
                              <a:pt x="635" y="450"/>
                            </a:cubicBezTo>
                            <a:cubicBezTo>
                              <a:pt x="596" y="472"/>
                              <a:pt x="595" y="530"/>
                              <a:pt x="575" y="570"/>
                            </a:cubicBezTo>
                            <a:cubicBezTo>
                              <a:pt x="565" y="620"/>
                              <a:pt x="541" y="669"/>
                              <a:pt x="545" y="720"/>
                            </a:cubicBezTo>
                            <a:cubicBezTo>
                              <a:pt x="562" y="930"/>
                              <a:pt x="692" y="988"/>
                              <a:pt x="515" y="870"/>
                            </a:cubicBezTo>
                            <a:cubicBezTo>
                              <a:pt x="455" y="880"/>
                              <a:pt x="388" y="870"/>
                              <a:pt x="335" y="900"/>
                            </a:cubicBezTo>
                            <a:cubicBezTo>
                              <a:pt x="308" y="916"/>
                              <a:pt x="314" y="960"/>
                              <a:pt x="305" y="990"/>
                            </a:cubicBezTo>
                            <a:cubicBezTo>
                              <a:pt x="294" y="1030"/>
                              <a:pt x="285" y="1070"/>
                              <a:pt x="275" y="1110"/>
                            </a:cubicBezTo>
                            <a:cubicBezTo>
                              <a:pt x="285" y="1200"/>
                              <a:pt x="271" y="1296"/>
                              <a:pt x="305" y="1380"/>
                            </a:cubicBezTo>
                            <a:cubicBezTo>
                              <a:pt x="317" y="1409"/>
                              <a:pt x="395" y="1442"/>
                              <a:pt x="395" y="1410"/>
                            </a:cubicBezTo>
                            <a:cubicBezTo>
                              <a:pt x="395" y="1374"/>
                              <a:pt x="335" y="1370"/>
                              <a:pt x="305" y="1350"/>
                            </a:cubicBezTo>
                            <a:cubicBezTo>
                              <a:pt x="235" y="1360"/>
                              <a:pt x="152" y="1338"/>
                              <a:pt x="95" y="1380"/>
                            </a:cubicBezTo>
                            <a:cubicBezTo>
                              <a:pt x="54" y="1411"/>
                              <a:pt x="65" y="1479"/>
                              <a:pt x="65" y="1530"/>
                            </a:cubicBezTo>
                            <a:cubicBezTo>
                              <a:pt x="65" y="1820"/>
                              <a:pt x="85" y="2110"/>
                              <a:pt x="95" y="2400"/>
                            </a:cubicBezTo>
                            <a:cubicBezTo>
                              <a:pt x="185" y="2390"/>
                              <a:pt x="284" y="2410"/>
                              <a:pt x="365" y="2370"/>
                            </a:cubicBezTo>
                            <a:cubicBezTo>
                              <a:pt x="393" y="2356"/>
                              <a:pt x="366" y="2286"/>
                              <a:pt x="335" y="2280"/>
                            </a:cubicBezTo>
                            <a:cubicBezTo>
                              <a:pt x="246" y="2262"/>
                              <a:pt x="155" y="2300"/>
                              <a:pt x="65" y="2310"/>
                            </a:cubicBezTo>
                            <a:cubicBezTo>
                              <a:pt x="75" y="2420"/>
                              <a:pt x="79" y="2531"/>
                              <a:pt x="95" y="2640"/>
                            </a:cubicBezTo>
                            <a:cubicBezTo>
                              <a:pt x="99" y="2671"/>
                              <a:pt x="94" y="2722"/>
                              <a:pt x="125" y="2730"/>
                            </a:cubicBezTo>
                            <a:cubicBezTo>
                              <a:pt x="194" y="2747"/>
                              <a:pt x="265" y="2710"/>
                              <a:pt x="335" y="2700"/>
                            </a:cubicBezTo>
                            <a:cubicBezTo>
                              <a:pt x="345" y="2670"/>
                              <a:pt x="396" y="2617"/>
                              <a:pt x="365" y="2610"/>
                            </a:cubicBezTo>
                            <a:cubicBezTo>
                              <a:pt x="267" y="2588"/>
                              <a:pt x="136" y="2569"/>
                              <a:pt x="65" y="2640"/>
                            </a:cubicBezTo>
                            <a:cubicBezTo>
                              <a:pt x="8" y="2697"/>
                              <a:pt x="65" y="2805"/>
                              <a:pt x="95" y="2880"/>
                            </a:cubicBezTo>
                            <a:cubicBezTo>
                              <a:pt x="108" y="2913"/>
                              <a:pt x="155" y="2920"/>
                              <a:pt x="185" y="2940"/>
                            </a:cubicBezTo>
                            <a:cubicBezTo>
                              <a:pt x="255" y="2920"/>
                              <a:pt x="340" y="2928"/>
                              <a:pt x="395" y="2880"/>
                            </a:cubicBezTo>
                            <a:cubicBezTo>
                              <a:pt x="463" y="2821"/>
                              <a:pt x="395" y="2462"/>
                              <a:pt x="395" y="2460"/>
                            </a:cubicBezTo>
                            <a:cubicBezTo>
                              <a:pt x="335" y="2470"/>
                              <a:pt x="258" y="2447"/>
                              <a:pt x="215" y="2490"/>
                            </a:cubicBezTo>
                            <a:cubicBezTo>
                              <a:pt x="190" y="2515"/>
                              <a:pt x="269" y="2556"/>
                              <a:pt x="305" y="2550"/>
                            </a:cubicBezTo>
                            <a:cubicBezTo>
                              <a:pt x="347" y="2543"/>
                              <a:pt x="365" y="2490"/>
                              <a:pt x="395" y="2460"/>
                            </a:cubicBezTo>
                            <a:cubicBezTo>
                              <a:pt x="405" y="2430"/>
                              <a:pt x="425" y="2402"/>
                              <a:pt x="425" y="2370"/>
                            </a:cubicBezTo>
                            <a:cubicBezTo>
                              <a:pt x="425" y="2289"/>
                              <a:pt x="395" y="2130"/>
                              <a:pt x="395" y="2130"/>
                            </a:cubicBezTo>
                            <a:cubicBezTo>
                              <a:pt x="385" y="2000"/>
                              <a:pt x="381" y="1869"/>
                              <a:pt x="365" y="1740"/>
                            </a:cubicBezTo>
                            <a:cubicBezTo>
                              <a:pt x="361" y="1709"/>
                              <a:pt x="364" y="1662"/>
                              <a:pt x="335" y="1650"/>
                            </a:cubicBezTo>
                            <a:cubicBezTo>
                              <a:pt x="297" y="1635"/>
                              <a:pt x="255" y="1670"/>
                              <a:pt x="215" y="1680"/>
                            </a:cubicBezTo>
                            <a:cubicBezTo>
                              <a:pt x="182" y="1813"/>
                              <a:pt x="161" y="1958"/>
                              <a:pt x="305" y="2040"/>
                            </a:cubicBezTo>
                            <a:cubicBezTo>
                              <a:pt x="341" y="2060"/>
                              <a:pt x="385" y="2060"/>
                              <a:pt x="425" y="2070"/>
                            </a:cubicBezTo>
                            <a:cubicBezTo>
                              <a:pt x="517" y="1931"/>
                              <a:pt x="492" y="2027"/>
                              <a:pt x="425" y="1860"/>
                            </a:cubicBezTo>
                            <a:cubicBezTo>
                              <a:pt x="402" y="1801"/>
                              <a:pt x="365" y="1680"/>
                              <a:pt x="365" y="1680"/>
                            </a:cubicBezTo>
                            <a:cubicBezTo>
                              <a:pt x="355" y="1710"/>
                              <a:pt x="313" y="1748"/>
                              <a:pt x="335" y="1770"/>
                            </a:cubicBezTo>
                            <a:cubicBezTo>
                              <a:pt x="357" y="1792"/>
                              <a:pt x="419" y="1771"/>
                              <a:pt x="425" y="1740"/>
                            </a:cubicBezTo>
                            <a:cubicBezTo>
                              <a:pt x="551" y="1047"/>
                              <a:pt x="241" y="1181"/>
                              <a:pt x="545" y="1080"/>
                            </a:cubicBezTo>
                            <a:cubicBezTo>
                              <a:pt x="609" y="951"/>
                              <a:pt x="605" y="1005"/>
                              <a:pt x="605" y="93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 name=""/>
                    <p:cNvSpPr/>
                    <p:nvPr/>
                  </p:nvSpPr>
                  <p:spPr>
                    <a:xfrm rot="20808600">
                      <a:off x="1078560" y="2921040"/>
                      <a:ext cx="1592280" cy="2160360"/>
                    </a:xfrm>
                    <a:custGeom>
                      <a:avLst/>
                      <a:gdLst/>
                      <a:ahLst/>
                      <a:rect l="l" t="t" r="r" b="b"/>
                      <a:pathLst>
                        <a:path w="4923" h="7255">
                          <a:moveTo>
                            <a:pt x="2223" y="0"/>
                          </a:moveTo>
                          <a:cubicBezTo>
                            <a:pt x="2229" y="158"/>
                            <a:pt x="2258" y="317"/>
                            <a:pt x="2241" y="474"/>
                          </a:cubicBezTo>
                          <a:cubicBezTo>
                            <a:pt x="2239" y="496"/>
                            <a:pt x="2082" y="592"/>
                            <a:pt x="2073" y="600"/>
                          </a:cubicBezTo>
                          <a:cubicBezTo>
                            <a:pt x="2040" y="627"/>
                            <a:pt x="2018" y="666"/>
                            <a:pt x="1983" y="690"/>
                          </a:cubicBezTo>
                          <a:cubicBezTo>
                            <a:pt x="1832" y="790"/>
                            <a:pt x="1624" y="738"/>
                            <a:pt x="1443" y="750"/>
                          </a:cubicBezTo>
                          <a:cubicBezTo>
                            <a:pt x="1268" y="808"/>
                            <a:pt x="1202" y="812"/>
                            <a:pt x="1113" y="990"/>
                          </a:cubicBezTo>
                          <a:cubicBezTo>
                            <a:pt x="1099" y="1018"/>
                            <a:pt x="1098" y="1052"/>
                            <a:pt x="1083" y="1080"/>
                          </a:cubicBezTo>
                          <a:cubicBezTo>
                            <a:pt x="1048" y="1143"/>
                            <a:pt x="963" y="1260"/>
                            <a:pt x="963" y="1260"/>
                          </a:cubicBezTo>
                          <a:cubicBezTo>
                            <a:pt x="919" y="1479"/>
                            <a:pt x="877" y="1699"/>
                            <a:pt x="843" y="1920"/>
                          </a:cubicBezTo>
                          <a:cubicBezTo>
                            <a:pt x="831" y="1998"/>
                            <a:pt x="802" y="2226"/>
                            <a:pt x="783" y="2310"/>
                          </a:cubicBezTo>
                          <a:cubicBezTo>
                            <a:pt x="736" y="2522"/>
                            <a:pt x="672" y="2734"/>
                            <a:pt x="603" y="2940"/>
                          </a:cubicBezTo>
                          <a:cubicBezTo>
                            <a:pt x="592" y="2974"/>
                            <a:pt x="558" y="2997"/>
                            <a:pt x="543" y="3030"/>
                          </a:cubicBezTo>
                          <a:cubicBezTo>
                            <a:pt x="400" y="3351"/>
                            <a:pt x="559" y="3096"/>
                            <a:pt x="423" y="3300"/>
                          </a:cubicBezTo>
                          <a:cubicBezTo>
                            <a:pt x="406" y="3367"/>
                            <a:pt x="385" y="3488"/>
                            <a:pt x="333" y="3540"/>
                          </a:cubicBezTo>
                          <a:cubicBezTo>
                            <a:pt x="311" y="3562"/>
                            <a:pt x="273" y="3560"/>
                            <a:pt x="243" y="3570"/>
                          </a:cubicBezTo>
                          <a:cubicBezTo>
                            <a:pt x="473" y="3647"/>
                            <a:pt x="222" y="3549"/>
                            <a:pt x="33" y="3630"/>
                          </a:cubicBezTo>
                          <a:cubicBezTo>
                            <a:pt x="0" y="3644"/>
                            <a:pt x="93" y="3670"/>
                            <a:pt x="123" y="3690"/>
                          </a:cubicBezTo>
                          <a:cubicBezTo>
                            <a:pt x="170" y="3832"/>
                            <a:pt x="163" y="3738"/>
                            <a:pt x="93" y="3900"/>
                          </a:cubicBezTo>
                          <a:cubicBezTo>
                            <a:pt x="81" y="3929"/>
                            <a:pt x="37" y="3972"/>
                            <a:pt x="63" y="3990"/>
                          </a:cubicBezTo>
                          <a:cubicBezTo>
                            <a:pt x="97" y="4013"/>
                            <a:pt x="143" y="3969"/>
                            <a:pt x="183" y="3960"/>
                          </a:cubicBezTo>
                          <a:cubicBezTo>
                            <a:pt x="233" y="3949"/>
                            <a:pt x="283" y="3940"/>
                            <a:pt x="333" y="3930"/>
                          </a:cubicBezTo>
                          <a:cubicBezTo>
                            <a:pt x="283" y="4005"/>
                            <a:pt x="246" y="4053"/>
                            <a:pt x="213" y="4140"/>
                          </a:cubicBezTo>
                          <a:cubicBezTo>
                            <a:pt x="199" y="4179"/>
                            <a:pt x="146" y="4242"/>
                            <a:pt x="183" y="4260"/>
                          </a:cubicBezTo>
                          <a:cubicBezTo>
                            <a:pt x="221" y="4279"/>
                            <a:pt x="243" y="4200"/>
                            <a:pt x="273" y="4170"/>
                          </a:cubicBezTo>
                          <a:cubicBezTo>
                            <a:pt x="274" y="4168"/>
                            <a:pt x="332" y="3967"/>
                            <a:pt x="363" y="3990"/>
                          </a:cubicBezTo>
                          <a:cubicBezTo>
                            <a:pt x="414" y="4028"/>
                            <a:pt x="326" y="4228"/>
                            <a:pt x="423" y="4170"/>
                          </a:cubicBezTo>
                          <a:lnTo>
                            <a:pt x="513" y="3930"/>
                          </a:lnTo>
                          <a:lnTo>
                            <a:pt x="1665" y="1626"/>
                          </a:lnTo>
                          <a:lnTo>
                            <a:pt x="1665" y="3786"/>
                          </a:lnTo>
                          <a:lnTo>
                            <a:pt x="945" y="6666"/>
                          </a:lnTo>
                          <a:cubicBezTo>
                            <a:pt x="891" y="6674"/>
                            <a:pt x="838" y="6691"/>
                            <a:pt x="783" y="6690"/>
                          </a:cubicBezTo>
                          <a:cubicBezTo>
                            <a:pt x="732" y="6689"/>
                            <a:pt x="682" y="6648"/>
                            <a:pt x="633" y="6660"/>
                          </a:cubicBezTo>
                          <a:cubicBezTo>
                            <a:pt x="592" y="6670"/>
                            <a:pt x="573" y="6720"/>
                            <a:pt x="543" y="6750"/>
                          </a:cubicBezTo>
                          <a:cubicBezTo>
                            <a:pt x="573" y="7134"/>
                            <a:pt x="458" y="7099"/>
                            <a:pt x="693" y="7200"/>
                          </a:cubicBezTo>
                          <a:cubicBezTo>
                            <a:pt x="722" y="7212"/>
                            <a:pt x="753" y="7220"/>
                            <a:pt x="783" y="7230"/>
                          </a:cubicBezTo>
                          <a:cubicBezTo>
                            <a:pt x="963" y="7220"/>
                            <a:pt x="1151" y="7255"/>
                            <a:pt x="1323" y="7200"/>
                          </a:cubicBezTo>
                          <a:cubicBezTo>
                            <a:pt x="1392" y="7178"/>
                            <a:pt x="1443" y="7020"/>
                            <a:pt x="1443" y="7020"/>
                          </a:cubicBezTo>
                          <a:cubicBezTo>
                            <a:pt x="1477" y="6885"/>
                            <a:pt x="1485" y="6687"/>
                            <a:pt x="1563" y="6570"/>
                          </a:cubicBezTo>
                          <a:cubicBezTo>
                            <a:pt x="1583" y="6540"/>
                            <a:pt x="1607" y="6512"/>
                            <a:pt x="1623" y="6480"/>
                          </a:cubicBezTo>
                          <a:cubicBezTo>
                            <a:pt x="1681" y="6363"/>
                            <a:pt x="1625" y="6405"/>
                            <a:pt x="1683" y="6270"/>
                          </a:cubicBezTo>
                          <a:cubicBezTo>
                            <a:pt x="1697" y="6237"/>
                            <a:pt x="1723" y="6210"/>
                            <a:pt x="1743" y="6180"/>
                          </a:cubicBezTo>
                          <a:cubicBezTo>
                            <a:pt x="1753" y="6120"/>
                            <a:pt x="1758" y="6059"/>
                            <a:pt x="1773" y="6000"/>
                          </a:cubicBezTo>
                          <a:cubicBezTo>
                            <a:pt x="1804" y="5878"/>
                            <a:pt x="1862" y="5762"/>
                            <a:pt x="1893" y="5640"/>
                          </a:cubicBezTo>
                          <a:cubicBezTo>
                            <a:pt x="1903" y="5600"/>
                            <a:pt x="1907" y="5558"/>
                            <a:pt x="1923" y="5520"/>
                          </a:cubicBezTo>
                          <a:cubicBezTo>
                            <a:pt x="1937" y="5487"/>
                            <a:pt x="1968" y="5463"/>
                            <a:pt x="1983" y="5430"/>
                          </a:cubicBezTo>
                          <a:cubicBezTo>
                            <a:pt x="2038" y="5307"/>
                            <a:pt x="2043" y="5160"/>
                            <a:pt x="2103" y="5040"/>
                          </a:cubicBezTo>
                          <a:cubicBezTo>
                            <a:pt x="2119" y="5008"/>
                            <a:pt x="2148" y="4983"/>
                            <a:pt x="2163" y="4950"/>
                          </a:cubicBezTo>
                          <a:cubicBezTo>
                            <a:pt x="2189" y="4891"/>
                            <a:pt x="2243" y="4650"/>
                            <a:pt x="2283" y="4590"/>
                          </a:cubicBezTo>
                          <a:cubicBezTo>
                            <a:pt x="2303" y="4560"/>
                            <a:pt x="2328" y="4533"/>
                            <a:pt x="2343" y="4500"/>
                          </a:cubicBezTo>
                          <a:cubicBezTo>
                            <a:pt x="2369" y="4442"/>
                            <a:pt x="2403" y="4320"/>
                            <a:pt x="2403" y="4320"/>
                          </a:cubicBezTo>
                          <a:cubicBezTo>
                            <a:pt x="2519" y="4494"/>
                            <a:pt x="2518" y="4696"/>
                            <a:pt x="2583" y="4890"/>
                          </a:cubicBezTo>
                          <a:cubicBezTo>
                            <a:pt x="2597" y="4932"/>
                            <a:pt x="2625" y="4969"/>
                            <a:pt x="2643" y="5010"/>
                          </a:cubicBezTo>
                          <a:cubicBezTo>
                            <a:pt x="2694" y="5128"/>
                            <a:pt x="2735" y="5255"/>
                            <a:pt x="2793" y="5370"/>
                          </a:cubicBezTo>
                          <a:cubicBezTo>
                            <a:pt x="2809" y="5402"/>
                            <a:pt x="2837" y="5428"/>
                            <a:pt x="2853" y="5460"/>
                          </a:cubicBezTo>
                          <a:cubicBezTo>
                            <a:pt x="2867" y="5488"/>
                            <a:pt x="2871" y="5521"/>
                            <a:pt x="2883" y="5550"/>
                          </a:cubicBezTo>
                          <a:cubicBezTo>
                            <a:pt x="2929" y="5657"/>
                            <a:pt x="2943" y="5670"/>
                            <a:pt x="3003" y="5760"/>
                          </a:cubicBezTo>
                          <a:cubicBezTo>
                            <a:pt x="3065" y="6010"/>
                            <a:pt x="2989" y="5763"/>
                            <a:pt x="3093" y="5970"/>
                          </a:cubicBezTo>
                          <a:cubicBezTo>
                            <a:pt x="3154" y="6093"/>
                            <a:pt x="3182" y="6239"/>
                            <a:pt x="3243" y="6360"/>
                          </a:cubicBezTo>
                          <a:cubicBezTo>
                            <a:pt x="3279" y="6432"/>
                            <a:pt x="3330" y="6496"/>
                            <a:pt x="3363" y="6570"/>
                          </a:cubicBezTo>
                          <a:cubicBezTo>
                            <a:pt x="3389" y="6628"/>
                            <a:pt x="3403" y="6690"/>
                            <a:pt x="3423" y="6750"/>
                          </a:cubicBezTo>
                          <a:cubicBezTo>
                            <a:pt x="3437" y="6792"/>
                            <a:pt x="3466" y="6828"/>
                            <a:pt x="3483" y="6870"/>
                          </a:cubicBezTo>
                          <a:cubicBezTo>
                            <a:pt x="3506" y="6929"/>
                            <a:pt x="3523" y="6990"/>
                            <a:pt x="3543" y="7050"/>
                          </a:cubicBezTo>
                          <a:cubicBezTo>
                            <a:pt x="3561" y="7103"/>
                            <a:pt x="3724" y="7150"/>
                            <a:pt x="3783" y="7170"/>
                          </a:cubicBezTo>
                          <a:cubicBezTo>
                            <a:pt x="3923" y="7160"/>
                            <a:pt x="4064" y="7161"/>
                            <a:pt x="4203" y="7140"/>
                          </a:cubicBezTo>
                          <a:cubicBezTo>
                            <a:pt x="4266" y="7131"/>
                            <a:pt x="4383" y="7080"/>
                            <a:pt x="4383" y="7080"/>
                          </a:cubicBezTo>
                          <a:cubicBezTo>
                            <a:pt x="4443" y="6900"/>
                            <a:pt x="4461" y="6807"/>
                            <a:pt x="4413" y="6600"/>
                          </a:cubicBezTo>
                          <a:cubicBezTo>
                            <a:pt x="4403" y="6556"/>
                            <a:pt x="4387" y="6509"/>
                            <a:pt x="4353" y="6480"/>
                          </a:cubicBezTo>
                          <a:cubicBezTo>
                            <a:pt x="4321" y="6454"/>
                            <a:pt x="4273" y="6460"/>
                            <a:pt x="4233" y="6450"/>
                          </a:cubicBezTo>
                          <a:cubicBezTo>
                            <a:pt x="4173" y="6460"/>
                            <a:pt x="4111" y="6461"/>
                            <a:pt x="4053" y="6480"/>
                          </a:cubicBezTo>
                          <a:cubicBezTo>
                            <a:pt x="4019" y="6491"/>
                            <a:pt x="3986" y="6568"/>
                            <a:pt x="3963" y="6540"/>
                          </a:cubicBezTo>
                          <a:cubicBezTo>
                            <a:pt x="3910" y="6477"/>
                            <a:pt x="3974" y="6471"/>
                            <a:pt x="3903" y="6300"/>
                          </a:cubicBezTo>
                          <a:lnTo>
                            <a:pt x="3249" y="3786"/>
                          </a:lnTo>
                          <a:lnTo>
                            <a:pt x="3249" y="1482"/>
                          </a:lnTo>
                          <a:cubicBezTo>
                            <a:pt x="3585" y="2298"/>
                            <a:pt x="3950" y="3103"/>
                            <a:pt x="4257" y="3930"/>
                          </a:cubicBezTo>
                          <a:cubicBezTo>
                            <a:pt x="4272" y="3971"/>
                            <a:pt x="4219" y="4009"/>
                            <a:pt x="4203" y="4050"/>
                          </a:cubicBezTo>
                          <a:cubicBezTo>
                            <a:pt x="4166" y="4141"/>
                            <a:pt x="4004" y="4543"/>
                            <a:pt x="4173" y="4290"/>
                          </a:cubicBezTo>
                          <a:cubicBezTo>
                            <a:pt x="4195" y="4201"/>
                            <a:pt x="4213" y="4054"/>
                            <a:pt x="4293" y="3990"/>
                          </a:cubicBezTo>
                          <a:cubicBezTo>
                            <a:pt x="4318" y="3970"/>
                            <a:pt x="4353" y="3970"/>
                            <a:pt x="4383" y="3960"/>
                          </a:cubicBezTo>
                          <a:cubicBezTo>
                            <a:pt x="4403" y="4000"/>
                            <a:pt x="4426" y="4038"/>
                            <a:pt x="4443" y="4080"/>
                          </a:cubicBezTo>
                          <a:cubicBezTo>
                            <a:pt x="4466" y="4139"/>
                            <a:pt x="4518" y="4321"/>
                            <a:pt x="4503" y="4260"/>
                          </a:cubicBezTo>
                          <a:cubicBezTo>
                            <a:pt x="4483" y="4180"/>
                            <a:pt x="4443" y="4020"/>
                            <a:pt x="4443" y="4020"/>
                          </a:cubicBezTo>
                          <a:cubicBezTo>
                            <a:pt x="4483" y="4010"/>
                            <a:pt x="4563" y="4031"/>
                            <a:pt x="4563" y="3990"/>
                          </a:cubicBezTo>
                          <a:cubicBezTo>
                            <a:pt x="4563" y="3949"/>
                            <a:pt x="4406" y="3978"/>
                            <a:pt x="4443" y="3960"/>
                          </a:cubicBezTo>
                          <a:cubicBezTo>
                            <a:pt x="4534" y="3914"/>
                            <a:pt x="4643" y="3920"/>
                            <a:pt x="4743" y="3900"/>
                          </a:cubicBezTo>
                          <a:cubicBezTo>
                            <a:pt x="4832" y="3882"/>
                            <a:pt x="4847" y="3861"/>
                            <a:pt x="4923" y="3810"/>
                          </a:cubicBezTo>
                          <a:cubicBezTo>
                            <a:pt x="4913" y="3780"/>
                            <a:pt x="4923" y="3729"/>
                            <a:pt x="4893" y="3720"/>
                          </a:cubicBezTo>
                          <a:cubicBezTo>
                            <a:pt x="4588" y="3626"/>
                            <a:pt x="4406" y="3775"/>
                            <a:pt x="4623" y="3630"/>
                          </a:cubicBezTo>
                          <a:cubicBezTo>
                            <a:pt x="4643" y="3600"/>
                            <a:pt x="4699" y="3572"/>
                            <a:pt x="4683" y="3540"/>
                          </a:cubicBezTo>
                          <a:cubicBezTo>
                            <a:pt x="4664" y="3503"/>
                            <a:pt x="4616" y="3925"/>
                            <a:pt x="4473" y="3510"/>
                          </a:cubicBezTo>
                          <a:cubicBezTo>
                            <a:pt x="4109" y="2452"/>
                            <a:pt x="4330" y="3135"/>
                            <a:pt x="3825" y="1050"/>
                          </a:cubicBezTo>
                          <a:cubicBezTo>
                            <a:pt x="3818" y="1021"/>
                            <a:pt x="3826" y="987"/>
                            <a:pt x="3813" y="960"/>
                          </a:cubicBezTo>
                          <a:cubicBezTo>
                            <a:pt x="3781" y="895"/>
                            <a:pt x="3716" y="848"/>
                            <a:pt x="3693" y="780"/>
                          </a:cubicBezTo>
                          <a:cubicBezTo>
                            <a:pt x="3683" y="750"/>
                            <a:pt x="3689" y="708"/>
                            <a:pt x="3663" y="690"/>
                          </a:cubicBezTo>
                          <a:cubicBezTo>
                            <a:pt x="3505" y="577"/>
                            <a:pt x="3209" y="595"/>
                            <a:pt x="3033" y="570"/>
                          </a:cubicBezTo>
                          <a:cubicBezTo>
                            <a:pt x="2983" y="540"/>
                            <a:pt x="2927" y="518"/>
                            <a:pt x="2883" y="480"/>
                          </a:cubicBezTo>
                          <a:cubicBezTo>
                            <a:pt x="2746" y="363"/>
                            <a:pt x="2763" y="156"/>
                            <a:pt x="2763" y="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4" name=""/>
                  <p:cNvSpPr/>
                  <p:nvPr/>
                </p:nvSpPr>
                <p:spPr>
                  <a:xfrm rot="20808600">
                    <a:off x="1560960" y="3115440"/>
                    <a:ext cx="331560" cy="268560"/>
                  </a:xfrm>
                  <a:custGeom>
                    <a:avLst/>
                    <a:gdLst/>
                    <a:ahLst/>
                    <a:rect l="l" t="t" r="r" b="b"/>
                    <a:pathLst>
                      <a:path w="1830" h="1260">
                        <a:moveTo>
                          <a:pt x="0" y="60"/>
                        </a:moveTo>
                        <a:cubicBezTo>
                          <a:pt x="59" y="237"/>
                          <a:pt x="51" y="419"/>
                          <a:pt x="90" y="600"/>
                        </a:cubicBezTo>
                        <a:cubicBezTo>
                          <a:pt x="119" y="734"/>
                          <a:pt x="170" y="890"/>
                          <a:pt x="270" y="990"/>
                        </a:cubicBezTo>
                        <a:cubicBezTo>
                          <a:pt x="295" y="1015"/>
                          <a:pt x="332" y="1027"/>
                          <a:pt x="360" y="1050"/>
                        </a:cubicBezTo>
                        <a:cubicBezTo>
                          <a:pt x="393" y="1077"/>
                          <a:pt x="413" y="1119"/>
                          <a:pt x="450" y="1140"/>
                        </a:cubicBezTo>
                        <a:cubicBezTo>
                          <a:pt x="486" y="1160"/>
                          <a:pt x="531" y="1158"/>
                          <a:pt x="570" y="1170"/>
                        </a:cubicBezTo>
                        <a:cubicBezTo>
                          <a:pt x="869" y="1260"/>
                          <a:pt x="629" y="1213"/>
                          <a:pt x="960" y="1260"/>
                        </a:cubicBezTo>
                        <a:cubicBezTo>
                          <a:pt x="1168" y="1239"/>
                          <a:pt x="1304" y="1251"/>
                          <a:pt x="1470" y="1140"/>
                        </a:cubicBezTo>
                        <a:cubicBezTo>
                          <a:pt x="1518" y="996"/>
                          <a:pt x="1627" y="892"/>
                          <a:pt x="1680" y="750"/>
                        </a:cubicBezTo>
                        <a:cubicBezTo>
                          <a:pt x="1760" y="536"/>
                          <a:pt x="1802" y="316"/>
                          <a:pt x="1830" y="90"/>
                        </a:cubicBezTo>
                        <a:cubicBezTo>
                          <a:pt x="1820" y="60"/>
                          <a:pt x="1800" y="0"/>
                          <a:pt x="1800" y="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V="1">
                    <a:off x="1631520" y="3920040"/>
                    <a:ext cx="483120" cy="11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627920" y="4125600"/>
                    <a:ext cx="269280" cy="89640"/>
                  </a:xfrm>
                  <a:prstGeom prst="line">
                    <a:avLst/>
                  </a:prstGeom>
                  <a:ln w="38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307" name=""/>
                  <p:cNvSpPr/>
                  <p:nvPr/>
                </p:nvSpPr>
                <p:spPr>
                  <a:xfrm flipH="1">
                    <a:off x="1898280" y="4009680"/>
                    <a:ext cx="238680" cy="21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rot="20808600">
                    <a:off x="1468440" y="3206160"/>
                    <a:ext cx="64080" cy="319680"/>
                  </a:xfrm>
                  <a:custGeom>
                    <a:avLst/>
                    <a:gdLst/>
                    <a:ahLst/>
                    <a:rect l="l" t="t" r="r" b="b"/>
                    <a:pathLst>
                      <a:path w="357" h="1500">
                        <a:moveTo>
                          <a:pt x="300" y="0"/>
                        </a:moveTo>
                        <a:cubicBezTo>
                          <a:pt x="357" y="287"/>
                          <a:pt x="339" y="129"/>
                          <a:pt x="300" y="600"/>
                        </a:cubicBezTo>
                        <a:cubicBezTo>
                          <a:pt x="246" y="1244"/>
                          <a:pt x="306" y="664"/>
                          <a:pt x="240" y="960"/>
                        </a:cubicBezTo>
                        <a:cubicBezTo>
                          <a:pt x="190" y="1186"/>
                          <a:pt x="171" y="1329"/>
                          <a:pt x="0" y="150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rot="20972400">
                    <a:off x="1242000" y="4846320"/>
                    <a:ext cx="596880" cy="391680"/>
                  </a:xfrm>
                  <a:custGeom>
                    <a:avLst/>
                    <a:gdLst/>
                    <a:ahLst/>
                    <a:rect l="l" t="t" r="r" b="b"/>
                    <a:pathLst>
                      <a:path w="1680" h="1608">
                        <a:moveTo>
                          <a:pt x="1032" y="144"/>
                        </a:moveTo>
                        <a:cubicBezTo>
                          <a:pt x="912" y="264"/>
                          <a:pt x="1008" y="720"/>
                          <a:pt x="888" y="864"/>
                        </a:cubicBezTo>
                        <a:cubicBezTo>
                          <a:pt x="768" y="1008"/>
                          <a:pt x="456" y="936"/>
                          <a:pt x="312" y="1008"/>
                        </a:cubicBezTo>
                        <a:cubicBezTo>
                          <a:pt x="168" y="1080"/>
                          <a:pt x="48" y="1200"/>
                          <a:pt x="24" y="1296"/>
                        </a:cubicBezTo>
                        <a:cubicBezTo>
                          <a:pt x="0" y="1392"/>
                          <a:pt x="0" y="1560"/>
                          <a:pt x="168" y="1584"/>
                        </a:cubicBezTo>
                        <a:cubicBezTo>
                          <a:pt x="336" y="1608"/>
                          <a:pt x="816" y="1440"/>
                          <a:pt x="1032" y="1440"/>
                        </a:cubicBezTo>
                        <a:cubicBezTo>
                          <a:pt x="1248" y="1440"/>
                          <a:pt x="1368" y="1608"/>
                          <a:pt x="1464" y="1584"/>
                        </a:cubicBezTo>
                        <a:cubicBezTo>
                          <a:pt x="1560" y="1560"/>
                          <a:pt x="1608" y="1392"/>
                          <a:pt x="1608" y="1296"/>
                        </a:cubicBezTo>
                        <a:cubicBezTo>
                          <a:pt x="1608" y="1200"/>
                          <a:pt x="1464" y="1200"/>
                          <a:pt x="1464" y="1008"/>
                        </a:cubicBezTo>
                        <a:cubicBezTo>
                          <a:pt x="1464" y="816"/>
                          <a:pt x="1680" y="288"/>
                          <a:pt x="1608" y="144"/>
                        </a:cubicBezTo>
                        <a:cubicBezTo>
                          <a:pt x="1536" y="0"/>
                          <a:pt x="1152" y="24"/>
                          <a:pt x="1032" y="144"/>
                        </a:cubicBezTo>
                        <a:close/>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flipH="1" rot="20972400">
                    <a:off x="2296440" y="4484160"/>
                    <a:ext cx="696600" cy="469800"/>
                  </a:xfrm>
                  <a:custGeom>
                    <a:avLst/>
                    <a:gdLst/>
                    <a:ahLst/>
                    <a:rect l="l" t="t" r="r" b="b"/>
                    <a:pathLst>
                      <a:path w="1680" h="1608">
                        <a:moveTo>
                          <a:pt x="1032" y="144"/>
                        </a:moveTo>
                        <a:cubicBezTo>
                          <a:pt x="912" y="264"/>
                          <a:pt x="1008" y="720"/>
                          <a:pt x="888" y="864"/>
                        </a:cubicBezTo>
                        <a:cubicBezTo>
                          <a:pt x="768" y="1008"/>
                          <a:pt x="456" y="936"/>
                          <a:pt x="312" y="1008"/>
                        </a:cubicBezTo>
                        <a:cubicBezTo>
                          <a:pt x="168" y="1080"/>
                          <a:pt x="48" y="1200"/>
                          <a:pt x="24" y="1296"/>
                        </a:cubicBezTo>
                        <a:cubicBezTo>
                          <a:pt x="0" y="1392"/>
                          <a:pt x="0" y="1560"/>
                          <a:pt x="168" y="1584"/>
                        </a:cubicBezTo>
                        <a:cubicBezTo>
                          <a:pt x="336" y="1608"/>
                          <a:pt x="816" y="1440"/>
                          <a:pt x="1032" y="1440"/>
                        </a:cubicBezTo>
                        <a:cubicBezTo>
                          <a:pt x="1248" y="1440"/>
                          <a:pt x="1368" y="1608"/>
                          <a:pt x="1464" y="1584"/>
                        </a:cubicBezTo>
                        <a:cubicBezTo>
                          <a:pt x="1560" y="1560"/>
                          <a:pt x="1608" y="1392"/>
                          <a:pt x="1608" y="1296"/>
                        </a:cubicBezTo>
                        <a:cubicBezTo>
                          <a:pt x="1608" y="1200"/>
                          <a:pt x="1464" y="1200"/>
                          <a:pt x="1464" y="1008"/>
                        </a:cubicBezTo>
                        <a:cubicBezTo>
                          <a:pt x="1464" y="816"/>
                          <a:pt x="1680" y="288"/>
                          <a:pt x="1608" y="144"/>
                        </a:cubicBezTo>
                        <a:cubicBezTo>
                          <a:pt x="1536" y="0"/>
                          <a:pt x="1152" y="24"/>
                          <a:pt x="1032" y="144"/>
                        </a:cubicBezTo>
                        <a:close/>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1" name=""/>
                <p:cNvSpPr/>
                <p:nvPr/>
              </p:nvSpPr>
              <p:spPr>
                <a:xfrm rot="20972400">
                  <a:off x="1914120" y="3078000"/>
                  <a:ext cx="43200" cy="320040"/>
                </a:xfrm>
                <a:custGeom>
                  <a:avLst/>
                  <a:gdLst/>
                  <a:ahLst/>
                  <a:rect l="l" t="t" r="r" b="b"/>
                  <a:pathLst>
                    <a:path w="150" h="1410">
                      <a:moveTo>
                        <a:pt x="150" y="1410"/>
                      </a:moveTo>
                      <a:cubicBezTo>
                        <a:pt x="120" y="1390"/>
                        <a:pt x="83" y="1378"/>
                        <a:pt x="60" y="1350"/>
                      </a:cubicBezTo>
                      <a:cubicBezTo>
                        <a:pt x="35" y="1319"/>
                        <a:pt x="1" y="1117"/>
                        <a:pt x="0" y="1110"/>
                      </a:cubicBezTo>
                      <a:cubicBezTo>
                        <a:pt x="10" y="910"/>
                        <a:pt x="16" y="710"/>
                        <a:pt x="30" y="510"/>
                      </a:cubicBezTo>
                      <a:cubicBezTo>
                        <a:pt x="42" y="335"/>
                        <a:pt x="90" y="174"/>
                        <a:pt x="90" y="0"/>
                      </a:cubicBezTo>
                    </a:path>
                  </a:pathLst>
                </a:custGeom>
                <a:solidFill>
                  <a:srgbClr val="4a8ac4"/>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2" name=""/>
            <p:cNvGrpSpPr/>
            <p:nvPr/>
          </p:nvGrpSpPr>
          <p:grpSpPr>
            <a:xfrm>
              <a:off x="7809120" y="2116080"/>
              <a:ext cx="295200" cy="174600"/>
              <a:chOff x="7809120" y="2116080"/>
              <a:chExt cx="295200" cy="174600"/>
            </a:xfrm>
          </p:grpSpPr>
          <p:sp>
            <p:nvSpPr>
              <p:cNvPr id="313" name=""/>
              <p:cNvSpPr/>
              <p:nvPr/>
            </p:nvSpPr>
            <p:spPr>
              <a:xfrm>
                <a:off x="7809120" y="2116080"/>
                <a:ext cx="98280" cy="116280"/>
              </a:xfrm>
              <a:prstGeom prst="ellipse">
                <a:avLst/>
              </a:prstGeom>
              <a:solidFill>
                <a:srgbClr val="f7cc17"/>
              </a:solidFill>
              <a:ln w="93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14" name=""/>
              <p:cNvSpPr/>
              <p:nvPr/>
            </p:nvSpPr>
            <p:spPr>
              <a:xfrm flipV="1">
                <a:off x="8006040" y="2232360"/>
                <a:ext cx="98280" cy="58320"/>
              </a:xfrm>
              <a:prstGeom prst="ellipse">
                <a:avLst/>
              </a:prstGeom>
              <a:solidFill>
                <a:srgbClr val="f7cc17"/>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grpSp>
          <p:nvGrpSpPr>
            <p:cNvPr id="315" name=""/>
            <p:cNvGrpSpPr/>
            <p:nvPr/>
          </p:nvGrpSpPr>
          <p:grpSpPr>
            <a:xfrm>
              <a:off x="3642480" y="2750760"/>
              <a:ext cx="317880" cy="159480"/>
              <a:chOff x="3642480" y="2750760"/>
              <a:chExt cx="317880" cy="159480"/>
            </a:xfrm>
          </p:grpSpPr>
          <p:sp>
            <p:nvSpPr>
              <p:cNvPr id="316" name=""/>
              <p:cNvSpPr/>
              <p:nvPr/>
            </p:nvSpPr>
            <p:spPr>
              <a:xfrm rot="21125400">
                <a:off x="3649680" y="2756880"/>
                <a:ext cx="99000" cy="116280"/>
              </a:xfrm>
              <a:prstGeom prst="ellipse">
                <a:avLst/>
              </a:prstGeom>
              <a:solidFill>
                <a:srgbClr val="f7cc17"/>
              </a:solidFill>
              <a:ln w="93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17" name=""/>
              <p:cNvSpPr/>
              <p:nvPr/>
            </p:nvSpPr>
            <p:spPr>
              <a:xfrm flipV="1" rot="21125400">
                <a:off x="3858120" y="2845440"/>
                <a:ext cx="98640" cy="58320"/>
              </a:xfrm>
              <a:prstGeom prst="ellipse">
                <a:avLst/>
              </a:prstGeom>
              <a:solidFill>
                <a:srgbClr val="f7cc17"/>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318" name=""/>
            <p:cNvSpPr/>
            <p:nvPr/>
          </p:nvSpPr>
          <p:spPr>
            <a:xfrm>
              <a:off x="4761000" y="2766960"/>
              <a:ext cx="982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19" name=""/>
            <p:cNvSpPr/>
            <p:nvPr/>
          </p:nvSpPr>
          <p:spPr>
            <a:xfrm>
              <a:off x="4989600" y="2725560"/>
              <a:ext cx="49320" cy="117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320" name=""/>
            <p:cNvSpPr/>
            <p:nvPr/>
          </p:nvSpPr>
          <p:spPr>
            <a:xfrm>
              <a:off x="1435320" y="2509920"/>
              <a:ext cx="48960" cy="117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321" name=""/>
            <p:cNvSpPr/>
            <p:nvPr/>
          </p:nvSpPr>
          <p:spPr>
            <a:xfrm flipV="1">
              <a:off x="1631880" y="2450160"/>
              <a:ext cx="49320" cy="117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pic>
        <p:nvPicPr>
          <p:cNvPr id="322" name="" descr=""/>
          <p:cNvPicPr/>
          <p:nvPr/>
        </p:nvPicPr>
        <p:blipFill>
          <a:blip r:embed="rId1"/>
          <a:stretch/>
        </p:blipFill>
        <p:spPr>
          <a:xfrm>
            <a:off x="8656560" y="63705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tep 6</a:t>
            </a:r>
            <a:br>
              <a:rPr sz="4000"/>
            </a:br>
            <a:r>
              <a:rPr b="1" lang="en-US" sz="4000" spc="-1" strike="noStrike">
                <a:solidFill>
                  <a:srgbClr val="f7cc17"/>
                </a:solidFill>
                <a:latin typeface="Arial"/>
              </a:rPr>
              <a:t>Create Pages of Adapted Book</a:t>
            </a:r>
            <a:endParaRPr b="1" lang="en-US" sz="4000" spc="-1" strike="noStrike">
              <a:solidFill>
                <a:srgbClr val="f7cc17"/>
              </a:solidFill>
              <a:latin typeface="Arial"/>
            </a:endParaRPr>
          </a:p>
        </p:txBody>
      </p:sp>
      <p:sp>
        <p:nvSpPr>
          <p:cNvPr id="324"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steps for title page</a:t>
            </a:r>
            <a:endParaRPr b="0" lang="en-US" sz="32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sert new slide/select slide layout</a:t>
            </a:r>
            <a:endParaRPr b="0" lang="en-US" sz="28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ert text</a:t>
            </a:r>
            <a:endParaRPr b="0" lang="en-US" sz="28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ert picture</a:t>
            </a:r>
            <a:endParaRPr b="0" lang="en-US" sz="28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ert narration</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custom animation and sound effects </a:t>
            </a:r>
            <a:r>
              <a:rPr b="0" lang="en-US" sz="2800" spc="-1" strike="noStrike">
                <a:solidFill>
                  <a:srgbClr val="ffffff"/>
                </a:solidFill>
                <a:latin typeface="Tahoma"/>
              </a:rPr>
              <a:t>(see step 7)</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tep 7</a:t>
            </a:r>
            <a:br>
              <a:rPr sz="4000"/>
            </a:br>
            <a:r>
              <a:rPr b="1" lang="en-US" sz="4000" spc="-1" strike="noStrike">
                <a:solidFill>
                  <a:srgbClr val="f7cc17"/>
                </a:solidFill>
                <a:latin typeface="Arial"/>
              </a:rPr>
              <a:t>Animate Text Or Objects</a:t>
            </a:r>
            <a:endParaRPr b="1" lang="en-US" sz="4000" spc="-1" strike="noStrike">
              <a:solidFill>
                <a:srgbClr val="f7cc17"/>
              </a:solidFill>
              <a:latin typeface="Arial"/>
            </a:endParaRPr>
          </a:p>
        </p:txBody>
      </p:sp>
      <p:sp>
        <p:nvSpPr>
          <p:cNvPr id="326" name="PlaceHolder 2"/>
          <p:cNvSpPr>
            <a:spLocks noGrp="1"/>
          </p:cNvSpPr>
          <p:nvPr>
            <p:ph/>
          </p:nvPr>
        </p:nvSpPr>
        <p:spPr>
          <a:xfrm>
            <a:off x="1143000" y="2130120"/>
            <a:ext cx="7772400" cy="3965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eset animation or a custom animation may be added to text or objects in your slide show.  Animation will bring life to your adapted book and hold the attention of your chi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Add Preset Animation</a:t>
            </a:r>
            <a:endParaRPr b="1" lang="en-US" sz="4400" spc="-1" strike="noStrike">
              <a:solidFill>
                <a:srgbClr val="f7cc17"/>
              </a:solidFill>
              <a:latin typeface="Arial"/>
            </a:endParaRPr>
          </a:p>
        </p:txBody>
      </p:sp>
      <p:sp>
        <p:nvSpPr>
          <p:cNvPr id="328" name="PlaceHolder 2"/>
          <p:cNvSpPr>
            <a:spLocks noGrp="1"/>
          </p:cNvSpPr>
          <p:nvPr>
            <p:ph/>
          </p:nvPr>
        </p:nvSpPr>
        <p:spPr>
          <a:xfrm>
            <a:off x="1143000" y="1600200"/>
            <a:ext cx="7053120" cy="166536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lide Show/Animation Schemes</a:t>
            </a:r>
            <a:endParaRPr b="0" lang="en-US" sz="32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imation</a:t>
            </a:r>
            <a:endParaRPr b="0" lang="en-US" sz="3200" spc="-1" strike="noStrike">
              <a:solidFill>
                <a:srgbClr val="ffffff"/>
              </a:solidFill>
              <a:latin typeface="Tahoma"/>
            </a:endParaRPr>
          </a:p>
        </p:txBody>
      </p:sp>
      <p:grpSp>
        <p:nvGrpSpPr>
          <p:cNvPr id="329" name=""/>
          <p:cNvGrpSpPr/>
          <p:nvPr/>
        </p:nvGrpSpPr>
        <p:grpSpPr>
          <a:xfrm>
            <a:off x="2438280" y="3429000"/>
            <a:ext cx="4800600" cy="3429000"/>
            <a:chOff x="2438280" y="3429000"/>
            <a:chExt cx="4800600" cy="3429000"/>
          </a:xfrm>
        </p:grpSpPr>
        <p:grpSp>
          <p:nvGrpSpPr>
            <p:cNvPr id="330" name=""/>
            <p:cNvGrpSpPr/>
            <p:nvPr/>
          </p:nvGrpSpPr>
          <p:grpSpPr>
            <a:xfrm>
              <a:off x="2438280" y="3429000"/>
              <a:ext cx="4800600" cy="3222720"/>
              <a:chOff x="2438280" y="3429000"/>
              <a:chExt cx="4800600" cy="3222720"/>
            </a:xfrm>
          </p:grpSpPr>
          <p:pic>
            <p:nvPicPr>
              <p:cNvPr id="331" name="" descr=""/>
              <p:cNvPicPr/>
              <p:nvPr/>
            </p:nvPicPr>
            <p:blipFill>
              <a:blip r:embed="rId1"/>
              <a:srcRect l="20757" t="0" r="0" b="29087"/>
              <a:stretch/>
            </p:blipFill>
            <p:spPr>
              <a:xfrm>
                <a:off x="2438280" y="3429000"/>
                <a:ext cx="4800600" cy="3222720"/>
              </a:xfrm>
              <a:prstGeom prst="rect">
                <a:avLst/>
              </a:prstGeom>
              <a:ln w="0">
                <a:noFill/>
              </a:ln>
            </p:spPr>
          </p:pic>
          <p:sp>
            <p:nvSpPr>
              <p:cNvPr id="332" name=""/>
              <p:cNvSpPr/>
              <p:nvPr/>
            </p:nvSpPr>
            <p:spPr>
              <a:xfrm>
                <a:off x="2971800" y="4419720"/>
                <a:ext cx="1600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3" name=""/>
            <p:cNvSpPr/>
            <p:nvPr/>
          </p:nvSpPr>
          <p:spPr>
            <a:xfrm>
              <a:off x="5562360" y="4572000"/>
              <a:ext cx="1600200" cy="228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327"/>
                                        </p:tgtEl>
                                        <p:attrNameLst>
                                          <p:attrName>style.visibility</p:attrName>
                                        </p:attrNameLst>
                                      </p:cBhvr>
                                      <p:to>
                                        <p:strVal val="visible"/>
                                      </p:to>
                                    </p:set>
                                    <p:animEffect filter="fade" transition="in">
                                      <p:cBhvr additive="repl">
                                        <p:cTn id="13" dur="2000"/>
                                        <p:tgtEl>
                                          <p:spTgt spid="32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328">
                                            <p:txEl>
                                              <p:pRg st="0" end="0"/>
                                            </p:txEl>
                                          </p:spTgt>
                                        </p:tgtEl>
                                        <p:attrNameLst>
                                          <p:attrName>style.visibility</p:attrName>
                                        </p:attrNameLst>
                                      </p:cBhvr>
                                      <p:to>
                                        <p:strVal val="visible"/>
                                      </p:to>
                                    </p:set>
                                    <p:animEffect filter="fade" transition="in">
                                      <p:cBhvr additive="repl">
                                        <p:cTn id="18" dur="2000"/>
                                        <p:tgtEl>
                                          <p:spTgt spid="32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328">
                                            <p:txEl>
                                              <p:pRg st="1" end="1"/>
                                            </p:txEl>
                                          </p:spTgt>
                                        </p:tgtEl>
                                        <p:attrNameLst>
                                          <p:attrName>style.visibility</p:attrName>
                                        </p:attrNameLst>
                                      </p:cBhvr>
                                      <p:to>
                                        <p:strVal val="visible"/>
                                      </p:to>
                                    </p:set>
                                    <p:animEffect filter="fade" transition="in">
                                      <p:cBhvr additive="repl">
                                        <p:cTn id="23" dur="2000"/>
                                        <p:tgtEl>
                                          <p:spTgt spid="3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514600" y="380880"/>
            <a:ext cx="64008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7cc17"/>
                </a:solidFill>
                <a:latin typeface="Arial"/>
              </a:rPr>
              <a:t>Add Custom Animation</a:t>
            </a:r>
            <a:endParaRPr b="1" lang="en-US" sz="4000" spc="-1" strike="noStrike">
              <a:solidFill>
                <a:srgbClr val="f7cc17"/>
              </a:solidFill>
              <a:latin typeface="Arial"/>
            </a:endParaRPr>
          </a:p>
        </p:txBody>
      </p:sp>
      <p:sp>
        <p:nvSpPr>
          <p:cNvPr id="335" name="PlaceHolder 2"/>
          <p:cNvSpPr>
            <a:spLocks noGrp="1"/>
          </p:cNvSpPr>
          <p:nvPr>
            <p:ph/>
          </p:nvPr>
        </p:nvSpPr>
        <p:spPr>
          <a:xfrm>
            <a:off x="456840" y="1447560"/>
            <a:ext cx="7086600" cy="1066680"/>
          </a:xfrm>
          <a:prstGeom prst="rect">
            <a:avLst/>
          </a:prstGeom>
          <a:noFill/>
          <a:ln w="0">
            <a:noFill/>
          </a:ln>
        </p:spPr>
        <p:txBody>
          <a:bodyPr lIns="90000" rIns="90000" tIns="46800" bIns="46800" anchor="t">
            <a:normAutofit fontScale="90000"/>
          </a:bodyPr>
          <a:p>
            <a:pPr marL="308520" indent="-30852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on picture</a:t>
            </a:r>
            <a:endParaRPr b="0" lang="en-US" sz="3200" spc="-1" strike="noStrike">
              <a:solidFill>
                <a:srgbClr val="ffffff"/>
              </a:solidFill>
              <a:latin typeface="Tahoma"/>
            </a:endParaRPr>
          </a:p>
          <a:p>
            <a:pPr marL="308520" indent="-30852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lide show/ Custom animation</a:t>
            </a:r>
            <a:endParaRPr b="0" lang="en-US" sz="3200" spc="-1" strike="noStrike">
              <a:solidFill>
                <a:srgbClr val="ffffff"/>
              </a:solidFill>
              <a:latin typeface="Tahoma"/>
            </a:endParaRPr>
          </a:p>
        </p:txBody>
      </p:sp>
      <p:grpSp>
        <p:nvGrpSpPr>
          <p:cNvPr id="336" name=""/>
          <p:cNvGrpSpPr/>
          <p:nvPr/>
        </p:nvGrpSpPr>
        <p:grpSpPr>
          <a:xfrm>
            <a:off x="533520" y="2666880"/>
            <a:ext cx="6324480" cy="3962520"/>
            <a:chOff x="533520" y="2666880"/>
            <a:chExt cx="6324480" cy="3962520"/>
          </a:xfrm>
        </p:grpSpPr>
        <p:pic>
          <p:nvPicPr>
            <p:cNvPr id="337" name="" descr=""/>
            <p:cNvPicPr/>
            <p:nvPr/>
          </p:nvPicPr>
          <p:blipFill>
            <a:blip r:embed="rId1"/>
            <a:srcRect l="20757" t="0" r="0" b="28659"/>
            <a:stretch/>
          </p:blipFill>
          <p:spPr>
            <a:xfrm>
              <a:off x="533520" y="2666880"/>
              <a:ext cx="6324480" cy="3962520"/>
            </a:xfrm>
            <a:prstGeom prst="rect">
              <a:avLst/>
            </a:prstGeom>
            <a:ln w="0">
              <a:noFill/>
            </a:ln>
          </p:spPr>
        </p:pic>
        <p:sp>
          <p:nvSpPr>
            <p:cNvPr id="338" name=""/>
            <p:cNvSpPr/>
            <p:nvPr/>
          </p:nvSpPr>
          <p:spPr>
            <a:xfrm>
              <a:off x="1371600" y="3809880"/>
              <a:ext cx="1828800" cy="457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Add Custom Animation</a:t>
            </a:r>
            <a:endParaRPr b="1" lang="en-US" sz="4000" spc="-1" strike="noStrike">
              <a:solidFill>
                <a:srgbClr val="f7cc17"/>
              </a:solidFill>
              <a:latin typeface="Arial"/>
            </a:endParaRPr>
          </a:p>
        </p:txBody>
      </p:sp>
      <p:sp>
        <p:nvSpPr>
          <p:cNvPr id="340" name="PlaceHolder 2"/>
          <p:cNvSpPr>
            <a:spLocks noGrp="1"/>
          </p:cNvSpPr>
          <p:nvPr>
            <p:ph/>
          </p:nvPr>
        </p:nvSpPr>
        <p:spPr>
          <a:xfrm>
            <a:off x="1143000" y="1600200"/>
            <a:ext cx="424656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Effects-Entrance/Emphasis/Exit/Motion Paths</a:t>
            </a:r>
            <a:endParaRPr b="0" lang="en-US" sz="3200" spc="-1" strike="noStrike">
              <a:solidFill>
                <a:srgbClr val="ffffff"/>
              </a:solidFill>
              <a:latin typeface="Tahoma"/>
            </a:endParaRPr>
          </a:p>
          <a:p>
            <a:pPr lvl="1" marL="743040" indent="-28584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on Paths</a:t>
            </a:r>
            <a:endParaRPr b="0" lang="en-US" sz="2800" spc="-1" strike="noStrike">
              <a:solidFill>
                <a:srgbClr val="ffffff"/>
              </a:solidFill>
              <a:latin typeface="Tahoma"/>
            </a:endParaRPr>
          </a:p>
          <a:p>
            <a:pPr lvl="2" marL="1143000" indent="-228600">
              <a:spcBef>
                <a:spcPts val="601"/>
              </a:spcBef>
              <a:buClr>
                <a:srgbClr val="ff99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ose or draw custom path/ scribble/ speed (slow is better)</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41" name="" descr=""/>
          <p:cNvPicPr/>
          <p:nvPr/>
        </p:nvPicPr>
        <p:blipFill>
          <a:blip r:embed="rId1"/>
          <a:srcRect l="71701" t="11636" r="0" b="39154"/>
          <a:stretch/>
        </p:blipFill>
        <p:spPr>
          <a:xfrm>
            <a:off x="5105520" y="1600200"/>
            <a:ext cx="4038480" cy="5257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Add Custom Animation</a:t>
            </a:r>
            <a:endParaRPr b="1" lang="en-US" sz="4000" spc="-1" strike="noStrike">
              <a:solidFill>
                <a:srgbClr val="f7cc17"/>
              </a:solidFill>
              <a:latin typeface="Arial"/>
            </a:endParaRPr>
          </a:p>
        </p:txBody>
      </p:sp>
      <p:sp>
        <p:nvSpPr>
          <p:cNvPr id="343" name="PlaceHolder 2"/>
          <p:cNvSpPr>
            <a:spLocks noGrp="1"/>
          </p:cNvSpPr>
          <p:nvPr>
            <p:ph/>
          </p:nvPr>
        </p:nvSpPr>
        <p:spPr>
          <a:xfrm>
            <a:off x="1142640" y="1600200"/>
            <a:ext cx="3814920" cy="449568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ing selection of animation you may wish to modify the order and timings</a:t>
            </a:r>
            <a:endParaRPr b="0" lang="en-US" sz="2800" spc="-1" strike="noStrike">
              <a:solidFill>
                <a:srgbClr val="ffffff"/>
              </a:solidFill>
              <a:latin typeface="Tahoma"/>
            </a:endParaRPr>
          </a:p>
          <a:p>
            <a:pPr marL="343080" indent="-343080">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ose from dropdown</a:t>
            </a:r>
            <a:endParaRPr b="0" lang="en-US" sz="28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rt with click </a:t>
            </a:r>
            <a:endParaRPr b="0" lang="en-US" sz="24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y with previous</a:t>
            </a:r>
            <a:endParaRPr b="0" lang="en-US" sz="24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344" name=""/>
          <p:cNvGrpSpPr/>
          <p:nvPr/>
        </p:nvGrpSpPr>
        <p:grpSpPr>
          <a:xfrm>
            <a:off x="4419720" y="2951280"/>
            <a:ext cx="4724280" cy="3906720"/>
            <a:chOff x="4419720" y="2951280"/>
            <a:chExt cx="4724280" cy="3906720"/>
          </a:xfrm>
        </p:grpSpPr>
        <p:pic>
          <p:nvPicPr>
            <p:cNvPr id="345" name="" descr=""/>
            <p:cNvPicPr/>
            <p:nvPr/>
          </p:nvPicPr>
          <p:blipFill>
            <a:blip r:embed="rId1"/>
            <a:srcRect l="22642" t="15567" r="0" b="11479"/>
            <a:stretch/>
          </p:blipFill>
          <p:spPr>
            <a:xfrm>
              <a:off x="4419720" y="2951280"/>
              <a:ext cx="4724280" cy="3906720"/>
            </a:xfrm>
            <a:prstGeom prst="rect">
              <a:avLst/>
            </a:prstGeom>
            <a:ln w="0">
              <a:noFill/>
            </a:ln>
          </p:spPr>
        </p:pic>
        <p:sp>
          <p:nvSpPr>
            <p:cNvPr id="346" name=""/>
            <p:cNvSpPr/>
            <p:nvPr/>
          </p:nvSpPr>
          <p:spPr>
            <a:xfrm>
              <a:off x="7518600" y="3204000"/>
              <a:ext cx="863280" cy="5054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569000" y="4316400"/>
              <a:ext cx="1371600" cy="1870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Add Sound</a:t>
            </a:r>
            <a:endParaRPr b="1" lang="en-US" sz="4400" spc="-1" strike="noStrike">
              <a:solidFill>
                <a:srgbClr val="f7cc17"/>
              </a:solidFill>
              <a:latin typeface="Arial"/>
            </a:endParaRPr>
          </a:p>
        </p:txBody>
      </p:sp>
      <p:sp>
        <p:nvSpPr>
          <p:cNvPr id="349"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ert/Movies and Sounds/choose from the following</a:t>
            </a:r>
            <a:endParaRPr b="0" lang="en-US" sz="28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Clip</a:t>
            </a:r>
            <a:endParaRPr b="0" lang="en-US" sz="24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file</a:t>
            </a:r>
            <a:endParaRPr b="0" lang="en-US" sz="24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y CD</a:t>
            </a:r>
            <a:endParaRPr b="0" lang="en-US" sz="24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rd sound</a:t>
            </a:r>
            <a:endParaRPr b="0" lang="en-US" sz="2400" spc="-1" strike="noStrike">
              <a:solidFill>
                <a:srgbClr val="ffffff"/>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peaker icon will appear ( position and size on slide)</a:t>
            </a:r>
            <a:endParaRPr b="0" lang="en-US" sz="28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click/ choose mouse click or mouse over</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50" name="" descr=""/>
          <p:cNvPicPr/>
          <p:nvPr/>
        </p:nvPicPr>
        <p:blipFill>
          <a:blip r:embed="rId1"/>
          <a:stretch/>
        </p:blipFill>
        <p:spPr>
          <a:xfrm>
            <a:off x="5410080" y="243828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202"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tep 8</a:t>
            </a:r>
            <a:br>
              <a:rPr sz="4000"/>
            </a:br>
            <a:r>
              <a:rPr b="1" lang="en-US" sz="4000" spc="-1" strike="noStrike">
                <a:solidFill>
                  <a:srgbClr val="f7cc17"/>
                </a:solidFill>
                <a:latin typeface="Arial"/>
              </a:rPr>
              <a:t>Slide Transition</a:t>
            </a:r>
            <a:endParaRPr b="1" lang="en-US" sz="4000" spc="-1" strike="noStrike">
              <a:solidFill>
                <a:srgbClr val="f7cc17"/>
              </a:solidFill>
              <a:latin typeface="Arial"/>
            </a:endParaRPr>
          </a:p>
        </p:txBody>
      </p:sp>
      <p:sp>
        <p:nvSpPr>
          <p:cNvPr id="352"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lide transition is how your slide will advance from one slide to the nex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may add visual and sound effec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may choose to advance slides automatically, with a mouse click or mouse over or with an action butt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Create Slide Transition</a:t>
            </a:r>
            <a:endParaRPr b="1" lang="en-US" sz="4000" spc="-1" strike="noStrike">
              <a:solidFill>
                <a:srgbClr val="f7cc17"/>
              </a:solidFill>
              <a:latin typeface="Arial"/>
            </a:endParaRPr>
          </a:p>
        </p:txBody>
      </p:sp>
      <p:sp>
        <p:nvSpPr>
          <p:cNvPr id="354" name="PlaceHolder 2"/>
          <p:cNvSpPr>
            <a:spLocks noGrp="1"/>
          </p:cNvSpPr>
          <p:nvPr>
            <p:ph/>
          </p:nvPr>
        </p:nvSpPr>
        <p:spPr>
          <a:xfrm>
            <a:off x="1143000" y="1600200"/>
            <a:ext cx="7772400" cy="166536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lide Show</a:t>
            </a:r>
            <a:endParaRPr b="0" lang="en-US" sz="3200" spc="-1" strike="noStrike">
              <a:solidFill>
                <a:srgbClr val="ffffff"/>
              </a:solidFill>
              <a:latin typeface="Tahoma"/>
            </a:endParaRPr>
          </a:p>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lide Transition</a:t>
            </a:r>
            <a:endParaRPr b="0" lang="en-US" sz="3200" spc="-1" strike="noStrike">
              <a:solidFill>
                <a:srgbClr val="ffffff"/>
              </a:solidFill>
              <a:latin typeface="Tahoma"/>
            </a:endParaRPr>
          </a:p>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desired effect</a:t>
            </a:r>
            <a:endParaRPr b="0" lang="en-US" sz="3200" spc="-1" strike="noStrike">
              <a:solidFill>
                <a:srgbClr val="ffffff"/>
              </a:solidFill>
              <a:latin typeface="Tahoma"/>
            </a:endParaRPr>
          </a:p>
        </p:txBody>
      </p:sp>
      <p:grpSp>
        <p:nvGrpSpPr>
          <p:cNvPr id="355" name=""/>
          <p:cNvGrpSpPr/>
          <p:nvPr/>
        </p:nvGrpSpPr>
        <p:grpSpPr>
          <a:xfrm>
            <a:off x="990720" y="3352680"/>
            <a:ext cx="6476760" cy="3505320"/>
            <a:chOff x="990720" y="3352680"/>
            <a:chExt cx="6476760" cy="3505320"/>
          </a:xfrm>
        </p:grpSpPr>
        <p:pic>
          <p:nvPicPr>
            <p:cNvPr id="356" name="" descr=""/>
            <p:cNvPicPr/>
            <p:nvPr/>
          </p:nvPicPr>
          <p:blipFill>
            <a:blip r:embed="rId1"/>
            <a:srcRect l="31485" t="0" r="0" b="29289"/>
            <a:stretch/>
          </p:blipFill>
          <p:spPr>
            <a:xfrm>
              <a:off x="990720" y="3352680"/>
              <a:ext cx="6476760" cy="3505320"/>
            </a:xfrm>
            <a:prstGeom prst="rect">
              <a:avLst/>
            </a:prstGeom>
            <a:ln w="0">
              <a:noFill/>
            </a:ln>
          </p:spPr>
        </p:pic>
        <p:sp>
          <p:nvSpPr>
            <p:cNvPr id="357" name=""/>
            <p:cNvSpPr/>
            <p:nvPr/>
          </p:nvSpPr>
          <p:spPr>
            <a:xfrm>
              <a:off x="1062360" y="4662000"/>
              <a:ext cx="2158920" cy="548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804560" y="3907080"/>
              <a:ext cx="2374560" cy="1441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100"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lide Transition with </a:t>
            </a:r>
            <a:br>
              <a:rPr sz="4000"/>
            </a:br>
            <a:r>
              <a:rPr b="1" lang="en-US" sz="4000" spc="-1" strike="noStrike">
                <a:solidFill>
                  <a:srgbClr val="f7cc17"/>
                </a:solidFill>
                <a:latin typeface="Arial"/>
              </a:rPr>
              <a:t>Action Button</a:t>
            </a:r>
            <a:endParaRPr b="1" lang="en-US" sz="4000" spc="-1" strike="noStrike">
              <a:solidFill>
                <a:srgbClr val="f7cc17"/>
              </a:solidFill>
              <a:latin typeface="Arial"/>
            </a:endParaRPr>
          </a:p>
        </p:txBody>
      </p:sp>
      <p:sp>
        <p:nvSpPr>
          <p:cNvPr id="360" name="PlaceHolder 2"/>
          <p:cNvSpPr>
            <a:spLocks noGrp="1"/>
          </p:cNvSpPr>
          <p:nvPr>
            <p:ph/>
          </p:nvPr>
        </p:nvSpPr>
        <p:spPr>
          <a:xfrm>
            <a:off x="1142640" y="2205000"/>
            <a:ext cx="3814920" cy="389088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lide Show</a:t>
            </a:r>
            <a:endParaRPr b="0" lang="en-US" sz="32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on Buttons:  </a:t>
            </a:r>
            <a:endParaRPr b="0" lang="en-US" sz="32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 button</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stom</a:t>
            </a:r>
            <a:endParaRPr b="0" lang="en-US" sz="24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ward/ Back</a:t>
            </a:r>
            <a:endParaRPr b="0" lang="en-US" sz="24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ginning/ End</a:t>
            </a:r>
            <a:endParaRPr b="0" lang="en-US" sz="24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a:t>
            </a:r>
            <a:endParaRPr b="0" lang="en-US" sz="2400" spc="-1" strike="noStrike">
              <a:solidFill>
                <a:srgbClr val="fffff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61" name=""/>
          <p:cNvGrpSpPr/>
          <p:nvPr/>
        </p:nvGrpSpPr>
        <p:grpSpPr>
          <a:xfrm>
            <a:off x="4419720" y="2093760"/>
            <a:ext cx="4724280" cy="4078440"/>
            <a:chOff x="4419720" y="2093760"/>
            <a:chExt cx="4724280" cy="4078440"/>
          </a:xfrm>
        </p:grpSpPr>
        <p:pic>
          <p:nvPicPr>
            <p:cNvPr id="362" name="" descr=""/>
            <p:cNvPicPr/>
            <p:nvPr/>
          </p:nvPicPr>
          <p:blipFill>
            <a:blip r:embed="rId1"/>
            <a:srcRect l="26003" t="8289" r="44066" b="63976"/>
            <a:stretch/>
          </p:blipFill>
          <p:spPr>
            <a:xfrm>
              <a:off x="4572000" y="2093760"/>
              <a:ext cx="4572000" cy="4078440"/>
            </a:xfrm>
            <a:prstGeom prst="rect">
              <a:avLst/>
            </a:prstGeom>
            <a:ln w="0">
              <a:noFill/>
            </a:ln>
          </p:spPr>
        </p:pic>
        <p:sp>
          <p:nvSpPr>
            <p:cNvPr id="363" name=""/>
            <p:cNvSpPr/>
            <p:nvPr/>
          </p:nvSpPr>
          <p:spPr>
            <a:xfrm>
              <a:off x="4419720" y="2209680"/>
              <a:ext cx="4190760" cy="2590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Slide Transition with </a:t>
            </a:r>
            <a:br>
              <a:rPr sz="4000"/>
            </a:br>
            <a:r>
              <a:rPr b="1" lang="en-US" sz="4000" spc="-1" strike="noStrike">
                <a:solidFill>
                  <a:srgbClr val="f7cc17"/>
                </a:solidFill>
                <a:latin typeface="Arial"/>
              </a:rPr>
              <a:t>Action Button</a:t>
            </a:r>
            <a:endParaRPr b="1" lang="en-US" sz="4000" spc="-1" strike="noStrike">
              <a:solidFill>
                <a:srgbClr val="f7cc17"/>
              </a:solidFill>
              <a:latin typeface="Arial"/>
            </a:endParaRPr>
          </a:p>
        </p:txBody>
      </p:sp>
      <p:sp>
        <p:nvSpPr>
          <p:cNvPr id="365" name="PlaceHolder 2"/>
          <p:cNvSpPr>
            <a:spLocks noGrp="1"/>
          </p:cNvSpPr>
          <p:nvPr>
            <p:ph/>
          </p:nvPr>
        </p:nvSpPr>
        <p:spPr>
          <a:xfrm>
            <a:off x="1143000" y="1600200"/>
            <a:ext cx="7772400" cy="984240"/>
          </a:xfrm>
          <a:prstGeom prst="rect">
            <a:avLst/>
          </a:prstGeom>
          <a:noFill/>
          <a:ln w="0">
            <a:noFill/>
          </a:ln>
        </p:spPr>
        <p:txBody>
          <a:bodyPr lIns="90000" rIns="90000" tIns="46800" bIns="46800" anchor="t">
            <a:normAutofit fontScale="58000"/>
          </a:bodyPr>
          <a:p>
            <a:pPr marL="198720" indent="-19872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and drag cursor to form button</a:t>
            </a:r>
            <a:endParaRPr b="0" lang="en-US" sz="3200" spc="-1" strike="noStrike">
              <a:solidFill>
                <a:srgbClr val="ffffff"/>
              </a:solidFill>
              <a:latin typeface="Tahoma"/>
            </a:endParaRPr>
          </a:p>
          <a:p>
            <a:pPr marL="198720" indent="-19872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ction Setting box will appear </a:t>
            </a:r>
            <a:endParaRPr b="0" lang="en-US" sz="3200" spc="-1" strike="noStrike">
              <a:solidFill>
                <a:srgbClr val="ffffff"/>
              </a:solidFill>
              <a:latin typeface="Tahoma"/>
            </a:endParaRPr>
          </a:p>
          <a:p>
            <a:pPr marL="19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ext slide)</a:t>
            </a:r>
            <a:endParaRPr b="0" lang="en-US" sz="3200" spc="-1" strike="noStrike">
              <a:solidFill>
                <a:srgbClr val="ffffff"/>
              </a:solidFill>
              <a:latin typeface="Tahoma"/>
            </a:endParaRPr>
          </a:p>
          <a:p>
            <a:pPr marL="19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
            <a:hlinkClick r:id="" action="ppaction://hlinkshowjump?jump=nextslide"/>
          </p:cNvPr>
          <p:cNvSpPr/>
          <p:nvPr/>
        </p:nvSpPr>
        <p:spPr>
          <a:xfrm>
            <a:off x="3276720" y="4267080"/>
            <a:ext cx="2133360" cy="1524240"/>
          </a:xfrm>
          <a:custGeom>
            <a:avLst/>
            <a:gdLst>
              <a:gd name="textAreaLeft" fmla="*/ 98640 w 2133360"/>
              <a:gd name="textAreaRight" fmla="*/ 2034720 w 2133360"/>
              <a:gd name="textAreaTop" fmla="*/ 98640 h 1524240"/>
              <a:gd name="textAreaBottom" fmla="*/ 1425600 h 1524240"/>
            </a:gdLst>
            <a:ahLst/>
            <a:rect l="textAreaLeft" t="textAreaTop" r="textAreaRight" b="textAreaBottom"/>
            <a:pathLst>
              <a:path w="30230" h="21600">
                <a:moveTo>
                  <a:pt x="0" y="0"/>
                </a:moveTo>
                <a:lnTo>
                  <a:pt x="30230" y="0"/>
                </a:lnTo>
                <a:lnTo>
                  <a:pt x="30230" y="21600"/>
                </a:lnTo>
                <a:lnTo>
                  <a:pt x="0" y="21600"/>
                </a:lnTo>
                <a:close/>
              </a:path>
              <a:path fill="lightenLess" w="30230" h="21600">
                <a:moveTo>
                  <a:pt x="0" y="0"/>
                </a:moveTo>
                <a:lnTo>
                  <a:pt x="30230" y="0"/>
                </a:lnTo>
                <a:lnTo>
                  <a:pt x="28830" y="1400"/>
                </a:lnTo>
                <a:lnTo>
                  <a:pt x="1400" y="1400"/>
                </a:lnTo>
                <a:close/>
              </a:path>
              <a:path fill="darken" w="30230" h="21600">
                <a:moveTo>
                  <a:pt x="30230" y="0"/>
                </a:moveTo>
                <a:lnTo>
                  <a:pt x="30230" y="21600"/>
                </a:lnTo>
                <a:lnTo>
                  <a:pt x="28830" y="20200"/>
                </a:lnTo>
                <a:lnTo>
                  <a:pt x="28830" y="1400"/>
                </a:lnTo>
                <a:close/>
              </a:path>
              <a:path fill="darkenLess" w="30230" h="21600">
                <a:moveTo>
                  <a:pt x="30230" y="21600"/>
                </a:moveTo>
                <a:lnTo>
                  <a:pt x="0" y="21600"/>
                </a:lnTo>
                <a:lnTo>
                  <a:pt x="1400" y="20200"/>
                </a:lnTo>
                <a:lnTo>
                  <a:pt x="28830" y="20200"/>
                </a:lnTo>
                <a:close/>
              </a:path>
              <a:path fill="lighten" w="30230" h="21600">
                <a:moveTo>
                  <a:pt x="0" y="21600"/>
                </a:moveTo>
                <a:lnTo>
                  <a:pt x="0" y="0"/>
                </a:lnTo>
                <a:lnTo>
                  <a:pt x="1400" y="1400"/>
                </a:lnTo>
                <a:lnTo>
                  <a:pt x="1400" y="20200"/>
                </a:lnTo>
                <a:close/>
              </a:path>
              <a:path fill="darken" w="30230" h="21600">
                <a:moveTo>
                  <a:pt x="8108" y="3794"/>
                </a:moveTo>
                <a:lnTo>
                  <a:pt x="22121" y="10800"/>
                </a:lnTo>
                <a:lnTo>
                  <a:pt x="8108" y="17806"/>
                </a:lnTo>
                <a:close/>
              </a:path>
            </a:pathLst>
          </a:custGeom>
          <a:solidFill>
            <a:srgbClr val="cdcd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Action Settings Box</a:t>
            </a:r>
            <a:endParaRPr b="1" lang="en-US" sz="4400" spc="-1" strike="noStrike">
              <a:solidFill>
                <a:srgbClr val="f7cc17"/>
              </a:solidFill>
              <a:latin typeface="Arial"/>
            </a:endParaRPr>
          </a:p>
        </p:txBody>
      </p:sp>
      <p:sp>
        <p:nvSpPr>
          <p:cNvPr id="368" name="PlaceHolder 2"/>
          <p:cNvSpPr>
            <a:spLocks noGrp="1"/>
          </p:cNvSpPr>
          <p:nvPr>
            <p:ph/>
          </p:nvPr>
        </p:nvSpPr>
        <p:spPr>
          <a:xfrm>
            <a:off x="1142640" y="1600200"/>
            <a:ext cx="4173480" cy="449568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a:t>
            </a:r>
            <a:endParaRPr b="0" lang="en-US" sz="3200" spc="-1" strike="noStrike">
              <a:solidFill>
                <a:srgbClr val="ffffff"/>
              </a:solidFill>
              <a:latin typeface="Tahoma"/>
            </a:endParaRPr>
          </a:p>
          <a:p>
            <a:pPr lvl="1" marL="735480" indent="-28296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ouse  Click</a:t>
            </a:r>
            <a:endParaRPr b="0" lang="en-US" sz="2800" spc="-1" strike="noStrike">
              <a:solidFill>
                <a:srgbClr val="ffffff"/>
              </a:solidFill>
              <a:latin typeface="Tahoma"/>
            </a:endParaRPr>
          </a:p>
          <a:p>
            <a:pPr lvl="1" marL="735480" indent="-282960">
              <a:spcBef>
                <a:spcPts val="70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use Over</a:t>
            </a:r>
            <a:endParaRPr b="0" lang="en-US" sz="2800" spc="-1" strike="noStrike">
              <a:solidFill>
                <a:srgbClr val="ffffff"/>
              </a:solidFill>
              <a:latin typeface="Tahoma"/>
            </a:endParaRPr>
          </a:p>
          <a:p>
            <a:pPr marL="339480" indent="-3394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Hyperlink to:</a:t>
            </a:r>
            <a:endParaRPr b="0" lang="en-US" sz="3200" spc="-1" strike="noStrike">
              <a:solidFill>
                <a:srgbClr val="ffffff"/>
              </a:solidFill>
              <a:latin typeface="Tahoma"/>
            </a:endParaRPr>
          </a:p>
          <a:p>
            <a:pPr lvl="1" marL="735480" indent="-28296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opdown menu</a:t>
            </a:r>
            <a:endParaRPr b="0" lang="en-US" sz="2400" spc="-1" strike="noStrike">
              <a:solidFill>
                <a:srgbClr val="ffffff"/>
              </a:solidFill>
              <a:latin typeface="Tahoma"/>
            </a:endParaRPr>
          </a:p>
          <a:p>
            <a:pPr lvl="2" marL="1131480" indent="-226080">
              <a:spcBef>
                <a:spcPts val="499"/>
              </a:spcBef>
              <a:buClr>
                <a:srgbClr val="ff99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xt</a:t>
            </a:r>
            <a:endParaRPr b="0" lang="en-US" sz="2000" spc="-1" strike="noStrike">
              <a:solidFill>
                <a:srgbClr val="ffffff"/>
              </a:solidFill>
              <a:latin typeface="Tahoma"/>
            </a:endParaRPr>
          </a:p>
          <a:p>
            <a:pPr lvl="2" marL="1131480" indent="-226080">
              <a:spcBef>
                <a:spcPts val="499"/>
              </a:spcBef>
              <a:buClr>
                <a:srgbClr val="ff99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lide number</a:t>
            </a:r>
            <a:endParaRPr b="0" lang="en-US" sz="2000" spc="-1" strike="noStrike">
              <a:solidFill>
                <a:srgbClr val="ffffff"/>
              </a:solidFill>
              <a:latin typeface="Tahoma"/>
            </a:endParaRPr>
          </a:p>
          <a:p>
            <a:pPr lvl="2" marL="1131480" indent="-226080">
              <a:spcBef>
                <a:spcPts val="499"/>
              </a:spcBef>
              <a:buClr>
                <a:srgbClr val="ff99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tc.</a:t>
            </a:r>
            <a:endParaRPr b="0" lang="en-US" sz="2000" spc="-1" strike="noStrike">
              <a:solidFill>
                <a:srgbClr val="ffffff"/>
              </a:solidFill>
              <a:latin typeface="Tahoma"/>
            </a:endParaRPr>
          </a:p>
          <a:p>
            <a:pPr marL="339480" indent="-3394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OK</a:t>
            </a:r>
            <a:endParaRPr b="0" lang="en-US" sz="3200" spc="-1" strike="noStrike">
              <a:solidFill>
                <a:srgbClr val="ffffff"/>
              </a:solidFill>
              <a:latin typeface="Tahoma"/>
            </a:endParaRPr>
          </a:p>
          <a:p>
            <a:pPr lvl="2" marL="1131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314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369" name=""/>
          <p:cNvGrpSpPr/>
          <p:nvPr/>
        </p:nvGrpSpPr>
        <p:grpSpPr>
          <a:xfrm>
            <a:off x="4952880" y="1371600"/>
            <a:ext cx="4191120" cy="5486400"/>
            <a:chOff x="4952880" y="1371600"/>
            <a:chExt cx="4191120" cy="5486400"/>
          </a:xfrm>
        </p:grpSpPr>
        <p:pic>
          <p:nvPicPr>
            <p:cNvPr id="370" name="" descr=""/>
            <p:cNvPicPr/>
            <p:nvPr/>
          </p:nvPicPr>
          <p:blipFill>
            <a:blip r:embed="rId1"/>
            <a:srcRect l="24470" t="15517" r="29789" b="16399"/>
            <a:stretch/>
          </p:blipFill>
          <p:spPr>
            <a:xfrm>
              <a:off x="4952880" y="1371600"/>
              <a:ext cx="4191120" cy="5486400"/>
            </a:xfrm>
            <a:prstGeom prst="rect">
              <a:avLst/>
            </a:prstGeom>
            <a:ln w="0">
              <a:noFill/>
            </a:ln>
          </p:spPr>
        </p:pic>
        <p:sp>
          <p:nvSpPr>
            <p:cNvPr id="371" name=""/>
            <p:cNvSpPr/>
            <p:nvPr/>
          </p:nvSpPr>
          <p:spPr>
            <a:xfrm>
              <a:off x="4984920" y="1600200"/>
              <a:ext cx="181944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050080" y="2666880"/>
              <a:ext cx="1624320" cy="18288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29440" y="6172200"/>
              <a:ext cx="10396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cc17"/>
                </a:solidFill>
                <a:latin typeface="Arial"/>
              </a:rPr>
              <a:t>Activate Action Button Only</a:t>
            </a:r>
            <a:endParaRPr b="1" lang="en-US" sz="4000" spc="-1" strike="noStrike">
              <a:solidFill>
                <a:srgbClr val="f7cc17"/>
              </a:solidFill>
              <a:latin typeface="Arial"/>
            </a:endParaRPr>
          </a:p>
        </p:txBody>
      </p:sp>
      <p:sp>
        <p:nvSpPr>
          <p:cNvPr id="375" name="PlaceHolder 2"/>
          <p:cNvSpPr>
            <a:spLocks noGrp="1"/>
          </p:cNvSpPr>
          <p:nvPr>
            <p:ph/>
          </p:nvPr>
        </p:nvSpPr>
        <p:spPr>
          <a:xfrm>
            <a:off x="304920" y="1447920"/>
            <a:ext cx="441936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ish slide to advance only with action button do this additional step</a:t>
            </a:r>
            <a:endParaRPr b="0" lang="en-US" sz="3200" spc="-1" strike="noStrike">
              <a:solidFill>
                <a:srgbClr val="ffffff"/>
              </a:solidFill>
              <a:latin typeface="Tahoma"/>
            </a:endParaRPr>
          </a:p>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slide show/ slide transition</a:t>
            </a:r>
            <a:endParaRPr b="0" lang="en-US" sz="3200" spc="-1" strike="noStrike">
              <a:solidFill>
                <a:srgbClr val="ffffff"/>
              </a:solidFill>
              <a:latin typeface="Tahoma"/>
            </a:endParaRPr>
          </a:p>
          <a:p>
            <a:pPr marL="343080" indent="-343080">
              <a:lnSpc>
                <a:spcPct val="9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bottom under Advance slide, uncheck (On mouse click)</a:t>
            </a:r>
            <a:endParaRPr b="0" lang="en-US" sz="32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76" name="" descr=""/>
          <p:cNvPicPr/>
          <p:nvPr/>
        </p:nvPicPr>
        <p:blipFill>
          <a:blip r:embed="rId1"/>
          <a:srcRect l="78670" t="47133" r="0" b="0"/>
          <a:stretch/>
        </p:blipFill>
        <p:spPr>
          <a:xfrm>
            <a:off x="5668920" y="2513160"/>
            <a:ext cx="2963880" cy="4039920"/>
          </a:xfrm>
          <a:prstGeom prst="rect">
            <a:avLst/>
          </a:prstGeom>
          <a:ln w="47520">
            <a:solidFill>
              <a:srgbClr val="ffffff"/>
            </a:solidFill>
            <a:miter/>
          </a:ln>
        </p:spPr>
      </p:pic>
      <p:sp>
        <p:nvSpPr>
          <p:cNvPr id="377" name=""/>
          <p:cNvSpPr/>
          <p:nvPr/>
        </p:nvSpPr>
        <p:spPr>
          <a:xfrm>
            <a:off x="5791320" y="3941640"/>
            <a:ext cx="1771560" cy="812880"/>
          </a:xfrm>
          <a:custGeom>
            <a:avLst/>
            <a:gdLst/>
            <a:ahLst/>
            <a:rect l="l" t="t" r="r" b="b"/>
            <a:pathLst>
              <a:path w="1116" h="512">
                <a:moveTo>
                  <a:pt x="1088" y="192"/>
                </a:moveTo>
                <a:cubicBezTo>
                  <a:pt x="1054" y="142"/>
                  <a:pt x="1032" y="130"/>
                  <a:pt x="973" y="115"/>
                </a:cubicBezTo>
                <a:cubicBezTo>
                  <a:pt x="863" y="45"/>
                  <a:pt x="717" y="14"/>
                  <a:pt x="589" y="0"/>
                </a:cubicBezTo>
                <a:cubicBezTo>
                  <a:pt x="448" y="4"/>
                  <a:pt x="307" y="2"/>
                  <a:pt x="166" y="13"/>
                </a:cubicBezTo>
                <a:cubicBezTo>
                  <a:pt x="139" y="15"/>
                  <a:pt x="90" y="39"/>
                  <a:pt x="90" y="39"/>
                </a:cubicBezTo>
                <a:cubicBezTo>
                  <a:pt x="66" y="74"/>
                  <a:pt x="43" y="116"/>
                  <a:pt x="26" y="154"/>
                </a:cubicBezTo>
                <a:cubicBezTo>
                  <a:pt x="15" y="179"/>
                  <a:pt x="0" y="231"/>
                  <a:pt x="0" y="231"/>
                </a:cubicBezTo>
                <a:cubicBezTo>
                  <a:pt x="4" y="252"/>
                  <a:pt x="4" y="275"/>
                  <a:pt x="13" y="295"/>
                </a:cubicBezTo>
                <a:cubicBezTo>
                  <a:pt x="80" y="442"/>
                  <a:pt x="233" y="465"/>
                  <a:pt x="371" y="512"/>
                </a:cubicBezTo>
                <a:cubicBezTo>
                  <a:pt x="562" y="500"/>
                  <a:pt x="761" y="482"/>
                  <a:pt x="947" y="435"/>
                </a:cubicBezTo>
                <a:cubicBezTo>
                  <a:pt x="1006" y="397"/>
                  <a:pt x="1056" y="332"/>
                  <a:pt x="1088" y="269"/>
                </a:cubicBezTo>
                <a:cubicBezTo>
                  <a:pt x="1102" y="199"/>
                  <a:pt x="1116" y="220"/>
                  <a:pt x="1088" y="192"/>
                </a:cubicBezTo>
                <a:close/>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305920" cy="544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7cc17"/>
                </a:solidFill>
                <a:latin typeface="Arial"/>
              </a:rPr>
              <a:t>Play your slide show</a:t>
            </a:r>
            <a:endParaRPr b="1" lang="en-US" sz="8800" spc="-1" strike="noStrike">
              <a:solidFill>
                <a:srgbClr val="f7cc17"/>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360"/>
            <a:ext cx="8001000" cy="230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7cc17"/>
                </a:solidFill>
                <a:latin typeface="Comic Sans MS"/>
              </a:rPr>
              <a:t>Animals at the Zoo, Oh My!</a:t>
            </a:r>
            <a:endParaRPr b="1" lang="en-US" sz="7200" spc="-1" strike="noStrike">
              <a:solidFill>
                <a:srgbClr val="f7cc17"/>
              </a:solidFill>
              <a:latin typeface="Arial"/>
            </a:endParaRPr>
          </a:p>
        </p:txBody>
      </p:sp>
      <p:sp>
        <p:nvSpPr>
          <p:cNvPr id="380" name="PlaceHolder 2"/>
          <p:cNvSpPr>
            <a:spLocks noGrp="1"/>
          </p:cNvSpPr>
          <p:nvPr>
            <p:ph type="subTitle"/>
          </p:nvPr>
        </p:nvSpPr>
        <p:spPr>
          <a:xfrm>
            <a:off x="838080" y="5638680"/>
            <a:ext cx="6477120" cy="990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ritten by Jessica Kratzer, Literacy &amp; Assistive Technology Coach, D75</a:t>
            </a:r>
            <a:endParaRPr b="0" lang="en-US" sz="20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Boardmaker</a:t>
            </a:r>
            <a:r>
              <a:rPr b="0" lang="en-US" sz="1600" spc="-1" strike="noStrike">
                <a:solidFill>
                  <a:srgbClr val="ffffff"/>
                </a:solidFill>
                <a:latin typeface="Comic Sans MS"/>
              </a:rPr>
              <a:t>:The Picture Communication Symbols © 1981-2004 by Mayer-Johnson LLC. All Rights Reserved Worldwide. Used with Permission. </a:t>
            </a:r>
            <a:endParaRPr b="0" lang="en-US" sz="1600" spc="-1" strike="noStrike">
              <a:solidFill>
                <a:srgbClr val="ffffff"/>
              </a:solidFill>
              <a:latin typeface="Tahoma"/>
            </a:endParaRPr>
          </a:p>
        </p:txBody>
      </p:sp>
      <p:pic>
        <p:nvPicPr>
          <p:cNvPr id="381" name="" descr=""/>
          <p:cNvPicPr/>
          <p:nvPr/>
        </p:nvPicPr>
        <p:blipFill>
          <a:blip r:embed="rId1"/>
          <a:stretch/>
        </p:blipFill>
        <p:spPr>
          <a:xfrm>
            <a:off x="228600" y="2133720"/>
            <a:ext cx="1906560" cy="3047760"/>
          </a:xfrm>
          <a:prstGeom prst="rect">
            <a:avLst/>
          </a:prstGeom>
          <a:ln w="0">
            <a:noFill/>
          </a:ln>
        </p:spPr>
      </p:pic>
      <p:pic>
        <p:nvPicPr>
          <p:cNvPr id="382" name="" descr=""/>
          <p:cNvPicPr/>
          <p:nvPr/>
        </p:nvPicPr>
        <p:blipFill>
          <a:blip r:embed="rId2"/>
          <a:stretch/>
        </p:blipFill>
        <p:spPr>
          <a:xfrm>
            <a:off x="2743200" y="2743200"/>
            <a:ext cx="3044880" cy="2935440"/>
          </a:xfrm>
          <a:prstGeom prst="rect">
            <a:avLst/>
          </a:prstGeom>
          <a:ln w="0">
            <a:noFill/>
          </a:ln>
        </p:spPr>
      </p:pic>
      <p:pic>
        <p:nvPicPr>
          <p:cNvPr id="383" name="" descr=""/>
          <p:cNvPicPr/>
          <p:nvPr/>
        </p:nvPicPr>
        <p:blipFill>
          <a:blip r:embed="rId3"/>
          <a:stretch/>
        </p:blipFill>
        <p:spPr>
          <a:xfrm>
            <a:off x="6692760" y="2209680"/>
            <a:ext cx="2451240" cy="3535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571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Sea Lions, oh my!</a:t>
            </a:r>
            <a:endParaRPr b="1" lang="en-US" sz="4400" spc="-1" strike="noStrike">
              <a:solidFill>
                <a:srgbClr val="f7cc17"/>
              </a:solidFill>
              <a:latin typeface="Arial"/>
            </a:endParaRPr>
          </a:p>
        </p:txBody>
      </p:sp>
      <p:pic>
        <p:nvPicPr>
          <p:cNvPr id="385" name="" descr=""/>
          <p:cNvPicPr/>
          <p:nvPr/>
        </p:nvPicPr>
        <p:blipFill>
          <a:blip r:embed="rId1"/>
          <a:stretch/>
        </p:blipFill>
        <p:spPr>
          <a:xfrm>
            <a:off x="155520" y="46080"/>
            <a:ext cx="5330880" cy="4379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1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Turtles, oh my!</a:t>
            </a:r>
            <a:endParaRPr b="1" lang="en-US" sz="4400" spc="-1" strike="noStrike">
              <a:solidFill>
                <a:srgbClr val="f7cc17"/>
              </a:solidFill>
              <a:latin typeface="Arial"/>
            </a:endParaRPr>
          </a:p>
        </p:txBody>
      </p:sp>
      <p:pic>
        <p:nvPicPr>
          <p:cNvPr id="387" name="" descr=""/>
          <p:cNvPicPr/>
          <p:nvPr/>
        </p:nvPicPr>
        <p:blipFill>
          <a:blip r:embed="rId1"/>
          <a:stretch/>
        </p:blipFill>
        <p:spPr>
          <a:xfrm>
            <a:off x="0" y="380880"/>
            <a:ext cx="6095880" cy="2810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1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Monkeys, oh my!</a:t>
            </a:r>
            <a:endParaRPr b="1" lang="en-US" sz="4400" spc="-1" strike="noStrike">
              <a:solidFill>
                <a:srgbClr val="f7cc17"/>
              </a:solidFill>
              <a:latin typeface="Arial"/>
            </a:endParaRPr>
          </a:p>
        </p:txBody>
      </p:sp>
      <p:pic>
        <p:nvPicPr>
          <p:cNvPr id="389" name="" descr=""/>
          <p:cNvPicPr/>
          <p:nvPr/>
        </p:nvPicPr>
        <p:blipFill>
          <a:blip r:embed="rId1"/>
          <a:stretch/>
        </p:blipFill>
        <p:spPr>
          <a:xfrm>
            <a:off x="155520" y="46080"/>
            <a:ext cx="5330880" cy="513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54860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Panda Bears, oh my!</a:t>
            </a:r>
            <a:endParaRPr b="1" lang="en-US" sz="4400" spc="-1" strike="noStrike">
              <a:solidFill>
                <a:srgbClr val="f7cc17"/>
              </a:solidFill>
              <a:latin typeface="Arial"/>
            </a:endParaRPr>
          </a:p>
        </p:txBody>
      </p:sp>
      <p:pic>
        <p:nvPicPr>
          <p:cNvPr id="391" name="" descr=""/>
          <p:cNvPicPr/>
          <p:nvPr/>
        </p:nvPicPr>
        <p:blipFill>
          <a:blip r:embed="rId1"/>
          <a:stretch/>
        </p:blipFill>
        <p:spPr>
          <a:xfrm>
            <a:off x="155520" y="46080"/>
            <a:ext cx="3267000" cy="52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01" name=""/>
          <p:cNvSpPr/>
          <p:nvPr/>
        </p:nvSpPr>
        <p:spPr>
          <a:xfrm>
            <a:off x="457200" y="228600"/>
            <a:ext cx="7620120" cy="19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Comic Sans MS"/>
              </a:rPr>
              <a:t>Adaptations and Modifications</a:t>
            </a:r>
            <a:endParaRPr b="0" lang="en-US" sz="36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to books</a:t>
            </a:r>
            <a:r>
              <a:rPr b="0" lang="en-US" sz="2800" spc="-1" strike="noStrike">
                <a:solidFill>
                  <a:srgbClr val="ff0000"/>
                </a:solidFill>
                <a:latin typeface="Comic Sans MS"/>
              </a:rPr>
              <a:t> </a:t>
            </a:r>
            <a:endParaRPr b="0" lang="en-US" sz="2800" spc="-1" strike="noStrike">
              <a:solidFill>
                <a:srgbClr val="ffffff"/>
              </a:solidFill>
              <a:latin typeface="Times New Roman"/>
            </a:endParaRPr>
          </a:p>
          <a:p>
            <a:pPr>
              <a:lnSpc>
                <a:spcPct val="100000"/>
              </a:lnSpc>
              <a:spcBef>
                <a:spcPts val="1500"/>
              </a:spcBef>
              <a:buClr>
                <a:srgbClr val="368d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8d2d"/>
                </a:solidFill>
                <a:latin typeface="Comic Sans MS"/>
              </a:rPr>
              <a:t>Stabilize books-carpet squares, adapted book</a:t>
            </a:r>
            <a:br>
              <a:rPr sz="2400"/>
            </a:br>
            <a:r>
              <a:rPr b="0" lang="en-US" sz="2400" spc="-1" strike="noStrike">
                <a:solidFill>
                  <a:srgbClr val="368d2d"/>
                </a:solidFill>
                <a:latin typeface="Comic Sans MS"/>
              </a:rPr>
              <a:t> holders, or lap trays.</a:t>
            </a:r>
            <a:endParaRPr b="0" lang="en-US" sz="2400" spc="-1" strike="noStrike">
              <a:solidFill>
                <a:srgbClr val="ffffff"/>
              </a:solidFill>
              <a:latin typeface="Times New Roman"/>
            </a:endParaRPr>
          </a:p>
        </p:txBody>
      </p:sp>
      <p:sp>
        <p:nvSpPr>
          <p:cNvPr id="102" name=""/>
          <p:cNvSpPr/>
          <p:nvPr/>
        </p:nvSpPr>
        <p:spPr>
          <a:xfrm>
            <a:off x="304920" y="6114960"/>
            <a:ext cx="18396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 descr=""/>
          <p:cNvPicPr/>
          <p:nvPr/>
        </p:nvPicPr>
        <p:blipFill>
          <a:blip r:embed="rId1"/>
          <a:stretch/>
        </p:blipFill>
        <p:spPr>
          <a:xfrm>
            <a:off x="2209680" y="3056040"/>
            <a:ext cx="4724640" cy="3039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571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Lions, oh my!</a:t>
            </a:r>
            <a:endParaRPr b="1" lang="en-US" sz="4400" spc="-1" strike="noStrike">
              <a:solidFill>
                <a:srgbClr val="f7cc17"/>
              </a:solidFill>
              <a:latin typeface="Arial"/>
            </a:endParaRPr>
          </a:p>
        </p:txBody>
      </p:sp>
      <p:pic>
        <p:nvPicPr>
          <p:cNvPr id="393" name="" descr=""/>
          <p:cNvPicPr/>
          <p:nvPr/>
        </p:nvPicPr>
        <p:blipFill>
          <a:blip r:embed="rId1"/>
          <a:stretch/>
        </p:blipFill>
        <p:spPr>
          <a:xfrm>
            <a:off x="0" y="0"/>
            <a:ext cx="4343400" cy="3257640"/>
          </a:xfrm>
          <a:prstGeom prst="rect">
            <a:avLst/>
          </a:prstGeom>
          <a:ln w="0">
            <a:noFill/>
          </a:ln>
        </p:spPr>
      </p:pic>
      <p:pic>
        <p:nvPicPr>
          <p:cNvPr id="394" name="" descr=""/>
          <p:cNvPicPr/>
          <p:nvPr/>
        </p:nvPicPr>
        <p:blipFill>
          <a:blip r:embed="rId2"/>
          <a:stretch/>
        </p:blipFill>
        <p:spPr>
          <a:xfrm>
            <a:off x="2509920" y="2811600"/>
            <a:ext cx="3598920" cy="2838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571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Giraffes, oh my!</a:t>
            </a:r>
            <a:endParaRPr b="1" lang="en-US" sz="4400" spc="-1" strike="noStrike">
              <a:solidFill>
                <a:srgbClr val="f7cc17"/>
              </a:solidFill>
              <a:latin typeface="Arial"/>
            </a:endParaRPr>
          </a:p>
        </p:txBody>
      </p:sp>
      <p:pic>
        <p:nvPicPr>
          <p:cNvPr id="396" name="" descr=""/>
          <p:cNvPicPr/>
          <p:nvPr/>
        </p:nvPicPr>
        <p:blipFill>
          <a:blip r:embed="rId1"/>
          <a:stretch/>
        </p:blipFill>
        <p:spPr>
          <a:xfrm>
            <a:off x="155520" y="46080"/>
            <a:ext cx="3619440" cy="5219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71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Elephants, oh my!</a:t>
            </a:r>
            <a:endParaRPr b="1" lang="en-US" sz="4400" spc="-1" strike="noStrike">
              <a:solidFill>
                <a:srgbClr val="f7cc17"/>
              </a:solidFill>
              <a:latin typeface="Arial"/>
            </a:endParaRPr>
          </a:p>
        </p:txBody>
      </p:sp>
      <p:pic>
        <p:nvPicPr>
          <p:cNvPr id="398" name="" descr=""/>
          <p:cNvPicPr/>
          <p:nvPr/>
        </p:nvPicPr>
        <p:blipFill>
          <a:blip r:embed="rId1"/>
          <a:stretch/>
        </p:blipFill>
        <p:spPr>
          <a:xfrm>
            <a:off x="155520" y="46080"/>
            <a:ext cx="5178600" cy="4046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52574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Snakes, oh my!</a:t>
            </a:r>
            <a:endParaRPr b="1" lang="en-US" sz="4400" spc="-1" strike="noStrike">
              <a:solidFill>
                <a:srgbClr val="f7cc17"/>
              </a:solidFill>
              <a:latin typeface="Arial"/>
            </a:endParaRPr>
          </a:p>
        </p:txBody>
      </p:sp>
      <p:pic>
        <p:nvPicPr>
          <p:cNvPr id="400" name="" descr="ƒ{[ƒ‹ƒjƒVƒLƒwƒr"/>
          <p:cNvPicPr/>
          <p:nvPr/>
        </p:nvPicPr>
        <p:blipFill>
          <a:blip r:embed="rId1"/>
          <a:stretch/>
        </p:blipFill>
        <p:spPr>
          <a:xfrm>
            <a:off x="155520" y="46080"/>
            <a:ext cx="5330880" cy="3076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3520" y="54860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Birds, oh my!</a:t>
            </a:r>
            <a:endParaRPr b="1" lang="en-US" sz="4400" spc="-1" strike="noStrike">
              <a:solidFill>
                <a:srgbClr val="f7cc17"/>
              </a:solidFill>
              <a:latin typeface="Arial"/>
            </a:endParaRPr>
          </a:p>
        </p:txBody>
      </p:sp>
      <p:pic>
        <p:nvPicPr>
          <p:cNvPr id="402" name="" descr=""/>
          <p:cNvPicPr/>
          <p:nvPr/>
        </p:nvPicPr>
        <p:blipFill>
          <a:blip r:embed="rId1"/>
          <a:stretch/>
        </p:blipFill>
        <p:spPr>
          <a:xfrm>
            <a:off x="155520" y="46080"/>
            <a:ext cx="3730680" cy="2795400"/>
          </a:xfrm>
          <a:prstGeom prst="rect">
            <a:avLst/>
          </a:prstGeom>
          <a:ln w="0">
            <a:noFill/>
          </a:ln>
        </p:spPr>
      </p:pic>
      <p:pic>
        <p:nvPicPr>
          <p:cNvPr id="403" name="" descr=""/>
          <p:cNvPicPr/>
          <p:nvPr/>
        </p:nvPicPr>
        <p:blipFill>
          <a:blip r:embed="rId2"/>
          <a:stretch/>
        </p:blipFill>
        <p:spPr>
          <a:xfrm>
            <a:off x="6019920" y="228600"/>
            <a:ext cx="2730240" cy="3233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4860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Comic Sans MS"/>
              </a:rPr>
              <a:t>Oh my!   Oh my!   Oh my!</a:t>
            </a:r>
            <a:endParaRPr b="1" lang="en-US" sz="4400" spc="-1" strike="noStrike">
              <a:solidFill>
                <a:srgbClr val="f7cc17"/>
              </a:solidFill>
              <a:latin typeface="Arial"/>
            </a:endParaRPr>
          </a:p>
        </p:txBody>
      </p:sp>
      <p:pic>
        <p:nvPicPr>
          <p:cNvPr id="405" name="" descr=""/>
          <p:cNvPicPr/>
          <p:nvPr/>
        </p:nvPicPr>
        <p:blipFill>
          <a:blip r:embed="rId1"/>
          <a:stretch/>
        </p:blipFill>
        <p:spPr>
          <a:xfrm>
            <a:off x="457200" y="533520"/>
            <a:ext cx="3200400" cy="2400120"/>
          </a:xfrm>
          <a:prstGeom prst="rect">
            <a:avLst/>
          </a:prstGeom>
          <a:ln w="0">
            <a:noFill/>
          </a:ln>
        </p:spPr>
      </p:pic>
      <p:pic>
        <p:nvPicPr>
          <p:cNvPr id="406" name="" descr=""/>
          <p:cNvPicPr/>
          <p:nvPr/>
        </p:nvPicPr>
        <p:blipFill>
          <a:blip r:embed="rId2"/>
          <a:stretch/>
        </p:blipFill>
        <p:spPr>
          <a:xfrm>
            <a:off x="5791320" y="914400"/>
            <a:ext cx="2914560" cy="2185920"/>
          </a:xfrm>
          <a:prstGeom prst="rect">
            <a:avLst/>
          </a:prstGeom>
          <a:ln w="0">
            <a:noFill/>
          </a:ln>
        </p:spPr>
      </p:pic>
      <p:pic>
        <p:nvPicPr>
          <p:cNvPr id="407" name="" descr=""/>
          <p:cNvPicPr/>
          <p:nvPr/>
        </p:nvPicPr>
        <p:blipFill>
          <a:blip r:embed="rId3"/>
          <a:stretch/>
        </p:blipFill>
        <p:spPr>
          <a:xfrm>
            <a:off x="3949560" y="2887560"/>
            <a:ext cx="2754360" cy="2171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409"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411"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413"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7cc17"/>
              </a:solidFill>
              <a:latin typeface="Arial"/>
            </a:endParaRPr>
          </a:p>
        </p:txBody>
      </p:sp>
      <p:sp>
        <p:nvSpPr>
          <p:cNvPr id="415" name="PlaceHolder 2"/>
          <p:cNvSpPr>
            <a:spLocks noGrp="1"/>
          </p:cNvSpPr>
          <p:nvPr>
            <p:ph/>
          </p:nvPr>
        </p:nvSpPr>
        <p:spPr>
          <a:xfrm>
            <a:off x="11430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04" name=""/>
          <p:cNvSpPr/>
          <p:nvPr/>
        </p:nvSpPr>
        <p:spPr>
          <a:xfrm>
            <a:off x="457200" y="228600"/>
            <a:ext cx="7620120" cy="19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Comic Sans MS"/>
              </a:rPr>
              <a:t>Adaptations and Modifications</a:t>
            </a:r>
            <a:endParaRPr b="0" lang="en-US" sz="36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to books</a:t>
            </a:r>
            <a:r>
              <a:rPr b="0" lang="en-US" sz="2800" spc="-1" strike="noStrike">
                <a:solidFill>
                  <a:srgbClr val="ff0000"/>
                </a:solidFill>
                <a:latin typeface="Comic Sans MS"/>
              </a:rPr>
              <a:t> </a:t>
            </a:r>
            <a:endParaRPr b="0" lang="en-US" sz="2800" spc="-1" strike="noStrike">
              <a:solidFill>
                <a:srgbClr val="ffffff"/>
              </a:solidFill>
              <a:latin typeface="Times New Roman"/>
            </a:endParaRPr>
          </a:p>
          <a:p>
            <a:pPr>
              <a:lnSpc>
                <a:spcPct val="100000"/>
              </a:lnSpc>
              <a:spcBef>
                <a:spcPts val="1500"/>
              </a:spcBef>
              <a:buClr>
                <a:srgbClr val="368d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8d2d"/>
                </a:solidFill>
                <a:latin typeface="Comic Sans MS"/>
              </a:rPr>
              <a:t>Stabilize books-carpet squares, adapted book</a:t>
            </a:r>
            <a:br>
              <a:rPr sz="2400"/>
            </a:br>
            <a:r>
              <a:rPr b="0" lang="en-US" sz="2400" spc="-1" strike="noStrike">
                <a:solidFill>
                  <a:srgbClr val="368d2d"/>
                </a:solidFill>
                <a:latin typeface="Comic Sans MS"/>
              </a:rPr>
              <a:t> holders, or lap trays.</a:t>
            </a:r>
            <a:endParaRPr b="0" lang="en-US" sz="2400" spc="-1" strike="noStrike">
              <a:solidFill>
                <a:srgbClr val="ffffff"/>
              </a:solidFill>
              <a:latin typeface="Times New Roman"/>
            </a:endParaRPr>
          </a:p>
        </p:txBody>
      </p:sp>
      <p:sp>
        <p:nvSpPr>
          <p:cNvPr id="105" name=""/>
          <p:cNvSpPr/>
          <p:nvPr/>
        </p:nvSpPr>
        <p:spPr>
          <a:xfrm>
            <a:off x="304920" y="6114960"/>
            <a:ext cx="18396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6" name="" descr=""/>
          <p:cNvPicPr/>
          <p:nvPr/>
        </p:nvPicPr>
        <p:blipFill>
          <a:blip r:embed="rId1"/>
          <a:stretch/>
        </p:blipFill>
        <p:spPr>
          <a:xfrm>
            <a:off x="2209680" y="3056040"/>
            <a:ext cx="4724640" cy="303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07" name=""/>
          <p:cNvSpPr/>
          <p:nvPr/>
        </p:nvSpPr>
        <p:spPr>
          <a:xfrm>
            <a:off x="533520" y="228600"/>
            <a:ext cx="7696080" cy="502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Comic Sans MS"/>
              </a:rPr>
              <a:t>Adaptations and Modifications  </a:t>
            </a:r>
            <a:endParaRPr b="0" lang="en-US" sz="3600" spc="-1" strike="noStrike">
              <a:solidFill>
                <a:srgbClr val="ffffff"/>
              </a:solidFill>
              <a:latin typeface="Times New Roman"/>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to books</a:t>
            </a:r>
            <a:r>
              <a:rPr b="0" lang="en-US" sz="2800" spc="-1" strike="noStrike">
                <a:solidFill>
                  <a:srgbClr val="ff0000"/>
                </a:solidFill>
                <a:latin typeface="Comic Sans MS"/>
              </a:rPr>
              <a:t> </a:t>
            </a:r>
            <a:endParaRPr b="0" lang="en-US" sz="2800" spc="-1" strike="noStrike">
              <a:solidFill>
                <a:srgbClr val="ffffff"/>
              </a:solidFill>
              <a:latin typeface="Times New Roman"/>
            </a:endParaRPr>
          </a:p>
          <a:p>
            <a:pPr>
              <a:lnSpc>
                <a:spcPct val="100000"/>
              </a:lnSpc>
              <a:spcBef>
                <a:spcPts val="1500"/>
              </a:spcBef>
              <a:buClr>
                <a:srgbClr val="368d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8d2d"/>
                </a:solidFill>
                <a:latin typeface="Comic Sans MS"/>
              </a:rPr>
              <a:t>Use story-specific symbols, pictures, or objects to</a:t>
            </a:r>
            <a:br>
              <a:rPr sz="2400"/>
            </a:br>
            <a:r>
              <a:rPr b="0" lang="en-US" sz="2400" spc="-1" strike="noStrike">
                <a:solidFill>
                  <a:srgbClr val="368d2d"/>
                </a:solidFill>
                <a:latin typeface="Comic Sans MS"/>
              </a:rPr>
              <a:t> allow the child to retell or answer questions about</a:t>
            </a:r>
            <a:br>
              <a:rPr sz="2400"/>
            </a:br>
            <a:r>
              <a:rPr b="0" lang="en-US" sz="2400" spc="-1" strike="noStrike">
                <a:solidFill>
                  <a:srgbClr val="368d2d"/>
                </a:solidFill>
                <a:latin typeface="Comic Sans MS"/>
              </a:rPr>
              <a:t> the story.</a:t>
            </a:r>
            <a:endParaRPr b="0" lang="en-US" sz="2400" spc="-1" strike="noStrike">
              <a:solidFill>
                <a:srgbClr val="ffffff"/>
              </a:solidFill>
              <a:latin typeface="Times New Roman"/>
            </a:endParaRPr>
          </a:p>
          <a:p>
            <a:pPr>
              <a:lnSpc>
                <a:spcPct val="100000"/>
              </a:lnSpc>
              <a:spcBef>
                <a:spcPts val="1500"/>
              </a:spcBef>
              <a:buClr>
                <a:srgbClr val="368d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8d2d"/>
                </a:solidFill>
                <a:latin typeface="Comic Sans MS"/>
              </a:rPr>
              <a:t>Use a recorded version of the story to be shared</a:t>
            </a:r>
            <a:br>
              <a:rPr sz="2400"/>
            </a:br>
            <a:r>
              <a:rPr b="0" lang="en-US" sz="2400" spc="-1" strike="noStrike">
                <a:solidFill>
                  <a:srgbClr val="368d2d"/>
                </a:solidFill>
                <a:latin typeface="Comic Sans MS"/>
              </a:rPr>
              <a:t> with peers or listen alone with headphones.</a:t>
            </a:r>
            <a:endParaRPr b="0" lang="en-US" sz="2400" spc="-1" strike="noStrike">
              <a:solidFill>
                <a:srgbClr val="ffffff"/>
              </a:solidFill>
              <a:latin typeface="Times New Roman"/>
            </a:endParaRPr>
          </a:p>
          <a:p>
            <a:pPr>
              <a:lnSpc>
                <a:spcPct val="100000"/>
              </a:lnSpc>
              <a:spcBef>
                <a:spcPts val="1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Use commercially available books on tape or CDs,</a:t>
            </a:r>
            <a:br>
              <a:rPr sz="2400"/>
            </a:br>
            <a:r>
              <a:rPr b="0" lang="en-US" sz="2400" spc="-1" strike="noStrike">
                <a:solidFill>
                  <a:srgbClr val="ffffff"/>
                </a:solidFill>
                <a:latin typeface="Comic Sans MS"/>
                <a:ea typeface="Times New Roman"/>
              </a:rPr>
              <a:t> which can be controlled by the child by using a</a:t>
            </a:r>
            <a:br>
              <a:rPr sz="2400"/>
            </a:br>
            <a:r>
              <a:rPr b="0" lang="en-US" sz="2400" spc="-1" strike="noStrike">
                <a:solidFill>
                  <a:srgbClr val="ffffff"/>
                </a:solidFill>
                <a:latin typeface="Comic Sans MS"/>
                <a:ea typeface="Times New Roman"/>
              </a:rPr>
              <a:t> single-switch-adapted cassette or CD player to</a:t>
            </a:r>
            <a:br>
              <a:rPr sz="2400"/>
            </a:br>
            <a:r>
              <a:rPr b="0" lang="en-US" sz="2400" spc="-1" strike="noStrike">
                <a:solidFill>
                  <a:srgbClr val="ffffff"/>
                </a:solidFill>
                <a:latin typeface="Comic Sans MS"/>
                <a:ea typeface="Times New Roman"/>
              </a:rPr>
              <a:t> start and stop the story</a:t>
            </a:r>
            <a:r>
              <a:rPr b="0" lang="en-US" sz="2600" spc="-1" strike="noStrike">
                <a:solidFill>
                  <a:srgbClr val="ffffff"/>
                </a:solidFill>
                <a:latin typeface="Comic Sans MS"/>
                <a:ea typeface="Times New Roman"/>
              </a:rPr>
              <a:t>.</a:t>
            </a:r>
            <a:endParaRPr b="0" lang="en-US" sz="2600" spc="-1" strike="noStrike">
              <a:solidFill>
                <a:srgbClr val="ffffff"/>
              </a:solidFill>
              <a:latin typeface="Times New Roman"/>
            </a:endParaRPr>
          </a:p>
        </p:txBody>
      </p:sp>
      <p:sp>
        <p:nvSpPr>
          <p:cNvPr id="108" name=""/>
          <p:cNvSpPr/>
          <p:nvPr/>
        </p:nvSpPr>
        <p:spPr>
          <a:xfrm>
            <a:off x="304920" y="6114960"/>
            <a:ext cx="18396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438280" y="3733920"/>
            <a:ext cx="4191120" cy="2681280"/>
          </a:xfrm>
          <a:prstGeom prst="rect">
            <a:avLst/>
          </a:prstGeom>
          <a:ln w="0">
            <a:noFill/>
          </a:ln>
        </p:spPr>
      </p:pic>
      <p:sp>
        <p:nvSpPr>
          <p:cNvPr id="110" name=""/>
          <p:cNvSpPr/>
          <p:nvPr/>
        </p:nvSpPr>
        <p:spPr>
          <a:xfrm>
            <a:off x="533520" y="152280"/>
            <a:ext cx="7619760" cy="31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Comic Sans MS"/>
              </a:rPr>
              <a:t>Adaptations and Modifications</a:t>
            </a:r>
            <a:endParaRPr b="0" lang="en-US" sz="36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to books</a:t>
            </a:r>
            <a:r>
              <a:rPr b="0" lang="en-US" sz="2800" spc="-1" strike="noStrike">
                <a:solidFill>
                  <a:srgbClr val="ff0000"/>
                </a:solidFill>
                <a:latin typeface="Comic Sans MS"/>
              </a:rPr>
              <a:t> </a:t>
            </a:r>
            <a:endParaRPr b="0" lang="en-US" sz="2800" spc="-1" strike="noStrike">
              <a:solidFill>
                <a:srgbClr val="ffffff"/>
              </a:solidFill>
              <a:latin typeface="Times New Roman"/>
            </a:endParaRPr>
          </a:p>
          <a:p>
            <a:pPr>
              <a:lnSpc>
                <a:spcPct val="90000"/>
              </a:lnSpc>
              <a:spcBef>
                <a:spcPts val="1500"/>
              </a:spcBef>
              <a:buClr>
                <a:srgbClr val="368d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8d2d"/>
                </a:solidFill>
                <a:latin typeface="Comic Sans MS"/>
              </a:rPr>
              <a:t>Record sounds or repeated lines in stories using a</a:t>
            </a:r>
            <a:br>
              <a:rPr sz="2400"/>
            </a:br>
            <a:r>
              <a:rPr b="0" lang="en-US" sz="2400" spc="-1" strike="noStrike">
                <a:solidFill>
                  <a:srgbClr val="368d2d"/>
                </a:solidFill>
                <a:latin typeface="Comic Sans MS"/>
              </a:rPr>
              <a:t> single-switch message device to allow participation</a:t>
            </a:r>
            <a:br>
              <a:rPr sz="2400"/>
            </a:br>
            <a:r>
              <a:rPr b="0" lang="en-US" sz="2400" spc="-1" strike="noStrike">
                <a:solidFill>
                  <a:srgbClr val="368d2d"/>
                </a:solidFill>
                <a:latin typeface="Comic Sans MS"/>
              </a:rPr>
              <a:t> in the reading of the story.</a:t>
            </a:r>
            <a:endParaRPr b="0" lang="en-US" sz="2400" spc="-1" strike="noStrike">
              <a:solidFill>
                <a:srgbClr val="ffffff"/>
              </a:solidFill>
              <a:latin typeface="Times New Roman"/>
            </a:endParaRPr>
          </a:p>
          <a:p>
            <a:pPr>
              <a:lnSpc>
                <a:spcPct val="100000"/>
              </a:lnSpc>
              <a:spcBef>
                <a:spcPts val="1500"/>
              </a:spcBef>
              <a:buClr>
                <a:srgbClr val="368d2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8d2d"/>
                </a:solidFill>
                <a:latin typeface="Comic Sans MS"/>
              </a:rPr>
              <a:t>Use a sequencing digital voice message device to</a:t>
            </a:r>
            <a:br>
              <a:rPr sz="2400"/>
            </a:br>
            <a:r>
              <a:rPr b="0" lang="en-US" sz="2400" spc="-1" strike="noStrike">
                <a:solidFill>
                  <a:srgbClr val="368d2d"/>
                </a:solidFill>
                <a:latin typeface="Comic Sans MS"/>
              </a:rPr>
              <a:t> “tell the story.”</a:t>
            </a:r>
            <a:endParaRPr b="0" lang="en-US" sz="2400" spc="-1" strike="noStrike">
              <a:solidFill>
                <a:srgbClr val="ffffff"/>
              </a:solidFill>
              <a:latin typeface="Times New Roman"/>
            </a:endParaRPr>
          </a:p>
        </p:txBody>
      </p:sp>
      <p:sp>
        <p:nvSpPr>
          <p:cNvPr id="111" name=""/>
          <p:cNvSpPr/>
          <p:nvPr/>
        </p:nvSpPr>
        <p:spPr>
          <a:xfrm>
            <a:off x="304920" y="6114960"/>
            <a:ext cx="18396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3447360" y="6389640"/>
            <a:ext cx="190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Verdana"/>
              </a:rPr>
              <a:t>Adaptivation.co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16:36:22Z</dcterms:created>
  <dc:creator>Elisa Wern</dc:creator>
  <dc:description/>
  <cp:keywords/>
  <dc:language>en-US</dc:language>
  <cp:lastModifiedBy>Elisa Wern</cp:lastModifiedBy>
  <dcterms:modified xsi:type="dcterms:W3CDTF">2005-10-05T16:49:42Z</dcterms:modified>
  <cp:revision>2</cp:revision>
  <dc:subject/>
  <dc:title>Adapted Boo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01033</vt:lpwstr>
  </property>
</Properties>
</file>